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5EE74-D827-459A-9B44-B4E624615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E406C-70FB-4A7B-BAA5-C39FC9889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C289B-1280-44E7-BC29-96DE4A33D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16D58-18B8-4CB1-8AC6-548916201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BF29B-E83F-47D6-8DEA-F78CA9302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718D9-A730-4722-9FDF-F7B386D9F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1A9E7-5804-48DD-AAD6-275C7116E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78A39-A9FC-44D4-8A18-884893D22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92526-573F-4CE4-B8DA-3B911E530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6BCEE-BFCF-4551-A4CD-D3A2C8B85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62952-74A6-4FB7-AD43-D63A36436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2DA85-7BD2-4218-BEC3-0D17F0C70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1452-535B-406E-BB4E-8267EA44DD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380880" cy="6858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xix_ii.ht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581280" y="1143000"/>
            <a:ext cx="4496040" cy="3227400"/>
          </a:xfrm>
          <a:prstGeom prst="rect">
            <a:avLst/>
          </a:prstGeom>
          <a:noFill/>
          <a:ln w="0">
            <a:noFill/>
          </a:ln>
        </p:spPr>
        <p:style>
          <a:lnRef idx="0"/>
          <a:fillRef idx="0"/>
          <a:effectRef idx="0"/>
          <a:fontRef idx="minor"/>
        </p:style>
        <p:txBody>
          <a:bodyPr lIns="90360" rIns="90360" tIns="44280" bIns="44280" anchor="t">
            <a:spAutoFit/>
          </a:bodyPr>
          <a:p>
            <a:pPr algn="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Impact"/>
              </a:rPr>
              <a:t>Gestión por Competencias Laborales III</a:t>
            </a:r>
            <a:endParaRPr b="0" lang="en-US" sz="3600" spc="-1" strike="noStrike">
              <a:solidFill>
                <a:srgbClr val="000000"/>
              </a:solidFill>
              <a:latin typeface="Times New Roman"/>
            </a:endParaRPr>
          </a:p>
          <a:p>
            <a:pPr algn="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
          <p:cNvSpPr/>
          <p:nvPr/>
        </p:nvSpPr>
        <p:spPr>
          <a:xfrm>
            <a:off x="457200" y="4572000"/>
            <a:ext cx="4114800" cy="1078560"/>
          </a:xfrm>
          <a:prstGeom prst="rect">
            <a:avLst/>
          </a:prstGeom>
          <a:noFill/>
          <a:ln w="0">
            <a:noFill/>
          </a:ln>
        </p:spPr>
        <p:style>
          <a:lnRef idx="0"/>
          <a:fillRef idx="0"/>
          <a:effectRef idx="0"/>
          <a:fontRef idx="minor"/>
        </p:style>
        <p:txBody>
          <a:bodyPr lIns="90360" rIns="90360" tIns="44280" bIns="4428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Gestión de Recursos Humanos</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Prof. Cristian Binimelis</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 </a:t>
            </a:r>
            <a:endParaRPr b="0" lang="en-US" sz="1600" spc="-1" strike="noStrike">
              <a:solidFill>
                <a:srgbClr val="000000"/>
              </a:solidFill>
              <a:latin typeface="Times New Roman"/>
            </a:endParaRPr>
          </a:p>
        </p:txBody>
      </p:sp>
      <p:pic>
        <p:nvPicPr>
          <p:cNvPr id="44" name="" descr=""/>
          <p:cNvPicPr/>
          <p:nvPr/>
        </p:nvPicPr>
        <p:blipFill>
          <a:blip r:embed="rId1"/>
          <a:stretch/>
        </p:blipFill>
        <p:spPr>
          <a:xfrm>
            <a:off x="1143000" y="914400"/>
            <a:ext cx="3048120" cy="3048120"/>
          </a:xfrm>
          <a:prstGeom prst="rect">
            <a:avLst/>
          </a:prstGeom>
          <a:ln w="0">
            <a:noFill/>
          </a:ln>
        </p:spPr>
      </p:pic>
      <p:sp>
        <p:nvSpPr>
          <p:cNvPr id="45" name=""/>
          <p:cNvSpPr/>
          <p:nvPr/>
        </p:nvSpPr>
        <p:spPr>
          <a:xfrm>
            <a:off x="3124080" y="5486400"/>
            <a:ext cx="43434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MBA</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Departamento de Ingeniería Industrial</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 </a:t>
            </a:r>
            <a:r>
              <a:rPr b="0" lang="es-ES_tradnl" sz="1400" spc="-1" strike="noStrike">
                <a:solidFill>
                  <a:srgbClr val="0099cc"/>
                </a:solidFill>
                <a:latin typeface="Impact"/>
              </a:rPr>
              <a:t>Universidad de Ch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33520" y="1371600"/>
            <a:ext cx="8381880" cy="462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hecho las ramas del árbol son "causas" ligadas gráficamente hacia la izquierda (o hacia abajo según se halla dibujado) con sus respectivas "consecuencias" .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lee de abajo hacia arriba (o de izquierda a derecha) se estaría respondiendo el "¿Cómo?" una función principal se lleva a cabo mediante la realización de las funciones básicas que la integran.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sentido contrario, de derecha a izquierda se estaría respondiendo el "¿Para qué?" de cada función el cual se encuentra en la función del nivel inmediatamente siguiente.</a:t>
            </a:r>
            <a:r>
              <a:rPr b="0" lang="en-US" sz="2400" spc="-1" strike="noStrike" u="sng">
                <a:solidFill>
                  <a:srgbClr val="ccccff"/>
                </a:solidFill>
                <a:uFillTx/>
                <a:latin typeface="Arial"/>
                <a:hlinkClick r:id="rId1"/>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leer el mapa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2362320" y="0"/>
            <a:ext cx="6172200" cy="6858000"/>
          </a:xfrm>
          <a:prstGeom prst="rect">
            <a:avLst/>
          </a:prstGeom>
          <a:ln w="0">
            <a:noFill/>
          </a:ln>
        </p:spPr>
      </p:pic>
      <p:sp>
        <p:nvSpPr>
          <p:cNvPr id="68" name=""/>
          <p:cNvSpPr/>
          <p:nvPr/>
        </p:nvSpPr>
        <p:spPr>
          <a:xfrm>
            <a:off x="304920" y="990720"/>
            <a:ext cx="2133360" cy="340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jemplo:</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Mapa funcional de la fabricación de papel</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a:t>
            </a:r>
            <a:endParaRPr b="0" lang="en-US" sz="2400" spc="-1" strike="noStrike">
              <a:solidFill>
                <a:srgbClr val="000000"/>
              </a:solidFill>
              <a:latin typeface="Times New Roman"/>
            </a:endParaRPr>
          </a:p>
        </p:txBody>
      </p:sp>
      <p:sp>
        <p:nvSpPr>
          <p:cNvPr id="70" name="PlaceHolder 2"/>
          <p:cNvSpPr>
            <a:spLocks noGrp="1"/>
          </p:cNvSpPr>
          <p:nvPr>
            <p:ph/>
          </p:nvPr>
        </p:nvSpPr>
        <p:spPr>
          <a:xfrm>
            <a:off x="685800" y="2285640"/>
            <a:ext cx="7772400" cy="2838600"/>
          </a:xfrm>
          <a:prstGeom prst="rect">
            <a:avLst/>
          </a:prstGeom>
          <a:noFill/>
          <a:ln w="0">
            <a:noFill/>
          </a:ln>
        </p:spPr>
        <p:txBody>
          <a:bodyPr anchor="t">
            <a:norm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base del análisis funcional es la identificación, mediante el desglose o desagregación, y el ordenamiento lógico de las funciones productivas que se llevan a cabo en una empresa o un conjunto representativo de ellas, según el nivel en el cual se esté desarrollando dicho análisis.</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2</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2286000"/>
            <a:ext cx="7772400" cy="234648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funcional se aplica de lo general a lo particular. Se inicia con la definición del propósito clave de la organización y concluye cuando se encuentre en funciones productivas simples -elementos de competencia- que pueden ser desarrolladas por un trabaj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3</a:t>
            </a:r>
            <a:endParaRPr b="0" lang="en-US" sz="2400" spc="-1" strike="noStrike">
              <a:solidFill>
                <a:srgbClr val="000000"/>
              </a:solidFill>
              <a:latin typeface="Times New Roman"/>
            </a:endParaRPr>
          </a:p>
        </p:txBody>
      </p:sp>
      <p:sp>
        <p:nvSpPr>
          <p:cNvPr id="74" name="PlaceHolder 2"/>
          <p:cNvSpPr>
            <a:spLocks noGrp="1"/>
          </p:cNvSpPr>
          <p:nvPr>
            <p:ph/>
          </p:nvPr>
        </p:nvSpPr>
        <p:spPr>
          <a:xfrm>
            <a:off x="762120" y="1523880"/>
            <a:ext cx="8076960" cy="5045040"/>
          </a:xfrm>
          <a:prstGeom prst="rect">
            <a:avLst/>
          </a:prstGeom>
          <a:noFill/>
          <a:ln w="0">
            <a:noFill/>
          </a:ln>
        </p:spPr>
        <p:txBody>
          <a:bodyPr anchor="t">
            <a:norm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os ejemplos de propósito clave en el análisis funcional:</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ir y comercializar papel de acuerdo con las necesidades de los cli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car, procesar y vender carne roja y blanca y sus productos derivados, para satisfacer las necesidades de los cli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ir obras que satisfagan las necesidades de los clientes, cumpliendo la normativa y legislación vig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r servicios bancarios que satisfagan las necesidades financieras y similares de los clientes de manera contin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4</a:t>
            </a:r>
            <a:endParaRPr b="0" lang="en-US" sz="2400" spc="-1" strike="noStrike">
              <a:solidFill>
                <a:srgbClr val="000000"/>
              </a:solidFill>
              <a:latin typeface="Times New Roman"/>
            </a:endParaRPr>
          </a:p>
        </p:txBody>
      </p:sp>
      <p:sp>
        <p:nvSpPr>
          <p:cNvPr id="76" name="PlaceHolder 2"/>
          <p:cNvSpPr>
            <a:spLocks noGrp="1"/>
          </p:cNvSpPr>
          <p:nvPr>
            <p:ph/>
          </p:nvPr>
        </p:nvSpPr>
        <p:spPr>
          <a:xfrm>
            <a:off x="762120" y="1523880"/>
            <a:ext cx="8076960" cy="4918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debe identificar funciones delimitadas (discretas) separándolas del contexto laboral específic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trata de incluir funciones cuyo inicio y fin sea plenamente identificable.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trata de describir las tareas circunscritas a un puesto de trabajo; más bien de establecer las funciones desarrolladas en el contexto del ámbito ocupacional en el que se llevan a cab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facilita la transferibilidad de dichas funciones a otros contextos laborales y evita que queden reducidas a un puesto específ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5</a:t>
            </a:r>
            <a:endParaRPr b="0" lang="en-US" sz="2400" spc="-1" strike="noStrike">
              <a:solidFill>
                <a:srgbClr val="000000"/>
              </a:solidFill>
              <a:latin typeface="Times New Roman"/>
            </a:endParaRPr>
          </a:p>
        </p:txBody>
      </p:sp>
      <p:sp>
        <p:nvSpPr>
          <p:cNvPr id="78" name="PlaceHolder 2"/>
          <p:cNvSpPr>
            <a:spLocks noGrp="1"/>
          </p:cNvSpPr>
          <p:nvPr>
            <p:ph/>
          </p:nvPr>
        </p:nvSpPr>
        <p:spPr>
          <a:xfrm>
            <a:off x="762120" y="1523520"/>
            <a:ext cx="8076960" cy="442620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lmente, las subfunciones que aparecen en el cuarto nivel de desagregación ya incluyen logros laborales que un trabajador es capaz de obtener; al llegar a este punto –lo cual puede ocurrir también en el quinto nivel de desglose- se está hablando ya de "realizaciones" o "elementos de competencia".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este modo las subfunciones que se hayan identificado en ese nivel pueden denominarse ya elementos de competencia y el nivel inmediatamente anterior será la unidad de competenc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squema General de un Mapa Funcional</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1066680" y="1814400"/>
            <a:ext cx="7334280" cy="5500800"/>
          </a:xfrm>
          <a:prstGeom prst="rect">
            <a:avLst/>
          </a:prstGeom>
          <a:ln w="0">
            <a:noFill/>
          </a:ln>
        </p:spPr>
      </p:pic>
      <p:sp>
        <p:nvSpPr>
          <p:cNvPr id="82" name=""/>
          <p:cNvSpPr/>
          <p:nvPr/>
        </p:nvSpPr>
        <p:spPr>
          <a:xfrm>
            <a:off x="685800" y="30492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CORD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6</a:t>
            </a:r>
            <a:endParaRPr b="0" lang="en-US" sz="2400" spc="-1" strike="noStrike">
              <a:solidFill>
                <a:srgbClr val="000000"/>
              </a:solidFill>
              <a:latin typeface="Times New Roman"/>
            </a:endParaRPr>
          </a:p>
        </p:txBody>
      </p:sp>
      <p:sp>
        <p:nvSpPr>
          <p:cNvPr id="84" name="PlaceHolder 2"/>
          <p:cNvSpPr>
            <a:spLocks noGrp="1"/>
          </p:cNvSpPr>
          <p:nvPr>
            <p:ph/>
          </p:nvPr>
        </p:nvSpPr>
        <p:spPr>
          <a:xfrm>
            <a:off x="762120" y="1523520"/>
            <a:ext cx="8076960" cy="541044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ceso de desagregación (desglose) de las funciones se hace siguiendo la lógica de causa-efecto.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realizar el desglose se debe verificar lo que debe hacerse para alcanzar el resultado descrito en la función que está siendo desagregada.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esagregación de una función en el siguiente nivel, está representando lo que se debe lograr para que dicha función se lleve a cabo. La pregunta clave en el desglose es: "¿Que hay que hacer para que esto se logre?.</a:t>
            </a:r>
            <a:br>
              <a:rPr sz="2400"/>
            </a:b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7</a:t>
            </a:r>
            <a:endParaRPr b="0" lang="en-US" sz="2400" spc="-1" strike="noStrike">
              <a:solidFill>
                <a:srgbClr val="000000"/>
              </a:solidFill>
              <a:latin typeface="Times New Roman"/>
            </a:endParaRPr>
          </a:p>
        </p:txBody>
      </p:sp>
      <p:sp>
        <p:nvSpPr>
          <p:cNvPr id="86" name="PlaceHolder 2"/>
          <p:cNvSpPr>
            <a:spLocks noGrp="1"/>
          </p:cNvSpPr>
          <p:nvPr>
            <p:ph/>
          </p:nvPr>
        </p:nvSpPr>
        <p:spPr>
          <a:xfrm>
            <a:off x="762120" y="1523880"/>
            <a:ext cx="8076960" cy="4918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apa funcional no es una representación de procesos. No intenta describir gráficamente el proceso sino las funciones productivas necesarias para alcanzar el propósito clave. Al elaborarlo debe cuidarse de incluir descripciones de operaciones o tareas.</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aso de la función de "trabajar en condiciones de seguridad" la cual no debe describirse en términos de "colocarse el casco" o cualquier otro elemento de protección.</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914400" y="1295280"/>
            <a:ext cx="8001000" cy="546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a técnica que se utiliza para identificar las competencias laborales inherentes a una función productiva. Tal función puede estar relacionada con una empresa, un grupo de empresas o todo un sector de la producción o los servicio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no es, en modo alguno, un método exacto. Es un enfoque de trabajo para acercarse a las competencias requeridas mediante una estrategia deductiva. Inicia estableciendo el propósito principal de la función productiva o de servicios bajo análisis y se pregunta sucesivamente que funciones hay que llevar a cabo para permitir que la función precedente se logre.</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47"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el análisis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8</a:t>
            </a:r>
            <a:endParaRPr b="0" lang="en-US" sz="2400" spc="-1" strike="noStrike">
              <a:solidFill>
                <a:srgbClr val="000000"/>
              </a:solidFill>
              <a:latin typeface="Times New Roman"/>
            </a:endParaRPr>
          </a:p>
        </p:txBody>
      </p:sp>
      <p:sp>
        <p:nvSpPr>
          <p:cNvPr id="88" name="PlaceHolder 2"/>
          <p:cNvSpPr>
            <a:spLocks noGrp="1"/>
          </p:cNvSpPr>
          <p:nvPr>
            <p:ph/>
          </p:nvPr>
        </p:nvSpPr>
        <p:spPr>
          <a:xfrm>
            <a:off x="762120" y="1219320"/>
            <a:ext cx="8076960" cy="6029280"/>
          </a:xfrm>
          <a:prstGeom prst="rect">
            <a:avLst/>
          </a:prstGeom>
          <a:noFill/>
          <a:ln w="0">
            <a:noFill/>
          </a:ln>
        </p:spPr>
        <p:txBody>
          <a:bodyPr anchor="t">
            <a:normAutofit/>
          </a:bodyPr>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be cuidarse a lo largo de la elaboración del mapa funcional, no perder de vista la relación entre las funciones y el propósito clave.</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ello es recomendable revisar cada tanto que se conserve este principio de coherencia en el análisis. </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 revisión debe dar cuenta de aquellas funciones que puedan aparecer repetidas en diferentes ramas del árbol.</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lógica de elaboración del mapa funcional no acepta que se presenten tales repeticiones, en tal caso debe revisarse y rehacerse.</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ayuda el análisis funcional en la </a:t>
            </a:r>
            <a:br>
              <a:rPr sz="2400"/>
            </a:br>
            <a:r>
              <a:rPr b="1" lang="en-US" sz="2400" spc="-1" strike="noStrike">
                <a:solidFill>
                  <a:srgbClr val="33ccff"/>
                </a:solidFill>
                <a:latin typeface="Arial"/>
              </a:rPr>
              <a:t>formación por competencias?</a:t>
            </a:r>
            <a:endParaRPr b="0" lang="en-US" sz="2400" spc="-1" strike="noStrike">
              <a:solidFill>
                <a:srgbClr val="000000"/>
              </a:solidFill>
              <a:latin typeface="Times New Roman"/>
            </a:endParaRPr>
          </a:p>
        </p:txBody>
      </p:sp>
      <p:sp>
        <p:nvSpPr>
          <p:cNvPr id="90" name="PlaceHolder 2"/>
          <p:cNvSpPr>
            <a:spLocks noGrp="1"/>
          </p:cNvSpPr>
          <p:nvPr>
            <p:ph/>
          </p:nvPr>
        </p:nvSpPr>
        <p:spPr>
          <a:xfrm>
            <a:off x="762120" y="1218960"/>
            <a:ext cx="8076960" cy="564804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se convierte en la base para la elaboración, no sólo de las normas de competencia sino también de los programas de formación.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étodo del análisis funcional es el cimiento para la elaboración de normas de competencia laboral.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tal, esta en la raíz de la descripción de las áreas ocupacionales objeto de normalización.</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integración de una norma de competencia en sus diferentes componentes: las unidades de competencia, los elementos, las evidencias de desempeño, los criterios de desempeño, el campo de aplicación, las evidencias de conocimiento y las guías para la evaluación; es, a su tiempo, la base para la elaboración de los currículos de formación basados en competenc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1828800"/>
            <a:ext cx="8382240" cy="327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ideal realizarlo con un grupo de trabajadores que conozcan la función analizada. Su valor como herramienta parte de su representatividad. En su elaboración se siguen ciertas reglas encaminadas a mantener uniformidad de criterios. La redacción del propósito principal, propósito clave, o función clave de la empresa, se suele elaborar siguiendo la estructur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se realiza el análisis funcional?</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1457280" y="4908600"/>
            <a:ext cx="6543720" cy="8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62120" y="1905120"/>
            <a:ext cx="77724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pa funcional, o árbol funcional, es la representación gráfica de los resultados del análisis funcional. Su forma en "árbol" (dispuesto horizontalmente) refleja la metodología seguida para su elaboración en la que, una vez definido el propósito clave, este se desagrega sucesivamente en las funciones constitutivas. </a:t>
            </a:r>
            <a:br>
              <a:rPr sz="2400"/>
            </a:br>
            <a:br>
              <a:rPr sz="2400"/>
            </a:br>
            <a:endParaRPr b="0" lang="en-US" sz="2400" spc="-1" strike="noStrike">
              <a:solidFill>
                <a:srgbClr val="000000"/>
              </a:solidFill>
              <a:latin typeface="Times New Roman"/>
            </a:endParaRPr>
          </a:p>
        </p:txBody>
      </p:sp>
      <p:sp>
        <p:nvSpPr>
          <p:cNvPr id="52" name=""/>
          <p:cNvSpPr/>
          <p:nvPr/>
        </p:nvSpPr>
        <p:spPr>
          <a:xfrm>
            <a:off x="27432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el mapa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la función principal o propósito clave?</a:t>
            </a:r>
            <a:endParaRPr b="0" lang="en-US" sz="2400" spc="-1" strike="noStrike">
              <a:solidFill>
                <a:srgbClr val="000000"/>
              </a:solidFill>
              <a:latin typeface="Times New Roman"/>
            </a:endParaRPr>
          </a:p>
        </p:txBody>
      </p:sp>
      <p:sp>
        <p:nvSpPr>
          <p:cNvPr id="54" name="PlaceHolder 2"/>
          <p:cNvSpPr>
            <a:spLocks noGrp="1"/>
          </p:cNvSpPr>
          <p:nvPr>
            <p:ph/>
          </p:nvPr>
        </p:nvSpPr>
        <p:spPr>
          <a:xfrm>
            <a:off x="762120" y="1218960"/>
            <a:ext cx="8076960" cy="5521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nción principal, o propósito clave, es la base a partir de la cual se desarrolla el mapa funcional. Es el vértice del que se desprenden sucesivamente las funciones productivas con la lógica "¿qué hay que hacer para que esto se logre?".</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pósito clave describe la razón de ser de la actividad productiva, empresa o sector, según sea el nivel en el cual se esté llevando a cabo el análisis. Su descripción debe ser lo más concreta posible, deben evitarse los adornos típicos de las declaraciones de misión utilizadas en trabajos relacionados con definiciones de política empresarial. </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a unidad de Competencia?</a:t>
            </a:r>
            <a:endParaRPr b="0" lang="en-US" sz="2400" spc="-1" strike="noStrike">
              <a:solidFill>
                <a:srgbClr val="000000"/>
              </a:solidFill>
              <a:latin typeface="Times New Roman"/>
            </a:endParaRPr>
          </a:p>
        </p:txBody>
      </p:sp>
      <p:sp>
        <p:nvSpPr>
          <p:cNvPr id="56" name="PlaceHolder 2"/>
          <p:cNvSpPr>
            <a:spLocks noGrp="1"/>
          </p:cNvSpPr>
          <p:nvPr>
            <p:ph/>
          </p:nvPr>
        </p:nvSpPr>
        <p:spPr>
          <a:xfrm>
            <a:off x="762120" y="837720"/>
            <a:ext cx="8076960" cy="577548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de competencia es una agrupación de funciones productivas identificadas en el análisis funcional al nivel mínimo, en el que dicha función ya puede ser realizada por una persona.</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de competencia esta conformada por un conjunto de elementos de competencia, reviste un significado claro en el proceso de trabajo y, por tanto, tiene valor en el ejercicio del trabajo.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no sólo se refiere a las funciones directamente relacionadas con el objetivo del empleo, incluye cualquier requerimiento relacionado con la salud y la seguridad, la calidad y las relaciones de traba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 elemento de Competencia? 1</a:t>
            </a:r>
            <a:endParaRPr b="0" lang="en-US" sz="2400" spc="-1" strike="noStrike">
              <a:solidFill>
                <a:srgbClr val="000000"/>
              </a:solidFill>
              <a:latin typeface="Times New Roman"/>
            </a:endParaRPr>
          </a:p>
        </p:txBody>
      </p:sp>
      <p:sp>
        <p:nvSpPr>
          <p:cNvPr id="58" name="PlaceHolder 2"/>
          <p:cNvSpPr>
            <a:spLocks noGrp="1"/>
          </p:cNvSpPr>
          <p:nvPr>
            <p:ph/>
          </p:nvPr>
        </p:nvSpPr>
        <p:spPr>
          <a:xfrm>
            <a:off x="762120" y="838080"/>
            <a:ext cx="8076960" cy="5594040"/>
          </a:xfrm>
          <a:prstGeom prst="rect">
            <a:avLst/>
          </a:prstGeom>
          <a:noFill/>
          <a:ln w="0">
            <a:noFill/>
          </a:ln>
        </p:spPr>
        <p:txBody>
          <a:bodyPr anchor="t">
            <a:norm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desagregación de funciones realizada a lo largo del proceso de análisis funcional usualmente no sobrepasa de cuatro a cinco niveles.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analizar el último nivel, se encontrará que comprende competencias, funciones que a ese nivel ya pueden ser cumplidas por personas capaces de realizarlas (o sea competentes).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s diferentes funciones, cuando ya pueden ser ejecutadas por personas y describen acciones que se pueden lograr y resumir, reciben el nombre de elementos de competencia.</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 elemento de Competencia? 2</a:t>
            </a:r>
            <a:endParaRPr b="0" lang="en-US" sz="2400" spc="-1" strike="noStrike">
              <a:solidFill>
                <a:srgbClr val="000000"/>
              </a:solidFill>
              <a:latin typeface="Times New Roman"/>
            </a:endParaRPr>
          </a:p>
        </p:txBody>
      </p:sp>
      <p:sp>
        <p:nvSpPr>
          <p:cNvPr id="60" name="PlaceHolder 2"/>
          <p:cNvSpPr>
            <a:spLocks noGrp="1"/>
          </p:cNvSpPr>
          <p:nvPr>
            <p:ph/>
          </p:nvPr>
        </p:nvSpPr>
        <p:spPr>
          <a:xfrm>
            <a:off x="762120" y="838080"/>
            <a:ext cx="8076960" cy="5959800"/>
          </a:xfrm>
          <a:prstGeom prst="rect">
            <a:avLst/>
          </a:prstGeom>
          <a:noFill/>
          <a:ln w="0">
            <a:noFill/>
          </a:ln>
        </p:spPr>
        <p:txBody>
          <a:bodyPr anchor="t">
            <a:norm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 de competencia es la descripción de una realización que debe ser lograda por una persona en al ámbito de su ocupación.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fiere a una acción, un comportamiento o un resultado que el trabajador debe demostrar y, es entonces, una función realizada por un individuo.</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elementos de competencia se redactan como una oración, siguiendo la regla de iniciar con un verbo en infinitivo preferiblemente; a continuación describir el objeto y; finalmente, aunque no es obligatorio en todos los casos, incluir la condición que debe tener la acción sobre el objeto.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squema General de un Mapa Funcional</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066680" y="1814400"/>
            <a:ext cx="7334280" cy="550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17:53:43Z</dcterms:created>
  <dc:creator>usuario</dc:creator>
  <dc:description/>
  <dc:language>en-US</dc:language>
  <cp:lastModifiedBy>usuario</cp:lastModifiedBy>
  <dcterms:modified xsi:type="dcterms:W3CDTF">2004-03-11T19:11:41Z</dcterms:modified>
  <cp:revision>13</cp:revision>
  <dc:subject/>
  <dc:title>Sin título de diapositiva</dc:title>
</cp:coreProperties>
</file>