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6005-AE68-4247-B34B-450F16B9C40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-3808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rganizar en forma coherente todas las «variables»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reclutamiento y selección, capacitación, evaluación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l desempeño, organización del trabajo,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emuneración fija y variable…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ara contribuir a la construcción, a la cooperación y a la disponibilida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 las competencias necesarias a corto mediano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l cuadro muestra algunas de las principales características de las nuevas organizaciones y los desafíos que enfrentan a nivel individual, organizacional y en sus relaciones con el entor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a Flexibilidad propia de muchas organizaciones, por ejemplo, plantea la necesidad de disponer de personas que puedan adaptarse a situaciones nuevas, poco pauteadas y que puedan combinar recursos personales para encontrar soluciones novedos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a Horizontalidad de las organizaciones plantea el desafío a los Gerentes de diseñar incentivos y formas nuevas de reconocimiento a sus supervisados, dada la crisis del concepto tradicional de carrer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05F-2D7C-4625-B059-54D79A4B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B7A-6825-4725-9554-6D25C1D8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099-51BC-4823-958A-9DF62A36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031C-ADAE-463B-86AE-6502A8B0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21F-0031-4D27-947B-D6175794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B0C-7ACD-43E2-AF85-C2C14985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92B-780A-44C6-B2CF-772D39D5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A20-9106-4425-9995-CE6EB924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F787-32FF-4668-94F9-4BCD0A6E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FC0F-8BF9-4EF2-B7EE-4B3CD8C2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22D-D60F-445B-BDAB-84A0ABD0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108-EC44-4349-AC8A-3D45B806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044C-9886-4814-87EC-8A9BB42ED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package" Target="../embeddings/oleObject1.pptx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0.wmf"/><Relationship Id="rId15" Type="http://schemas.openxmlformats.org/officeDocument/2006/relationships/image" Target="../media/image20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12952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cc"/>
                </a:solidFill>
                <a:latin typeface="Arial"/>
              </a:rPr>
              <a:t>Modelo de Competencias Laborales</a:t>
            </a:r>
            <a:br>
              <a:rPr sz="4400"/>
            </a:br>
            <a:r>
              <a:rPr b="0" lang="es-CL" sz="4400" spc="-1" strike="noStrike">
                <a:solidFill>
                  <a:srgbClr val="0033cc"/>
                </a:solidFill>
                <a:latin typeface="Arial"/>
              </a:rPr>
              <a:t>Gestión por Competencia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52560" y="1066320"/>
            <a:ext cx="77724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á fundamentado en que personas y equipos de trabajo son competentes cuando saben actuar de manera pertinente en una situación part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ben movilizar y combinar sus recursos internos y ex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ben realizar un conjunto de actividades según criterios ex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siguen los resultados esperados para esas activida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8450280" y="4943520"/>
            <a:ext cx="18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44280"/>
            <a:ext cx="53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INTEGRACIÓN DE COMPETENCIAS Y 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858000" y="839880"/>
            <a:ext cx="2049840" cy="5148720"/>
            <a:chOff x="6858000" y="839880"/>
            <a:chExt cx="2049840" cy="5148720"/>
          </a:xfrm>
        </p:grpSpPr>
        <p:sp>
          <p:nvSpPr>
            <p:cNvPr id="427" name=""/>
            <p:cNvSpPr/>
            <p:nvPr/>
          </p:nvSpPr>
          <p:spPr>
            <a:xfrm>
              <a:off x="6877080" y="2008080"/>
              <a:ext cx="1371600" cy="11023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77080" y="3441600"/>
              <a:ext cx="1371600" cy="1102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6483600" y="3531240"/>
              <a:ext cx="4571640" cy="276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C    L    I    E    N    T    E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25000" y="2466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25000" y="41432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46560" y="839880"/>
              <a:ext cx="123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8000" y="4886280"/>
              <a:ext cx="1371600" cy="11023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05920" y="542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79720" y="839880"/>
            <a:ext cx="3302280" cy="5344560"/>
            <a:chOff x="3879720" y="839880"/>
            <a:chExt cx="3302280" cy="5344560"/>
          </a:xfrm>
        </p:grpSpPr>
        <p:sp>
          <p:nvSpPr>
            <p:cNvPr id="436" name=""/>
            <p:cNvSpPr/>
            <p:nvPr/>
          </p:nvSpPr>
          <p:spPr>
            <a:xfrm>
              <a:off x="3879720" y="1114200"/>
              <a:ext cx="2667240" cy="5070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31200" y="839880"/>
              <a:ext cx="257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SITUACIONES PROFES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79720" y="17046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83040" y="1298520"/>
              <a:ext cx="117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Competencia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Funcion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92720" y="1107720"/>
              <a:ext cx="11775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FUN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ASIGNADAS,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METAS &amp; OBJ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79720" y="254304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79720" y="33811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9720" y="42192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27200" y="192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27200" y="2763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27200" y="3601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27200" y="4478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77520" y="17046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77520" y="254304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77520" y="338112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77520" y="42192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91280" y="2085840"/>
              <a:ext cx="7621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67600" y="3838320"/>
              <a:ext cx="6094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343560" y="2771640"/>
              <a:ext cx="533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9880" y="3152520"/>
              <a:ext cx="76212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86200" y="511776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81480" y="1079280"/>
              <a:ext cx="0" cy="51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68520" y="5406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83640" y="52704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6324480" y="5499000"/>
              <a:ext cx="60984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24480" y="466056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6324480" y="4203000"/>
              <a:ext cx="7621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28560" y="838080"/>
            <a:ext cx="3714840" cy="5651280"/>
            <a:chOff x="628560" y="838080"/>
            <a:chExt cx="3714840" cy="5651280"/>
          </a:xfrm>
        </p:grpSpPr>
        <p:sp>
          <p:nvSpPr>
            <p:cNvPr id="464" name=""/>
            <p:cNvSpPr/>
            <p:nvPr/>
          </p:nvSpPr>
          <p:spPr>
            <a:xfrm>
              <a:off x="628560" y="1123560"/>
              <a:ext cx="2667240" cy="5365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2800" y="1171440"/>
              <a:ext cx="2514600" cy="2133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2800" y="3362040"/>
              <a:ext cx="2514600" cy="10670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29560" y="838080"/>
              <a:ext cx="10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5640" y="1171440"/>
              <a:ext cx="22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mpetencias Condu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50840" y="3362040"/>
              <a:ext cx="18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mpetencias Básic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4880" y="1323720"/>
              <a:ext cx="25146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Comunicación Efecti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Trabajo en Equi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Negoci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Manejo del Conflic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Compromiso Corpora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Liderazg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8120" y="3504960"/>
              <a:ext cx="252072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Leer, escribir y calcul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Destrezas de pensamiento; resolución de problemas, planificación de tare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Etc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10000" y="1704600"/>
              <a:ext cx="16761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43160" y="2161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610000" y="2238120"/>
              <a:ext cx="1676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33680" y="2314440"/>
              <a:ext cx="1733400" cy="14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895480" y="2314080"/>
              <a:ext cx="13906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895480" y="3075840"/>
              <a:ext cx="13906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10000" y="1933200"/>
              <a:ext cx="16761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" y="4524120"/>
              <a:ext cx="2514600" cy="304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9800" y="4554360"/>
              <a:ext cx="23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nocimientos Profes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" y="4905000"/>
              <a:ext cx="2514600" cy="15084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80800" y="49050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Otros 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5028840"/>
              <a:ext cx="2521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Información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 Intranet, bases de datos, Internet, 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Relaciones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interdepartamental, con contratistas y procedores 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Materiales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maquineria, insumos 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124080" y="2450880"/>
              <a:ext cx="11430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124080" y="374616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24080" y="4660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48120" y="5346360"/>
              <a:ext cx="11430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048120" y="4507920"/>
              <a:ext cx="990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048120" y="3898440"/>
              <a:ext cx="1218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124080" y="3213000"/>
              <a:ext cx="121932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4800600" y="6413400"/>
            <a:ext cx="426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Basado en “Ingeniería de las Competencias”, Guy Le Boterf,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34560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MPETENCIAS Y ESTRATE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30400" y="639720"/>
            <a:ext cx="7416720" cy="576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18240" y="1432080"/>
            <a:ext cx="1840320" cy="8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Vis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remos log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78200" y="2368440"/>
            <a:ext cx="2120760" cy="8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Valo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forma en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emos las c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08280" y="3303720"/>
            <a:ext cx="4260960" cy="114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Estrategia de Negoc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ómo lograremos la visión (incluye objetivos para unidades de negoc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/o gerencias funcionale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57480" y="4503600"/>
            <a:ext cx="7162560" cy="8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66"/>
                </a:solidFill>
                <a:latin typeface="Arial"/>
              </a:rPr>
              <a:t>Competencias de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qué tenemos que ser buenos para alcanz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uestros objetivos y v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57480" y="5408640"/>
            <a:ext cx="7162560" cy="8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66"/>
                </a:solidFill>
                <a:latin typeface="Arial"/>
              </a:rPr>
              <a:t>Competencias Conductuales</a:t>
            </a: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/Fun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qué debe ser buena nuestra gente para sustentar nuestras competencias de negocio y lograr nuestros objetivos y v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19320" y="990720"/>
            <a:ext cx="2438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Record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133800" y="1066680"/>
            <a:ext cx="3857400" cy="457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Modelo de Compe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12944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RUTA CRITICA IMPLEMENTACION MODELOS  DE COMPETENC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392200" y="1523520"/>
            <a:ext cx="5332680" cy="1203840"/>
            <a:chOff x="2392200" y="1523520"/>
            <a:chExt cx="5332680" cy="1203840"/>
          </a:xfrm>
        </p:grpSpPr>
        <p:sp>
          <p:nvSpPr>
            <p:cNvPr id="503" name=""/>
            <p:cNvSpPr/>
            <p:nvPr/>
          </p:nvSpPr>
          <p:spPr>
            <a:xfrm>
              <a:off x="2392200" y="1905120"/>
              <a:ext cx="5332680" cy="8222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Perfiles de Competen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Básicas, Funcionales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y </a:t>
              </a: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Conductu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0" idx="2"/>
              <a:endCxn id="503" idx="0"/>
            </p:cNvCxnSpPr>
            <p:nvPr/>
          </p:nvCxnSpPr>
          <p:spPr>
            <a:xfrm rot="5400000">
              <a:off x="4869720" y="1712520"/>
              <a:ext cx="3819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5" name=""/>
          <p:cNvGrpSpPr/>
          <p:nvPr/>
        </p:nvGrpSpPr>
        <p:grpSpPr>
          <a:xfrm>
            <a:off x="609480" y="2727360"/>
            <a:ext cx="4449960" cy="2325600"/>
            <a:chOff x="609480" y="2727360"/>
            <a:chExt cx="4449960" cy="2325600"/>
          </a:xfrm>
        </p:grpSpPr>
        <p:sp>
          <p:nvSpPr>
            <p:cNvPr id="506" name=""/>
            <p:cNvSpPr/>
            <p:nvPr/>
          </p:nvSpPr>
          <p:spPr>
            <a:xfrm>
              <a:off x="609480" y="319896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Identificación de Brech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9480" y="459576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Desarrollo de Competen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9480" y="387504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Planes Desarrollo Individ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"/>
            <p:cNvCxnSpPr>
              <a:stCxn id="503" idx="2"/>
              <a:endCxn id="506" idx="0"/>
            </p:cNvCxnSpPr>
            <p:nvPr/>
          </p:nvCxnSpPr>
          <p:spPr>
            <a:xfrm rot="5400000">
              <a:off x="3486240" y="1626480"/>
              <a:ext cx="472320" cy="2674080"/>
            </a:xfrm>
            <a:prstGeom prst="bentConnector3">
              <a:avLst>
                <a:gd name="adj1" fmla="val 4980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506" idx="2"/>
              <a:endCxn id="508" idx="0"/>
            </p:cNvCxnSpPr>
            <p:nvPr/>
          </p:nvCxnSpPr>
          <p:spPr>
            <a:xfrm flipV="1" rot="10800000">
              <a:off x="2385360" y="3655800"/>
              <a:ext cx="1080" cy="219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508" idx="2"/>
              <a:endCxn id="507" idx="0"/>
            </p:cNvCxnSpPr>
            <p:nvPr/>
          </p:nvCxnSpPr>
          <p:spPr>
            <a:xfrm flipV="1" rot="10800000">
              <a:off x="2385360" y="4331880"/>
              <a:ext cx="1080" cy="26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2" name=""/>
          <p:cNvGrpSpPr/>
          <p:nvPr/>
        </p:nvGrpSpPr>
        <p:grpSpPr>
          <a:xfrm>
            <a:off x="5591520" y="2727360"/>
            <a:ext cx="3476160" cy="1436760"/>
            <a:chOff x="5591520" y="2727360"/>
            <a:chExt cx="3476160" cy="1436760"/>
          </a:xfrm>
        </p:grpSpPr>
        <p:sp>
          <p:nvSpPr>
            <p:cNvPr id="513" name=""/>
            <p:cNvSpPr/>
            <p:nvPr/>
          </p:nvSpPr>
          <p:spPr>
            <a:xfrm>
              <a:off x="6232320" y="3198960"/>
              <a:ext cx="2835360" cy="9651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Uso en otr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aplicaciones de RRH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03" idx="2"/>
              <a:endCxn id="513" idx="0"/>
            </p:cNvCxnSpPr>
            <p:nvPr/>
          </p:nvCxnSpPr>
          <p:spPr>
            <a:xfrm flipH="1" rot="16200000">
              <a:off x="6384240" y="1934280"/>
              <a:ext cx="472320" cy="2057760"/>
            </a:xfrm>
            <a:prstGeom prst="bentConnector3">
              <a:avLst>
                <a:gd name="adj1" fmla="val 4980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5" name=""/>
          <p:cNvGrpSpPr/>
          <p:nvPr/>
        </p:nvGrpSpPr>
        <p:grpSpPr>
          <a:xfrm>
            <a:off x="2386080" y="3427560"/>
            <a:ext cx="4227480" cy="2668320"/>
            <a:chOff x="2386080" y="3427560"/>
            <a:chExt cx="4227480" cy="2668320"/>
          </a:xfrm>
        </p:grpSpPr>
        <p:cxnSp>
          <p:nvCxnSpPr>
            <p:cNvPr id="516" name=""/>
            <p:cNvCxnSpPr>
              <a:stCxn id="507" idx="2"/>
              <a:endCxn id="517" idx="1"/>
            </p:cNvCxnSpPr>
            <p:nvPr/>
          </p:nvCxnSpPr>
          <p:spPr>
            <a:xfrm flipH="1" rot="16200000">
              <a:off x="2316960" y="5121720"/>
              <a:ext cx="815040" cy="6768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517" idx="0"/>
              <a:endCxn id="506" idx="3"/>
            </p:cNvCxnSpPr>
            <p:nvPr/>
          </p:nvCxnSpPr>
          <p:spPr>
            <a:xfrm flipV="1" rot="16200000">
              <a:off x="3393720" y="4194000"/>
              <a:ext cx="2211480" cy="6786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062160" y="563868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Post Evaluación / Cert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17" idx="3"/>
            <a:endCxn id="513" idx="2"/>
          </p:cNvCxnSpPr>
          <p:nvPr/>
        </p:nvCxnSpPr>
        <p:spPr>
          <a:xfrm flipV="1">
            <a:off x="6613200" y="4163400"/>
            <a:ext cx="1037160" cy="170388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33520" y="442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PARA ADMINISTRAR EN BASE A COMPETENCIAS ES NECESARI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24000" y="5743440"/>
            <a:ext cx="243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sar de una lógic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uesto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419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6520" y="5105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47840" y="44956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43200" y="5105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00400" y="4419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64640" y="5743440"/>
            <a:ext cx="354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sar de una lógica de progre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tre puesto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43828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701028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10280" y="42670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29400" y="5410080"/>
            <a:ext cx="38088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629400" y="46483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029200"/>
            <a:ext cx="38124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9400" y="38862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31" idx="6"/>
            <a:endCxn id="533" idx="4"/>
          </p:cNvCxnSpPr>
          <p:nvPr/>
        </p:nvCxnSpPr>
        <p:spPr>
          <a:xfrm flipV="1">
            <a:off x="7010280" y="5409720"/>
            <a:ext cx="19152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33" idx="0"/>
            <a:endCxn id="532" idx="6"/>
          </p:cNvCxnSpPr>
          <p:nvPr/>
        </p:nvCxnSpPr>
        <p:spPr>
          <a:xfrm flipV="1" rot="16200000">
            <a:off x="7009920" y="4837680"/>
            <a:ext cx="19116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7" name=""/>
          <p:cNvCxnSpPr>
            <a:stCxn id="532" idx="0"/>
            <a:endCxn id="530" idx="2"/>
          </p:cNvCxnSpPr>
          <p:nvPr/>
        </p:nvCxnSpPr>
        <p:spPr>
          <a:xfrm flipH="1" flipV="1" rot="5400000">
            <a:off x="6819480" y="4457160"/>
            <a:ext cx="191160" cy="191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30" idx="0"/>
            <a:endCxn id="534" idx="6"/>
          </p:cNvCxnSpPr>
          <p:nvPr/>
        </p:nvCxnSpPr>
        <p:spPr>
          <a:xfrm flipV="1" rot="16200000">
            <a:off x="7009920" y="4075560"/>
            <a:ext cx="19116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39" name=""/>
          <p:cNvGrpSpPr/>
          <p:nvPr/>
        </p:nvGrpSpPr>
        <p:grpSpPr>
          <a:xfrm>
            <a:off x="914400" y="1019160"/>
            <a:ext cx="3047760" cy="2104920"/>
            <a:chOff x="914400" y="1019160"/>
            <a:chExt cx="3047760" cy="2104920"/>
          </a:xfrm>
        </p:grpSpPr>
        <p:sp>
          <p:nvSpPr>
            <p:cNvPr id="540" name=""/>
            <p:cNvSpPr/>
            <p:nvPr/>
          </p:nvSpPr>
          <p:spPr>
            <a:xfrm>
              <a:off x="1130760" y="1019160"/>
              <a:ext cx="261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 una lógica de oficios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Perfiles de competenc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914400" y="1828800"/>
              <a:ext cx="3047760" cy="1295280"/>
              <a:chOff x="914400" y="1828800"/>
              <a:chExt cx="3047760" cy="1295280"/>
            </a:xfrm>
          </p:grpSpPr>
          <p:sp>
            <p:nvSpPr>
              <p:cNvPr id="542" name=""/>
              <p:cNvSpPr/>
              <p:nvPr/>
            </p:nvSpPr>
            <p:spPr>
              <a:xfrm>
                <a:off x="914400" y="1828800"/>
                <a:ext cx="3047760" cy="129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218960" y="1905120"/>
                <a:ext cx="3812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676160" y="2590920"/>
                <a:ext cx="3812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247840" y="1981080"/>
                <a:ext cx="380880" cy="381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743200" y="2590920"/>
                <a:ext cx="3808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00400" y="1905120"/>
                <a:ext cx="3808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5372280" y="1019160"/>
            <a:ext cx="3276360" cy="2104920"/>
            <a:chOff x="5372280" y="1019160"/>
            <a:chExt cx="3276360" cy="2104920"/>
          </a:xfrm>
        </p:grpSpPr>
        <p:sp>
          <p:nvSpPr>
            <p:cNvPr id="549" name=""/>
            <p:cNvSpPr/>
            <p:nvPr/>
          </p:nvSpPr>
          <p:spPr>
            <a:xfrm>
              <a:off x="5372280" y="1828800"/>
              <a:ext cx="304776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75600" y="1019160"/>
              <a:ext cx="284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 una lógica de progres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en el Perf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53360" y="1981080"/>
              <a:ext cx="38088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34040" y="1981080"/>
              <a:ext cx="38124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0088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572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1056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8191440" y="2781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7" name=""/>
            <p:cNvCxnSpPr>
              <a:stCxn id="555" idx="2"/>
              <a:endCxn id="554" idx="6"/>
            </p:cNvCxnSpPr>
            <p:nvPr/>
          </p:nvCxnSpPr>
          <p:spPr>
            <a:xfrm rot="10800000">
              <a:off x="7085880" y="2780640"/>
              <a:ext cx="7246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8" name=""/>
            <p:cNvCxnSpPr>
              <a:stCxn id="554" idx="2"/>
              <a:endCxn id="553" idx="6"/>
            </p:cNvCxnSpPr>
            <p:nvPr/>
          </p:nvCxnSpPr>
          <p:spPr>
            <a:xfrm rot="10800000">
              <a:off x="5981040" y="2780640"/>
              <a:ext cx="7246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>
              <a:stCxn id="553" idx="0"/>
              <a:endCxn id="552" idx="2"/>
            </p:cNvCxnSpPr>
            <p:nvPr/>
          </p:nvCxnSpPr>
          <p:spPr>
            <a:xfrm flipH="1" flipV="1" rot="5400000">
              <a:off x="5752800" y="2209680"/>
              <a:ext cx="419760" cy="343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>
              <a:stCxn id="552" idx="6"/>
              <a:endCxn id="551" idx="2"/>
            </p:cNvCxnSpPr>
            <p:nvPr/>
          </p:nvCxnSpPr>
          <p:spPr>
            <a:xfrm>
              <a:off x="6515280" y="2171520"/>
              <a:ext cx="8388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1" name=""/>
            <p:cNvSpPr/>
            <p:nvPr/>
          </p:nvSpPr>
          <p:spPr>
            <a:xfrm flipV="1">
              <a:off x="7543800" y="1600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DONDE EL PERFIL DE COMPETENCIAS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508760" y="1257480"/>
            <a:ext cx="1511280" cy="5334480"/>
            <a:chOff x="1508760" y="1257480"/>
            <a:chExt cx="1511280" cy="5334480"/>
          </a:xfrm>
        </p:grpSpPr>
        <p:sp>
          <p:nvSpPr>
            <p:cNvPr id="564" name=""/>
            <p:cNvSpPr/>
            <p:nvPr/>
          </p:nvSpPr>
          <p:spPr>
            <a:xfrm>
              <a:off x="1791000" y="625464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Bás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266920" y="1409760"/>
              <a:ext cx="0" cy="41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08760" y="5600520"/>
              <a:ext cx="151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Leer, escribi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y calc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25440" y="485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25440" y="3943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25440" y="3048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25440" y="2171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25440" y="1257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950200" y="1150920"/>
            <a:ext cx="1991160" cy="5441040"/>
            <a:chOff x="2950200" y="1150920"/>
            <a:chExt cx="1991160" cy="5441040"/>
          </a:xfrm>
        </p:grpSpPr>
        <p:sp>
          <p:nvSpPr>
            <p:cNvPr id="573" name=""/>
            <p:cNvSpPr/>
            <p:nvPr/>
          </p:nvSpPr>
          <p:spPr>
            <a:xfrm>
              <a:off x="3418560" y="6254640"/>
              <a:ext cx="104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Técn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94344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62120" y="5600520"/>
              <a:ext cx="968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te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Cl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77640" y="4857840"/>
              <a:ext cx="17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Operar Platafor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50200" y="394344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cepcionar Ped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73680" y="3048120"/>
              <a:ext cx="174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tender Reclam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47920" y="2171520"/>
              <a:ext cx="138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Tele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9160" y="1150920"/>
              <a:ext cx="117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Invers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871880" y="1150920"/>
            <a:ext cx="1616400" cy="5441040"/>
            <a:chOff x="4871880" y="1150920"/>
            <a:chExt cx="1616400" cy="5441040"/>
          </a:xfrm>
        </p:grpSpPr>
        <p:sp>
          <p:nvSpPr>
            <p:cNvPr id="582" name=""/>
            <p:cNvSpPr/>
            <p:nvPr/>
          </p:nvSpPr>
          <p:spPr>
            <a:xfrm>
              <a:off x="5212440" y="6254640"/>
              <a:ext cx="93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Gest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67684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00480" y="5600520"/>
              <a:ext cx="1159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Gestión 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m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71880" y="4751280"/>
              <a:ext cx="161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dministr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iempo Pers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80960" y="3836880"/>
              <a:ext cx="1396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ordinar 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Otras á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32000" y="2941560"/>
              <a:ext cx="149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uto desarrol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24880" y="2065320"/>
              <a:ext cx="1308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iempo ot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60160" y="1150920"/>
              <a:ext cx="123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dministr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587640" y="1143000"/>
            <a:ext cx="1523520" cy="5448960"/>
            <a:chOff x="6587640" y="1143000"/>
            <a:chExt cx="1523520" cy="5448960"/>
          </a:xfrm>
        </p:grpSpPr>
        <p:sp>
          <p:nvSpPr>
            <p:cNvPr id="591" name=""/>
            <p:cNvSpPr/>
            <p:nvPr/>
          </p:nvSpPr>
          <p:spPr>
            <a:xfrm>
              <a:off x="6701040" y="6254640"/>
              <a:ext cx="129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Conduc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5336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28480" y="5600520"/>
              <a:ext cx="10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Cultur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Empre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44880" y="4743360"/>
              <a:ext cx="140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mun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Efec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29200" y="3809880"/>
              <a:ext cx="104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rabaj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en Equi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27760" y="2933640"/>
              <a:ext cx="105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alidad /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87640" y="2057400"/>
              <a:ext cx="152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la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n comun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58720" y="1143000"/>
              <a:ext cx="973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Visión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987560" y="990720"/>
            <a:ext cx="5715000" cy="5562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26320" y="2247840"/>
            <a:ext cx="19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33cc"/>
                </a:solidFill>
                <a:latin typeface="Arial"/>
              </a:rPr>
              <a:t>Tener y retener al tal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0080" y="461016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33cc"/>
                </a:solidFill>
                <a:latin typeface="Arial"/>
              </a:rPr>
              <a:t>Desarrollar para tener excel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102040" y="1028520"/>
            <a:ext cx="5578200" cy="5486400"/>
            <a:chOff x="2102040" y="1028520"/>
            <a:chExt cx="5578200" cy="5486400"/>
          </a:xfrm>
        </p:grpSpPr>
        <p:sp>
          <p:nvSpPr>
            <p:cNvPr id="603" name=""/>
            <p:cNvSpPr/>
            <p:nvPr/>
          </p:nvSpPr>
          <p:spPr>
            <a:xfrm>
              <a:off x="2102040" y="2743200"/>
              <a:ext cx="5486400" cy="190512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8106000">
              <a:off x="2090520" y="2744280"/>
              <a:ext cx="5486400" cy="195444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706600">
              <a:off x="2128680" y="2782440"/>
              <a:ext cx="5486400" cy="195264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255040" y="1469880"/>
              <a:ext cx="5425200" cy="4627800"/>
              <a:chOff x="2255040" y="1469880"/>
              <a:chExt cx="5425200" cy="4627800"/>
            </a:xfrm>
          </p:grpSpPr>
          <p:sp>
            <p:nvSpPr>
              <p:cNvPr id="607" name=""/>
              <p:cNvSpPr/>
              <p:nvPr/>
            </p:nvSpPr>
            <p:spPr>
              <a:xfrm>
                <a:off x="5787720" y="5067000"/>
                <a:ext cx="1110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90000"/>
                    </a:solidFill>
                    <a:latin typeface="Arial"/>
                  </a:rPr>
                  <a:t>REMUNERA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90000"/>
                    </a:solidFill>
                    <a:latin typeface="Arial"/>
                  </a:rPr>
                  <a:t>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237560" y="5638680"/>
                <a:ext cx="1247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FORMACIÓ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ESARROLL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876040" y="5211360"/>
                <a:ext cx="97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SUCE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255040" y="3470040"/>
                <a:ext cx="1054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PLANES 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CARRER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06120" y="3482640"/>
                <a:ext cx="1374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ORGANIZ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Y RO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713200" y="1888920"/>
                <a:ext cx="1188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EVALU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ESEMPEÑ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124880" y="1469880"/>
                <a:ext cx="1415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SELEC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CONTRAT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98640" y="1850760"/>
                <a:ext cx="1188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ISEÑO 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EVALU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PUESTO D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TRABAJ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3742200" y="3281400"/>
              <a:ext cx="220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MODELO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OMPETENCIAS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LA EMPRE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>
              <a:hlinkClick r:id="rId1" action="ppaction://hlinksldjump"/>
            </p:cNvPr>
            <p:cNvSpPr/>
            <p:nvPr/>
          </p:nvSpPr>
          <p:spPr>
            <a:xfrm>
              <a:off x="3168720" y="164448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575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>
              <a:hlinkClick r:id="rId2" action="ppaction://hlinksldjump"/>
            </p:cNvPr>
            <p:cNvSpPr/>
            <p:nvPr/>
          </p:nvSpPr>
          <p:spPr>
            <a:xfrm>
              <a:off x="3625920" y="556272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>
              <a:hlinkClick r:id="rId3" action="ppaction://hlinksldjump"/>
            </p:cNvPr>
            <p:cNvSpPr/>
            <p:nvPr/>
          </p:nvSpPr>
          <p:spPr>
            <a:xfrm>
              <a:off x="6159600" y="440676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752f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>
              <a:hlinkClick r:id="rId4" action="ppaction://hlinksldjump"/>
            </p:cNvPr>
            <p:cNvSpPr/>
            <p:nvPr/>
          </p:nvSpPr>
          <p:spPr>
            <a:xfrm>
              <a:off x="4578480" y="243828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>
              <a:hlinkClick r:id="rId5" action="ppaction://hlinksldjump"/>
            </p:cNvPr>
            <p:cNvSpPr/>
            <p:nvPr/>
          </p:nvSpPr>
          <p:spPr>
            <a:xfrm>
              <a:off x="5150160" y="52578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>
              <a:hlinkClick r:id="rId6" action="ppaction://hlinksldjump"/>
            </p:cNvPr>
            <p:cNvSpPr/>
            <p:nvPr/>
          </p:nvSpPr>
          <p:spPr>
            <a:xfrm>
              <a:off x="2254320" y="32004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>
              <a:hlinkClick r:id="rId7" action="ppaction://hlinksldjump"/>
            </p:cNvPr>
            <p:cNvSpPr/>
            <p:nvPr/>
          </p:nvSpPr>
          <p:spPr>
            <a:xfrm>
              <a:off x="5683320" y="48006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2102040" y="2705040"/>
              <a:ext cx="5486400" cy="213336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>
              <a:hlinkClick r:id="rId8" action="ppaction://hlinksldjump"/>
            </p:cNvPr>
            <p:cNvSpPr/>
            <p:nvPr/>
          </p:nvSpPr>
          <p:spPr>
            <a:xfrm>
              <a:off x="3702240" y="281952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606096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APLICACIONES A PROCESOS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969120" y="1066680"/>
            <a:ext cx="3405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istema de Gest. de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999040" y="106668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449720" y="1905120"/>
            <a:ext cx="7160760" cy="1773720"/>
            <a:chOff x="1449720" y="1905120"/>
            <a:chExt cx="7160760" cy="1773720"/>
          </a:xfrm>
        </p:grpSpPr>
        <p:sp>
          <p:nvSpPr>
            <p:cNvPr id="629" name=""/>
            <p:cNvSpPr/>
            <p:nvPr/>
          </p:nvSpPr>
          <p:spPr>
            <a:xfrm>
              <a:off x="1449720" y="190512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Sel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43400" y="1930320"/>
              <a:ext cx="4267080" cy="17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equerimientos cla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yor probabilidad contratación exito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segura entrevista “sistemática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yuda a distinguir competencias “entrenables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1449360" y="386856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tre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343400" y="3894120"/>
            <a:ext cx="426708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co en competencias de mayor impacto sobre efe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ineamiento inversión en DRH con estrategia y valores organiz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ficiencia de la inversión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porciona referente para procesos de coaching y retro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BENEFICIOS DE 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1753920" y="1447920"/>
            <a:ext cx="7161120" cy="2153880"/>
            <a:chOff x="1753920" y="1447920"/>
            <a:chExt cx="7161120" cy="2153880"/>
          </a:xfrm>
        </p:grpSpPr>
        <p:sp>
          <p:nvSpPr>
            <p:cNvPr id="635" name=""/>
            <p:cNvSpPr/>
            <p:nvPr/>
          </p:nvSpPr>
          <p:spPr>
            <a:xfrm>
              <a:off x="1753920" y="144792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647960" y="1473120"/>
              <a:ext cx="4267080" cy="21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lara comprensión sobre lo que debe monitorearse y medir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caliza y facilita la discusión en torno a la administración y evaluación del desempe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acilita la obtención de información sobre el desempeño individ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754640" y="37418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48320" y="3790800"/>
            <a:ext cx="440532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arifica los conocimientos y destrezas requeridos en la nueva posición o 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ee método para probar cuando el candidato está li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caliza planes individuales de entrenamiento en brec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mite a la organización identific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igh-potential perfor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92800" y="914400"/>
            <a:ext cx="3405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istema de Gest. de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3080" y="91440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3520" y="442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BENEFICIOS DE 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33520" y="2330280"/>
            <a:ext cx="2895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cc66"/>
                </a:solidFill>
                <a:latin typeface="Arial"/>
              </a:rPr>
              <a:t>Propósito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533520"/>
            <a:ext cx="3505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cc66"/>
                </a:solidFill>
                <a:latin typeface="Arial"/>
              </a:rPr>
              <a:t>Funciones C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2814480"/>
            <a:ext cx="2666880" cy="179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ducir y comercializa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mineral sólido y sus subproductos en forma competitiva, sustentable en el tiempo y según normativa vigente, de forma de satisfacer las necesidades de los stakeh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95680" y="214632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3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Extrae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material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95680" y="141912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s instalaciones necesarias para la extracción y procesamiento de mineral y sus subproductos,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95680" y="88272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dentificar y adquirir reservas de mineral sólido,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95680" y="413388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oy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 producción de mineral y sus subproductos, de acuerdo a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95680" y="467676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7.- </a:t>
            </a: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Gestionar</a:t>
            </a: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 la efectividad de la organización y sus individuos, de acuerdo a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95680" y="539100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ercializ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neral y sus subproductos, según normativa vigente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5680" y="610236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s instalaciones productivas de acuerdo a los requerimientos medio ambientales y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5" idx="3"/>
            <a:endCxn id="648" idx="1"/>
          </p:cNvCxnSpPr>
          <p:nvPr/>
        </p:nvCxnSpPr>
        <p:spPr>
          <a:xfrm flipV="1">
            <a:off x="3352320" y="1107720"/>
            <a:ext cx="1143720" cy="262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45" idx="3"/>
            <a:endCxn id="647" idx="1"/>
          </p:cNvCxnSpPr>
          <p:nvPr/>
        </p:nvCxnSpPr>
        <p:spPr>
          <a:xfrm flipV="1">
            <a:off x="3352320" y="1736280"/>
            <a:ext cx="1143720" cy="199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45" idx="3"/>
            <a:endCxn id="646" idx="1"/>
          </p:cNvCxnSpPr>
          <p:nvPr/>
        </p:nvCxnSpPr>
        <p:spPr>
          <a:xfrm flipV="1">
            <a:off x="3352320" y="2371320"/>
            <a:ext cx="1143720" cy="1362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45" idx="3"/>
            <a:endCxn id="649" idx="1"/>
          </p:cNvCxnSpPr>
          <p:nvPr/>
        </p:nvCxnSpPr>
        <p:spPr>
          <a:xfrm>
            <a:off x="3352320" y="3733560"/>
            <a:ext cx="1143720" cy="626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45" idx="3"/>
            <a:endCxn id="650" idx="1"/>
          </p:cNvCxnSpPr>
          <p:nvPr/>
        </p:nvCxnSpPr>
        <p:spPr>
          <a:xfrm>
            <a:off x="3352320" y="3733560"/>
            <a:ext cx="1143720" cy="126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45" idx="3"/>
            <a:endCxn id="651" idx="1"/>
          </p:cNvCxnSpPr>
          <p:nvPr/>
        </p:nvCxnSpPr>
        <p:spPr>
          <a:xfrm>
            <a:off x="3352320" y="3733560"/>
            <a:ext cx="1143720" cy="1975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45" idx="3"/>
            <a:endCxn id="652" idx="1"/>
          </p:cNvCxnSpPr>
          <p:nvPr/>
        </p:nvCxnSpPr>
        <p:spPr>
          <a:xfrm>
            <a:off x="3352320" y="3733560"/>
            <a:ext cx="1143720" cy="2594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0" name=""/>
          <p:cNvSpPr/>
          <p:nvPr/>
        </p:nvSpPr>
        <p:spPr>
          <a:xfrm>
            <a:off x="4495680" y="2692440"/>
            <a:ext cx="4419720" cy="625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4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rocesa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mineral sólido y sus subproductos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95680" y="341784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5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antene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equipos e instalaciones, según programa de mantención y de acuerdo a las normas, estándare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stCxn id="645" idx="3"/>
            <a:endCxn id="660" idx="1"/>
          </p:cNvCxnSpPr>
          <p:nvPr/>
        </p:nvCxnSpPr>
        <p:spPr>
          <a:xfrm flipV="1">
            <a:off x="3352320" y="3009240"/>
            <a:ext cx="1143720" cy="724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3" name=""/>
          <p:cNvCxnSpPr>
            <a:stCxn id="645" idx="3"/>
            <a:endCxn id="661" idx="1"/>
          </p:cNvCxnSpPr>
          <p:nvPr/>
        </p:nvCxnSpPr>
        <p:spPr>
          <a:xfrm>
            <a:off x="3352320" y="3733920"/>
            <a:ext cx="11437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4" name="">
            <a:hlinkClick r:id="rId1" action="ppaction://hlinksldjump"/>
          </p:cNvPr>
          <p:cNvSpPr/>
          <p:nvPr/>
        </p:nvSpPr>
        <p:spPr>
          <a:xfrm>
            <a:off x="609480" y="6324480"/>
            <a:ext cx="914400" cy="457200"/>
          </a:xfrm>
          <a:custGeom>
            <a:avLst/>
            <a:gdLst>
              <a:gd name="textAreaLeft" fmla="*/ 85680 w 914400"/>
              <a:gd name="textAreaRight" fmla="*/ 828720 w 914400"/>
              <a:gd name="textAreaTop" fmla="*/ 85680 h 457200"/>
              <a:gd name="textAreaBottom" fmla="*/ 37152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39133" y="4050"/>
                </a:lnTo>
                <a:lnTo>
                  <a:pt x="4050" y="405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39133" y="17550"/>
                </a:lnTo>
                <a:lnTo>
                  <a:pt x="39133" y="405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39133" y="1755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43183" h="21600">
                <a:moveTo>
                  <a:pt x="16560" y="5769"/>
                </a:moveTo>
                <a:lnTo>
                  <a:pt x="26623" y="10800"/>
                </a:lnTo>
                <a:lnTo>
                  <a:pt x="16560" y="15831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1143000"/>
            <a:ext cx="44960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Impact"/>
              </a:rPr>
              <a:t>Gestión por Competencias Laborales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572000"/>
            <a:ext cx="411480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Gestión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Prof. Cristian Binime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638680"/>
            <a:ext cx="43434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M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443F1-D4D6-48A2-A6E5-7B970F2984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666880" y="2960640"/>
            <a:ext cx="1752840" cy="153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neral sólido, productos y  subproductos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"/>
          <p:cNvCxnSpPr>
            <a:stCxn id="665" idx="3"/>
            <a:endCxn id="667" idx="1"/>
          </p:cNvCxnSpPr>
          <p:nvPr/>
        </p:nvCxnSpPr>
        <p:spPr>
          <a:xfrm flipV="1">
            <a:off x="4419720" y="2145960"/>
            <a:ext cx="305280" cy="15883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stCxn id="665" idx="3"/>
            <a:endCxn id="669" idx="1"/>
          </p:cNvCxnSpPr>
          <p:nvPr/>
        </p:nvCxnSpPr>
        <p:spPr>
          <a:xfrm>
            <a:off x="4419720" y="3733560"/>
            <a:ext cx="305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7" name=""/>
          <p:cNvSpPr/>
          <p:nvPr/>
        </p:nvSpPr>
        <p:spPr>
          <a:xfrm>
            <a:off x="4724280" y="1828800"/>
            <a:ext cx="2819520" cy="625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24280" y="3416400"/>
            <a:ext cx="2819520" cy="625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24280" y="4853160"/>
            <a:ext cx="2819520" cy="625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, según estándares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"/>
          <p:cNvCxnSpPr>
            <a:stCxn id="665" idx="3"/>
            <a:endCxn id="670" idx="1"/>
          </p:cNvCxnSpPr>
          <p:nvPr/>
        </p:nvCxnSpPr>
        <p:spPr>
          <a:xfrm>
            <a:off x="4419720" y="3733920"/>
            <a:ext cx="305280" cy="14371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2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3043080"/>
            <a:ext cx="1752480" cy="990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67280" y="321300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rn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67280" y="400068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281952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ment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67280" y="360684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anc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743200" y="3317760"/>
            <a:ext cx="266688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9" name=""/>
          <p:cNvCxnSpPr>
            <a:stCxn id="673" idx="3"/>
            <a:endCxn id="678" idx="1"/>
          </p:cNvCxnSpPr>
          <p:nvPr/>
        </p:nvCxnSpPr>
        <p:spPr>
          <a:xfrm>
            <a:off x="2437920" y="354312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0" name=""/>
          <p:cNvCxnSpPr>
            <a:stCxn id="678" idx="3"/>
            <a:endCxn id="676" idx="1"/>
          </p:cNvCxnSpPr>
          <p:nvPr/>
        </p:nvCxnSpPr>
        <p:spPr>
          <a:xfrm flipV="1">
            <a:off x="5409720" y="2967840"/>
            <a:ext cx="438840" cy="57564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1" name=""/>
          <p:cNvCxnSpPr>
            <a:stCxn id="678" idx="3"/>
            <a:endCxn id="674" idx="1"/>
          </p:cNvCxnSpPr>
          <p:nvPr/>
        </p:nvCxnSpPr>
        <p:spPr>
          <a:xfrm flipV="1">
            <a:off x="5409720" y="3361680"/>
            <a:ext cx="438840" cy="18180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2" name=""/>
          <p:cNvCxnSpPr>
            <a:stCxn id="678" idx="3"/>
            <a:endCxn id="677" idx="1"/>
          </p:cNvCxnSpPr>
          <p:nvPr/>
        </p:nvCxnSpPr>
        <p:spPr>
          <a:xfrm>
            <a:off x="5409720" y="3543480"/>
            <a:ext cx="438840" cy="21312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3" name=""/>
          <p:cNvCxnSpPr>
            <a:stCxn id="678" idx="3"/>
            <a:endCxn id="675" idx="1"/>
          </p:cNvCxnSpPr>
          <p:nvPr/>
        </p:nvCxnSpPr>
        <p:spPr>
          <a:xfrm>
            <a:off x="5409720" y="3543480"/>
            <a:ext cx="438840" cy="60696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762120" y="2895480"/>
            <a:ext cx="175248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38680" y="325908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3.1.2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roceso molienda con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38680" y="290340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o chan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19520" y="3186000"/>
            <a:ext cx="243828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5" idx="3"/>
            <a:endCxn id="688" idx="1"/>
          </p:cNvCxnSpPr>
          <p:nvPr/>
        </p:nvCxnSpPr>
        <p:spPr>
          <a:xfrm>
            <a:off x="2514240" y="3395520"/>
            <a:ext cx="305640" cy="1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8" idx="3"/>
            <a:endCxn id="687" idx="1"/>
          </p:cNvCxnSpPr>
          <p:nvPr/>
        </p:nvCxnSpPr>
        <p:spPr>
          <a:xfrm flipV="1">
            <a:off x="5257440" y="3052800"/>
            <a:ext cx="362520" cy="35892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8" idx="3"/>
            <a:endCxn id="686" idx="1"/>
          </p:cNvCxnSpPr>
          <p:nvPr/>
        </p:nvCxnSpPr>
        <p:spPr>
          <a:xfrm flipV="1">
            <a:off x="5257440" y="3408120"/>
            <a:ext cx="362520" cy="36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5638680" y="361008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o molienda S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stCxn id="688" idx="3"/>
            <a:endCxn id="692" idx="1"/>
          </p:cNvCxnSpPr>
          <p:nvPr/>
        </p:nvCxnSpPr>
        <p:spPr>
          <a:xfrm>
            <a:off x="5257440" y="3411360"/>
            <a:ext cx="362520" cy="34848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685800" y="2943360"/>
            <a:ext cx="1752480" cy="1173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, según estándares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5" idx="3"/>
            <a:endCxn id="697" idx="1"/>
          </p:cNvCxnSpPr>
          <p:nvPr/>
        </p:nvCxnSpPr>
        <p:spPr>
          <a:xfrm>
            <a:off x="2437920" y="353340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2743200" y="3216240"/>
            <a:ext cx="243828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62720" y="274320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chan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562720" y="328932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molienda conven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562720" y="383868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molienda S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stCxn id="697" idx="3"/>
            <a:endCxn id="698" idx="1"/>
          </p:cNvCxnSpPr>
          <p:nvPr/>
        </p:nvCxnSpPr>
        <p:spPr>
          <a:xfrm flipV="1">
            <a:off x="5181480" y="2982600"/>
            <a:ext cx="362520" cy="55152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97" idx="3"/>
            <a:endCxn id="699" idx="1"/>
          </p:cNvCxnSpPr>
          <p:nvPr/>
        </p:nvCxnSpPr>
        <p:spPr>
          <a:xfrm flipV="1">
            <a:off x="5181480" y="3528360"/>
            <a:ext cx="362520" cy="54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7" idx="3"/>
            <a:endCxn id="700" idx="1"/>
          </p:cNvCxnSpPr>
          <p:nvPr/>
        </p:nvCxnSpPr>
        <p:spPr>
          <a:xfrm>
            <a:off x="5181480" y="3533400"/>
            <a:ext cx="362520" cy="5454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42840" y="71424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1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1 Controlar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1 Detener y poner en marcha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942840" y="1905120"/>
            <a:ext cx="72583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2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Operar Equipos Planta Chanc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2 Operar har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1 Operar alimen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3 Operar chanc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42840" y="336240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3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2 Controlar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2 Detener y poner en marcha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942840" y="568656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5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Operar Equipos Planta Molie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4 Operar mol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5.5.2 Agregar cuerpo moledor a mol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42840" y="454356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4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3 Controlar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3 Detener y poner en marcha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685800" y="1600200"/>
            <a:ext cx="1523880" cy="533520"/>
            <a:chOff x="685800" y="1600200"/>
            <a:chExt cx="1523880" cy="533520"/>
          </a:xfrm>
        </p:grpSpPr>
        <p:sp>
          <p:nvSpPr>
            <p:cNvPr id="712" name=""/>
            <p:cNvSpPr/>
            <p:nvPr/>
          </p:nvSpPr>
          <p:spPr>
            <a:xfrm>
              <a:off x="685800" y="1600200"/>
              <a:ext cx="1523880" cy="533520"/>
            </a:xfrm>
            <a:prstGeom prst="wedgeRoundRectCallout">
              <a:avLst>
                <a:gd name="adj1" fmla="val 75208"/>
                <a:gd name="adj2" fmla="val -1756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2120" y="16606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ítu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480" y="3200400"/>
            <a:ext cx="1981440" cy="1295280"/>
            <a:chOff x="609480" y="3200400"/>
            <a:chExt cx="1981440" cy="1295280"/>
          </a:xfrm>
        </p:grpSpPr>
        <p:sp>
          <p:nvSpPr>
            <p:cNvPr id="715" name=""/>
            <p:cNvSpPr/>
            <p:nvPr/>
          </p:nvSpPr>
          <p:spPr>
            <a:xfrm>
              <a:off x="609480" y="3200400"/>
              <a:ext cx="1981440" cy="1295280"/>
            </a:xfrm>
            <a:prstGeom prst="wedgeRoundRectCallout">
              <a:avLst>
                <a:gd name="adj1" fmla="val 86699"/>
                <a:gd name="adj2" fmla="val -5723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480" y="3504960"/>
              <a:ext cx="19814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mentos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é debe hacers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2438280" y="1600200"/>
            <a:ext cx="4496040" cy="4191120"/>
          </a:xfrm>
          <a:prstGeom prst="flowChartDocumen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010280" y="1752480"/>
            <a:ext cx="1905120" cy="1143000"/>
            <a:chOff x="7010280" y="1752480"/>
            <a:chExt cx="1905120" cy="1143000"/>
          </a:xfrm>
        </p:grpSpPr>
        <p:sp>
          <p:nvSpPr>
            <p:cNvPr id="719" name=""/>
            <p:cNvSpPr/>
            <p:nvPr/>
          </p:nvSpPr>
          <p:spPr>
            <a:xfrm>
              <a:off x="7010280" y="1752480"/>
              <a:ext cx="1905120" cy="1143000"/>
            </a:xfrm>
            <a:prstGeom prst="wedgeRoundRectCallout">
              <a:avLst>
                <a:gd name="adj1" fmla="val -76500"/>
                <a:gd name="adj2" fmla="val -2083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86600" y="19810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pción 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1" name=""/>
          <p:cNvGraphicFramePr/>
          <p:nvPr/>
        </p:nvGraphicFramePr>
        <p:xfrm>
          <a:off x="2438280" y="1676520"/>
          <a:ext cx="43434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76520"/>
                    <a:ext cx="43434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7162920" y="3733920"/>
            <a:ext cx="1904760" cy="1143000"/>
          </a:xfrm>
          <a:prstGeom prst="wedgeRoundRectCallout">
            <a:avLst>
              <a:gd name="adj1" fmla="val -87166"/>
              <a:gd name="adj2" fmla="val -486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58000" y="388620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erio de Desempeñ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ómo debe hacerse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6" name=""/>
          <p:cNvGraphicFramePr/>
          <p:nvPr/>
        </p:nvGraphicFramePr>
        <p:xfrm>
          <a:off x="2425680" y="1854360"/>
          <a:ext cx="4318200" cy="157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5680" y="1854360"/>
                    <a:ext cx="431820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2400480" y="1752480"/>
            <a:ext cx="4419360" cy="41148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09480" y="1523880"/>
            <a:ext cx="1904760" cy="1067040"/>
            <a:chOff x="609480" y="1523880"/>
            <a:chExt cx="1904760" cy="1067040"/>
          </a:xfrm>
        </p:grpSpPr>
        <p:sp>
          <p:nvSpPr>
            <p:cNvPr id="730" name=""/>
            <p:cNvSpPr/>
            <p:nvPr/>
          </p:nvSpPr>
          <p:spPr>
            <a:xfrm>
              <a:off x="609480" y="1523880"/>
              <a:ext cx="1904760" cy="1067040"/>
            </a:xfrm>
            <a:prstGeom prst="wedgeRoundRectCallout">
              <a:avLst>
                <a:gd name="adj1" fmla="val 64750"/>
                <a:gd name="adj2" fmla="val -1741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5440" y="1584360"/>
              <a:ext cx="1752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mpo de Aplicación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n las diversas circunsta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896160" y="2286000"/>
            <a:ext cx="1828800" cy="838080"/>
            <a:chOff x="6896160" y="2286000"/>
            <a:chExt cx="1828800" cy="838080"/>
          </a:xfrm>
        </p:grpSpPr>
        <p:sp>
          <p:nvSpPr>
            <p:cNvPr id="733" name=""/>
            <p:cNvSpPr/>
            <p:nvPr/>
          </p:nvSpPr>
          <p:spPr>
            <a:xfrm>
              <a:off x="6896160" y="2286000"/>
              <a:ext cx="1828800" cy="838080"/>
            </a:xfrm>
            <a:prstGeom prst="wedgeRoundRectCallout">
              <a:avLst>
                <a:gd name="adj1" fmla="val -159981"/>
                <a:gd name="adj2" fmla="val -2992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72480" y="2286000"/>
              <a:ext cx="1600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diciones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ñala el lugar, ent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09480" y="3429000"/>
            <a:ext cx="1828800" cy="1219320"/>
            <a:chOff x="609480" y="3429000"/>
            <a:chExt cx="1828800" cy="1219320"/>
          </a:xfrm>
        </p:grpSpPr>
        <p:sp>
          <p:nvSpPr>
            <p:cNvPr id="736" name=""/>
            <p:cNvSpPr/>
            <p:nvPr/>
          </p:nvSpPr>
          <p:spPr>
            <a:xfrm>
              <a:off x="609480" y="3429000"/>
              <a:ext cx="1828800" cy="1219320"/>
            </a:xfrm>
            <a:prstGeom prst="wedgeRoundRectCallout">
              <a:avLst>
                <a:gd name="adj1" fmla="val 69967"/>
                <a:gd name="adj2" fmla="val -7773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1760" y="3505320"/>
              <a:ext cx="1676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tuaciones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xto laboral relacionado a una tarea específ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819840" y="3581280"/>
            <a:ext cx="2057400" cy="914400"/>
            <a:chOff x="6819840" y="3581280"/>
            <a:chExt cx="2057400" cy="914400"/>
          </a:xfrm>
        </p:grpSpPr>
        <p:sp>
          <p:nvSpPr>
            <p:cNvPr id="739" name=""/>
            <p:cNvSpPr/>
            <p:nvPr/>
          </p:nvSpPr>
          <p:spPr>
            <a:xfrm>
              <a:off x="6858000" y="3581280"/>
              <a:ext cx="1981080" cy="914400"/>
            </a:xfrm>
            <a:prstGeom prst="wedgeRoundRectCallout">
              <a:avLst>
                <a:gd name="adj1" fmla="val -70111"/>
                <a:gd name="adj2" fmla="val 111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19840" y="3657600"/>
              <a:ext cx="20574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rramien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Instrumental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2" name=""/>
          <p:cNvGraphicFramePr/>
          <p:nvPr/>
        </p:nvGraphicFramePr>
        <p:xfrm>
          <a:off x="2428920" y="1828800"/>
          <a:ext cx="38577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828800"/>
                    <a:ext cx="38577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"/>
          <p:cNvSpPr/>
          <p:nvPr/>
        </p:nvSpPr>
        <p:spPr>
          <a:xfrm>
            <a:off x="2362320" y="1676520"/>
            <a:ext cx="4114800" cy="4800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29400" y="1143000"/>
            <a:ext cx="1981080" cy="1219320"/>
          </a:xfrm>
          <a:prstGeom prst="wedgeRoundRectCallout">
            <a:avLst>
              <a:gd name="adj1" fmla="val -82370"/>
              <a:gd name="adj2" fmla="val 1262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121932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idencia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muestran las destrezas y habilidades del trabaj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3048120"/>
            <a:ext cx="2209680" cy="761760"/>
          </a:xfrm>
          <a:prstGeom prst="wedgeRoundRectCallout">
            <a:avLst>
              <a:gd name="adj1" fmla="val -69398"/>
              <a:gd name="adj2" fmla="val -1031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81680" y="3048120"/>
            <a:ext cx="19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eriencia laboral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eración de los trabajos real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9480" y="3048120"/>
            <a:ext cx="1600200" cy="914400"/>
          </a:xfrm>
          <a:prstGeom prst="wedgeRoundRectCallout">
            <a:avLst>
              <a:gd name="adj1" fmla="val 76092"/>
              <a:gd name="adj2" fmla="val -7118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120" y="30481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ació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l trabajador es observ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114800"/>
            <a:ext cx="1828800" cy="1676520"/>
          </a:xfrm>
          <a:prstGeom prst="wedgeRoundRectCallout">
            <a:avLst>
              <a:gd name="adj1" fmla="val -83074"/>
              <a:gd name="adj2" fmla="val -47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934320" y="4191120"/>
            <a:ext cx="17524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s evidencia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os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ueb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mon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914400" y="990720"/>
          <a:ext cx="34416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34416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762120" y="914400"/>
            <a:ext cx="3657600" cy="45720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648320" y="914400"/>
            <a:ext cx="2286000" cy="1295280"/>
          </a:xfrm>
          <a:prstGeom prst="wedgeRoundRectCallout">
            <a:avLst>
              <a:gd name="adj1" fmla="val -88125"/>
              <a:gd name="adj2" fmla="val -281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48320" y="914400"/>
            <a:ext cx="2209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a de Conocimiento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era los conocimientos que el trabajador debe pos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4724280" y="2590920"/>
          <a:ext cx="3876840" cy="2324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590920"/>
                    <a:ext cx="38768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/>
          <p:cNvSpPr/>
          <p:nvPr/>
        </p:nvSpPr>
        <p:spPr>
          <a:xfrm>
            <a:off x="4572000" y="2438280"/>
            <a:ext cx="4114800" cy="31244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10800000">
            <a:off x="3352320" y="4952520"/>
            <a:ext cx="2210040" cy="1676520"/>
          </a:xfrm>
          <a:prstGeom prst="wedgeRoundRectCallout">
            <a:avLst>
              <a:gd name="adj1" fmla="val -75791"/>
              <a:gd name="adj2" fmla="val 61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429000" y="5029200"/>
            <a:ext cx="2057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a de Conducta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Proporciona información más detallada sobre el “cómo deben ser ejecutadas las tarea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MO SE EVALÚAN LAS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5256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diante el cual se recogen evidencias sobre el desempeño laboral de un individuo, con el fin de determinar si es competente o aún no competente para realizar una función laboral determi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l referente para la evaluación son Estándares de Competencia Laboral definidos por el mundo produc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565360" y="1676520"/>
            <a:ext cx="6730920" cy="1143000"/>
            <a:chOff x="2565360" y="1676520"/>
            <a:chExt cx="6730920" cy="1143000"/>
          </a:xfrm>
        </p:grpSpPr>
        <p:grpSp>
          <p:nvGrpSpPr>
            <p:cNvPr id="55" name=""/>
            <p:cNvGrpSpPr/>
            <p:nvPr/>
          </p:nvGrpSpPr>
          <p:grpSpPr>
            <a:xfrm>
              <a:off x="2565360" y="1676520"/>
              <a:ext cx="2616120" cy="1143000"/>
              <a:chOff x="2565360" y="1676520"/>
              <a:chExt cx="2616120" cy="1143000"/>
            </a:xfrm>
          </p:grpSpPr>
          <p:sp>
            <p:nvSpPr>
              <p:cNvPr id="56" name=""/>
              <p:cNvSpPr/>
              <p:nvPr/>
            </p:nvSpPr>
            <p:spPr>
              <a:xfrm>
                <a:off x="2590560" y="1676520"/>
                <a:ext cx="243864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65360" y="1859040"/>
                <a:ext cx="26161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K/Australia/OECD Alfabetización y Destrezas Mínimas ’90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6400800" y="1676520"/>
              <a:ext cx="2895480" cy="11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Lecto / Escritura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 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Numé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Resolución de Proble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Uso Informá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3396240" y="1914120"/>
            <a:ext cx="2122920" cy="4095720"/>
          </a:xfrm>
          <a:prstGeom prst="line">
            <a:avLst/>
          </a:prstGeom>
          <a:ln w="38160">
            <a:solidFill>
              <a:srgbClr val="99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39720" y="5105520"/>
            <a:ext cx="8435880" cy="1327320"/>
            <a:chOff x="639720" y="5105520"/>
            <a:chExt cx="8435880" cy="1327320"/>
          </a:xfrm>
        </p:grpSpPr>
        <p:sp>
          <p:nvSpPr>
            <p:cNvPr id="61" name=""/>
            <p:cNvSpPr/>
            <p:nvPr/>
          </p:nvSpPr>
          <p:spPr>
            <a:xfrm>
              <a:off x="3886200" y="5334120"/>
              <a:ext cx="220968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Grupos de Comportamientos / Conductas (Cluster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105520"/>
              <a:ext cx="2674800" cy="13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Orientación al Log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Inicia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Atención en Detal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Gestión de Person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Manejo de Grup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639720" y="5160960"/>
              <a:ext cx="2712960" cy="1218960"/>
              <a:chOff x="639720" y="5160960"/>
              <a:chExt cx="2712960" cy="1218960"/>
            </a:xfrm>
          </p:grpSpPr>
          <p:sp>
            <p:nvSpPr>
              <p:cNvPr id="64" name=""/>
              <p:cNvSpPr/>
              <p:nvPr/>
            </p:nvSpPr>
            <p:spPr>
              <a:xfrm>
                <a:off x="639720" y="5160960"/>
                <a:ext cx="259092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39720" y="5236920"/>
                <a:ext cx="2712960" cy="11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Predecir el éxito de una persona en ciertos ro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374"/>
                  </a:spcBef>
                  <a:buClr>
                    <a:srgbClr val="ffffff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McClelland ’76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374"/>
                  </a:spcBef>
                  <a:buClr>
                    <a:srgbClr val="ffffff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Boyatzis ‘8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1523880" y="3352680"/>
            <a:ext cx="7620120" cy="1217880"/>
            <a:chOff x="1523880" y="3352680"/>
            <a:chExt cx="7620120" cy="1217880"/>
          </a:xfrm>
        </p:grpSpPr>
        <p:sp>
          <p:nvSpPr>
            <p:cNvPr id="67" name=""/>
            <p:cNvSpPr/>
            <p:nvPr/>
          </p:nvSpPr>
          <p:spPr>
            <a:xfrm>
              <a:off x="4648320" y="3654360"/>
              <a:ext cx="190476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Definición técnica sobre cómo ejercer el trabajo Competente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00800" y="3429000"/>
              <a:ext cx="2743200" cy="11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Control Lixiv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Mis-en-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Revisión de Av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 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de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Planificar un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523880" y="3352680"/>
              <a:ext cx="2563920" cy="1206360"/>
              <a:chOff x="1523880" y="3352680"/>
              <a:chExt cx="2563920" cy="1206360"/>
            </a:xfrm>
          </p:grpSpPr>
          <p:sp>
            <p:nvSpPr>
              <p:cNvPr id="70" name=""/>
              <p:cNvSpPr/>
              <p:nvPr/>
            </p:nvSpPr>
            <p:spPr>
              <a:xfrm>
                <a:off x="1523880" y="3352680"/>
                <a:ext cx="2563920" cy="12063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573200" y="3429000"/>
                <a:ext cx="2438280" cy="10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SA – Desarrollo de Cursos ‘8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K - Definición de Contenidos ’80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HISTORIA DE LAS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2476440" y="1719360"/>
            <a:ext cx="0" cy="3444840"/>
          </a:xfrm>
          <a:prstGeom prst="line">
            <a:avLst/>
          </a:prstGeom>
          <a:ln w="38160">
            <a:solidFill>
              <a:srgbClr val="0033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76440" y="5164200"/>
            <a:ext cx="60962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935440" y="2193840"/>
            <a:ext cx="10209960" cy="457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9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931"/>
              </a:path>
            </a:pathLst>
          </a:custGeom>
          <a:noFill/>
          <a:ln cap="rnd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51240" y="1295280"/>
            <a:ext cx="209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495520" y="5300640"/>
            <a:ext cx="615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ación, Desarrollo y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241720" y="3119400"/>
            <a:ext cx="1688760" cy="64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47840" y="2268360"/>
            <a:ext cx="4191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12800" y="1933560"/>
            <a:ext cx="163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ánd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up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5560" y="2909880"/>
            <a:ext cx="1544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ándar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40680" y="2624040"/>
            <a:ext cx="2093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i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gar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108920" y="2633760"/>
            <a:ext cx="1958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encia en el Trabajo en est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91240" y="2344680"/>
            <a:ext cx="457200" cy="3049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92800" y="2046240"/>
            <a:ext cx="520920" cy="520920"/>
          </a:xfrm>
          <a:prstGeom prst="ellipse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41600" y="4471920"/>
            <a:ext cx="432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ción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3520" y="44280"/>
            <a:ext cx="652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CUÁNDO EVALUAR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09480" y="3619440"/>
            <a:ext cx="16002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eunión P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de Evalu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49800" y="1638360"/>
            <a:ext cx="16002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Super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249800" y="2019240"/>
            <a:ext cx="16002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andid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249800" y="2400480"/>
            <a:ext cx="1600200" cy="304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97160" y="1486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427640" y="12193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Coord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"/>
          <p:cNvCxnSpPr>
            <a:stCxn id="782" idx="3"/>
            <a:endCxn id="786" idx="1"/>
          </p:cNvCxnSpPr>
          <p:nvPr/>
        </p:nvCxnSpPr>
        <p:spPr>
          <a:xfrm flipV="1">
            <a:off x="2209320" y="2171520"/>
            <a:ext cx="1888200" cy="167688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9" name=""/>
          <p:cNvSpPr/>
          <p:nvPr/>
        </p:nvSpPr>
        <p:spPr>
          <a:xfrm>
            <a:off x="2524680" y="194328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querimien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49800" y="3505320"/>
            <a:ext cx="1600200" cy="304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Observació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249800" y="3886200"/>
            <a:ext cx="1600200" cy="304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Observació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97160" y="3352680"/>
            <a:ext cx="19051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035240" y="3086280"/>
            <a:ext cx="20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 / Candid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4" name=""/>
          <p:cNvCxnSpPr>
            <a:stCxn id="782" idx="3"/>
            <a:endCxn id="792" idx="1"/>
          </p:cNvCxnSpPr>
          <p:nvPr/>
        </p:nvCxnSpPr>
        <p:spPr>
          <a:xfrm>
            <a:off x="2209320" y="3847680"/>
            <a:ext cx="1888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"/>
          <p:cNvSpPr/>
          <p:nvPr/>
        </p:nvSpPr>
        <p:spPr>
          <a:xfrm>
            <a:off x="2363040" y="361944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aluación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abilidad en terr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9800" y="5346720"/>
            <a:ext cx="1600200" cy="304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Ent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097160" y="5194440"/>
            <a:ext cx="19051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035240" y="4927680"/>
            <a:ext cx="20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 / Candid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9" name=""/>
          <p:cNvCxnSpPr>
            <a:stCxn id="782" idx="3"/>
            <a:endCxn id="797" idx="1"/>
          </p:cNvCxnSpPr>
          <p:nvPr/>
        </p:nvCxnSpPr>
        <p:spPr>
          <a:xfrm>
            <a:off x="2209320" y="3847680"/>
            <a:ext cx="1888200" cy="167076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0" name=""/>
          <p:cNvSpPr/>
          <p:nvPr/>
        </p:nvSpPr>
        <p:spPr>
          <a:xfrm>
            <a:off x="2550960" y="5295960"/>
            <a:ext cx="128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aluació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oc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94560" y="308628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315200" y="3505320"/>
            <a:ext cx="1600200" cy="304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Análisis Porta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15200" y="3886200"/>
            <a:ext cx="1600200" cy="304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Juicio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162920" y="3352680"/>
            <a:ext cx="19047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5" name=""/>
          <p:cNvCxnSpPr>
            <a:stCxn id="786" idx="3"/>
            <a:endCxn id="804" idx="1"/>
          </p:cNvCxnSpPr>
          <p:nvPr/>
        </p:nvCxnSpPr>
        <p:spPr>
          <a:xfrm>
            <a:off x="6002280" y="2171880"/>
            <a:ext cx="1161360" cy="167688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6" name=""/>
          <p:cNvCxnSpPr>
            <a:stCxn id="792" idx="3"/>
            <a:endCxn id="804" idx="1"/>
          </p:cNvCxnSpPr>
          <p:nvPr/>
        </p:nvCxnSpPr>
        <p:spPr>
          <a:xfrm>
            <a:off x="6002280" y="3847680"/>
            <a:ext cx="1161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797" idx="3"/>
            <a:endCxn id="804" idx="1"/>
          </p:cNvCxnSpPr>
          <p:nvPr/>
        </p:nvCxnSpPr>
        <p:spPr>
          <a:xfrm flipV="1">
            <a:off x="6002280" y="3847320"/>
            <a:ext cx="1161360" cy="167076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44280"/>
            <a:ext cx="7772400" cy="8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EVALUACIÓN DE COMPETENCIAS FUNCIONALES:</a:t>
            </a:r>
            <a:br>
              <a:rPr sz="1600"/>
            </a:br>
            <a:br>
              <a:rPr sz="1600"/>
            </a:b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STRUCCIÓN DEL PORTAFOLIO DE EV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4495680" y="2133720"/>
            <a:ext cx="2286000" cy="4245120"/>
            <a:chOff x="4495680" y="2133720"/>
            <a:chExt cx="2286000" cy="4245120"/>
          </a:xfrm>
        </p:grpSpPr>
        <p:sp>
          <p:nvSpPr>
            <p:cNvPr id="810" name=""/>
            <p:cNvSpPr/>
            <p:nvPr/>
          </p:nvSpPr>
          <p:spPr>
            <a:xfrm>
              <a:off x="4876560" y="213372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Capaci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Fuera del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76560" y="272736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ntrena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n el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76560" y="332280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Reun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de Cla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76560" y="391644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Pasantí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76560" y="451008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Asign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speci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5" name=""/>
            <p:cNvCxnSpPr>
              <a:stCxn id="816" idx="3"/>
              <a:endCxn id="813" idx="1"/>
            </p:cNvCxnSpPr>
            <p:nvPr/>
          </p:nvCxnSpPr>
          <p:spPr>
            <a:xfrm>
              <a:off x="4495680" y="4178520"/>
              <a:ext cx="381600" cy="10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sp>
          <p:nvSpPr>
            <p:cNvPr id="817" name=""/>
            <p:cNvSpPr/>
            <p:nvPr/>
          </p:nvSpPr>
          <p:spPr>
            <a:xfrm>
              <a:off x="4876560" y="510372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Coa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76560" y="569772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Ment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9" name=""/>
            <p:cNvCxnSpPr>
              <a:stCxn id="816" idx="3"/>
              <a:endCxn id="810" idx="1"/>
            </p:cNvCxnSpPr>
            <p:nvPr/>
          </p:nvCxnSpPr>
          <p:spPr>
            <a:xfrm flipV="1">
              <a:off x="4495680" y="2404800"/>
              <a:ext cx="381600" cy="1774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0" name=""/>
            <p:cNvCxnSpPr>
              <a:stCxn id="816" idx="3"/>
              <a:endCxn id="818" idx="1"/>
            </p:cNvCxnSpPr>
            <p:nvPr/>
          </p:nvCxnSpPr>
          <p:spPr>
            <a:xfrm>
              <a:off x="4495680" y="4178520"/>
              <a:ext cx="381600" cy="17913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1" name=""/>
            <p:cNvCxnSpPr>
              <a:stCxn id="816" idx="3"/>
              <a:endCxn id="811" idx="1"/>
            </p:cNvCxnSpPr>
            <p:nvPr/>
          </p:nvCxnSpPr>
          <p:spPr>
            <a:xfrm flipV="1">
              <a:off x="4495680" y="2998080"/>
              <a:ext cx="381600" cy="118044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2" name=""/>
            <p:cNvCxnSpPr>
              <a:stCxn id="816" idx="3"/>
              <a:endCxn id="817" idx="1"/>
            </p:cNvCxnSpPr>
            <p:nvPr/>
          </p:nvCxnSpPr>
          <p:spPr>
            <a:xfrm>
              <a:off x="4495680" y="4178160"/>
              <a:ext cx="381600" cy="11973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3" name=""/>
            <p:cNvCxnSpPr>
              <a:stCxn id="816" idx="3"/>
              <a:endCxn id="813" idx="1"/>
            </p:cNvCxnSpPr>
            <p:nvPr/>
          </p:nvCxnSpPr>
          <p:spPr>
            <a:xfrm>
              <a:off x="4495680" y="4178520"/>
              <a:ext cx="381600" cy="10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4" name=""/>
            <p:cNvCxnSpPr>
              <a:stCxn id="816" idx="3"/>
              <a:endCxn id="812" idx="1"/>
            </p:cNvCxnSpPr>
            <p:nvPr/>
          </p:nvCxnSpPr>
          <p:spPr>
            <a:xfrm flipV="1">
              <a:off x="4495680" y="3593520"/>
              <a:ext cx="381600" cy="58500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5" name=""/>
            <p:cNvCxnSpPr>
              <a:stCxn id="816" idx="3"/>
              <a:endCxn id="814" idx="1"/>
            </p:cNvCxnSpPr>
            <p:nvPr/>
          </p:nvCxnSpPr>
          <p:spPr>
            <a:xfrm>
              <a:off x="4495680" y="4178160"/>
              <a:ext cx="381600" cy="6037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</p:grpSp>
      <p:grpSp>
        <p:nvGrpSpPr>
          <p:cNvPr id="826" name=""/>
          <p:cNvGrpSpPr/>
          <p:nvPr/>
        </p:nvGrpSpPr>
        <p:grpSpPr>
          <a:xfrm>
            <a:off x="2437920" y="3789360"/>
            <a:ext cx="2133720" cy="818280"/>
            <a:chOff x="2437920" y="3789360"/>
            <a:chExt cx="2133720" cy="818280"/>
          </a:xfrm>
        </p:grpSpPr>
        <p:sp>
          <p:nvSpPr>
            <p:cNvPr id="816" name=""/>
            <p:cNvSpPr/>
            <p:nvPr/>
          </p:nvSpPr>
          <p:spPr>
            <a:xfrm>
              <a:off x="2793600" y="3789360"/>
              <a:ext cx="1778040" cy="8182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Gap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7" name=""/>
            <p:cNvCxnSpPr>
              <a:stCxn id="828" idx="3"/>
              <a:endCxn id="816" idx="1"/>
            </p:cNvCxnSpPr>
            <p:nvPr/>
          </p:nvCxnSpPr>
          <p:spPr>
            <a:xfrm>
              <a:off x="2437920" y="4178160"/>
              <a:ext cx="356040" cy="108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  <a:tailEnd len="sm" type="triangle" w="med"/>
            </a:ln>
          </p:spPr>
        </p:cxnSp>
      </p:grpSp>
      <p:grpSp>
        <p:nvGrpSpPr>
          <p:cNvPr id="829" name=""/>
          <p:cNvGrpSpPr/>
          <p:nvPr/>
        </p:nvGrpSpPr>
        <p:grpSpPr>
          <a:xfrm>
            <a:off x="523800" y="914400"/>
            <a:ext cx="8620200" cy="709200"/>
            <a:chOff x="523800" y="914400"/>
            <a:chExt cx="8620200" cy="709200"/>
          </a:xfrm>
        </p:grpSpPr>
        <p:sp>
          <p:nvSpPr>
            <p:cNvPr id="830" name=""/>
            <p:cNvSpPr/>
            <p:nvPr/>
          </p:nvSpPr>
          <p:spPr>
            <a:xfrm>
              <a:off x="523800" y="914400"/>
              <a:ext cx="17524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Benchma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85800" y="914400"/>
              <a:ext cx="22291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Reconocimiento de la Compet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Adquir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72440" y="914400"/>
              <a:ext cx="177156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Evaluación de Aprendiz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753080" y="914400"/>
              <a:ext cx="24001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Opciones para Desarrollar las Compete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DESARROL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6781680" y="2404800"/>
            <a:ext cx="2286000" cy="3564000"/>
            <a:chOff x="6781680" y="2404800"/>
            <a:chExt cx="2286000" cy="3564000"/>
          </a:xfrm>
        </p:grpSpPr>
        <p:sp>
          <p:nvSpPr>
            <p:cNvPr id="836" name=""/>
            <p:cNvSpPr/>
            <p:nvPr/>
          </p:nvSpPr>
          <p:spPr>
            <a:xfrm>
              <a:off x="7162560" y="3789360"/>
              <a:ext cx="1905120" cy="9140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Formaliz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7" name=""/>
            <p:cNvCxnSpPr>
              <a:stCxn id="813" idx="3"/>
              <a:endCxn id="836" idx="1"/>
            </p:cNvCxnSpPr>
            <p:nvPr/>
          </p:nvCxnSpPr>
          <p:spPr>
            <a:xfrm flipV="1">
              <a:off x="6781680" y="4176000"/>
              <a:ext cx="381600" cy="118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38" name=""/>
            <p:cNvCxnSpPr>
              <a:stCxn id="810" idx="3"/>
              <a:endCxn id="836" idx="1"/>
            </p:cNvCxnSpPr>
            <p:nvPr/>
          </p:nvCxnSpPr>
          <p:spPr>
            <a:xfrm>
              <a:off x="6781680" y="2404800"/>
              <a:ext cx="381600" cy="17722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39" name=""/>
            <p:cNvCxnSpPr>
              <a:stCxn id="811" idx="3"/>
              <a:endCxn id="836" idx="1"/>
            </p:cNvCxnSpPr>
            <p:nvPr/>
          </p:nvCxnSpPr>
          <p:spPr>
            <a:xfrm>
              <a:off x="6781680" y="2998800"/>
              <a:ext cx="381600" cy="117864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0" name=""/>
            <p:cNvCxnSpPr>
              <a:stCxn id="812" idx="3"/>
              <a:endCxn id="836" idx="1"/>
            </p:cNvCxnSpPr>
            <p:nvPr/>
          </p:nvCxnSpPr>
          <p:spPr>
            <a:xfrm>
              <a:off x="6781680" y="3594240"/>
              <a:ext cx="381600" cy="58320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18" idx="3"/>
              <a:endCxn id="836" idx="1"/>
            </p:cNvCxnSpPr>
            <p:nvPr/>
          </p:nvCxnSpPr>
          <p:spPr>
            <a:xfrm flipV="1">
              <a:off x="6781680" y="4176000"/>
              <a:ext cx="381600" cy="17931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17" idx="3"/>
              <a:endCxn id="836" idx="1"/>
            </p:cNvCxnSpPr>
            <p:nvPr/>
          </p:nvCxnSpPr>
          <p:spPr>
            <a:xfrm flipV="1">
              <a:off x="6781680" y="4176360"/>
              <a:ext cx="381600" cy="11995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14" idx="3"/>
              <a:endCxn id="836" idx="1"/>
            </p:cNvCxnSpPr>
            <p:nvPr/>
          </p:nvCxnSpPr>
          <p:spPr>
            <a:xfrm flipV="1">
              <a:off x="6781680" y="4176360"/>
              <a:ext cx="381600" cy="6055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4" name=""/>
            <p:cNvCxnSpPr>
              <a:stCxn id="813" idx="3"/>
              <a:endCxn id="836" idx="1"/>
            </p:cNvCxnSpPr>
            <p:nvPr/>
          </p:nvCxnSpPr>
          <p:spPr>
            <a:xfrm flipV="1">
              <a:off x="6781680" y="4176000"/>
              <a:ext cx="381600" cy="118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</p:grpSp>
      <p:sp>
        <p:nvSpPr>
          <p:cNvPr id="828" name=""/>
          <p:cNvSpPr/>
          <p:nvPr/>
        </p:nvSpPr>
        <p:spPr>
          <a:xfrm>
            <a:off x="609480" y="3789360"/>
            <a:ext cx="1905120" cy="818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952560" y="990720"/>
            <a:ext cx="777240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ceso por el cual un organismo de tercera parte reconoce y certifica que un individuo ha demostrado ser competente en una función laboral determinada, independientemente de la forma en que haya adquirido esa competencia y en base a estándares establecidos por el mundo 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ceso Volun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alizado por entes independientes acredi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 validez nacional y formato ú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mpa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cce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ERTIFIC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3962520" y="1233360"/>
            <a:ext cx="5104800" cy="2174760"/>
            <a:chOff x="3962520" y="1233360"/>
            <a:chExt cx="5104800" cy="2174760"/>
          </a:xfrm>
        </p:grpSpPr>
        <p:pic>
          <p:nvPicPr>
            <p:cNvPr id="848" name="" descr=""/>
            <p:cNvPicPr/>
            <p:nvPr/>
          </p:nvPicPr>
          <p:blipFill>
            <a:blip r:embed="rId1"/>
            <a:stretch/>
          </p:blipFill>
          <p:spPr>
            <a:xfrm>
              <a:off x="6095880" y="1233360"/>
              <a:ext cx="2971440" cy="21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4190760" y="1365120"/>
              <a:ext cx="2971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apa Func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14440" y="1822320"/>
              <a:ext cx="1828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Identifica las Fun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realizadas p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una Indust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62520" y="128880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819520" y="3103560"/>
            <a:ext cx="4419360" cy="3429000"/>
            <a:chOff x="2819520" y="3103560"/>
            <a:chExt cx="4419360" cy="3429000"/>
          </a:xfrm>
        </p:grpSpPr>
        <p:sp>
          <p:nvSpPr>
            <p:cNvPr id="853" name=""/>
            <p:cNvSpPr/>
            <p:nvPr/>
          </p:nvSpPr>
          <p:spPr>
            <a:xfrm>
              <a:off x="3048120" y="3405240"/>
              <a:ext cx="4190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Lista de Competenc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4" name=""/>
            <p:cNvGraphicFramePr/>
            <p:nvPr/>
          </p:nvGraphicFramePr>
          <p:xfrm>
            <a:off x="5475240" y="4170240"/>
            <a:ext cx="1763640" cy="2362320"/>
          </p:xfrm>
          <a:graphic>
            <a:graphicData uri="http://schemas.openxmlformats.org/presentationml/2006/ole">
              <p:oleObj progId="PowerPoint.Show.12" r:id="rId2" spid="">
                <p:embed/>
                <p:pic>
                  <p:nvPicPr>
                    <p:cNvPr id="8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75240" y="4170240"/>
                      <a:ext cx="1763640" cy="2362320"/>
                    </a:xfrm>
                    <a:prstGeom prst="rect">
                      <a:avLst/>
                    </a:prstGeom>
                    <a:ln w="9360">
                      <a:solidFill>
                        <a:srgbClr val="cc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56" name=""/>
            <p:cNvSpPr/>
            <p:nvPr/>
          </p:nvSpPr>
          <p:spPr>
            <a:xfrm>
              <a:off x="2819520" y="310356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76720" y="3789360"/>
              <a:ext cx="213336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Agrupación de funciones en Perfiles de Competencias por 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28600" y="914400"/>
            <a:ext cx="3580920" cy="2866320"/>
            <a:chOff x="228600" y="914400"/>
            <a:chExt cx="3580920" cy="2866320"/>
          </a:xfrm>
        </p:grpSpPr>
        <p:sp>
          <p:nvSpPr>
            <p:cNvPr id="859" name=""/>
            <p:cNvSpPr/>
            <p:nvPr/>
          </p:nvSpPr>
          <p:spPr>
            <a:xfrm>
              <a:off x="228600" y="9144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0" name="" descr=""/>
            <p:cNvPicPr/>
            <p:nvPr/>
          </p:nvPicPr>
          <p:blipFill>
            <a:blip r:embed="rId4"/>
            <a:stretch/>
          </p:blipFill>
          <p:spPr>
            <a:xfrm>
              <a:off x="2392200" y="1122120"/>
              <a:ext cx="1417320" cy="18288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861" name=""/>
            <p:cNvSpPr/>
            <p:nvPr/>
          </p:nvSpPr>
          <p:spPr>
            <a:xfrm>
              <a:off x="533160" y="950760"/>
              <a:ext cx="167616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Visión Comú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0880" y="1274760"/>
              <a:ext cx="1980720" cy="25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sobre criter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que insiden en una política definida para el proyecto, y claridad sobre la metodologia del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IMPLEMENT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"/>
          <p:cNvGrpSpPr/>
          <p:nvPr/>
        </p:nvGrpSpPr>
        <p:grpSpPr>
          <a:xfrm>
            <a:off x="4800600" y="762120"/>
            <a:ext cx="4572000" cy="3698640"/>
            <a:chOff x="4800600" y="762120"/>
            <a:chExt cx="4572000" cy="3698640"/>
          </a:xfrm>
        </p:grpSpPr>
        <p:graphicFrame>
          <p:nvGraphicFramePr>
            <p:cNvPr id="865" name=""/>
            <p:cNvGraphicFramePr/>
            <p:nvPr/>
          </p:nvGraphicFramePr>
          <p:xfrm>
            <a:off x="7467840" y="1752480"/>
            <a:ext cx="1585800" cy="1955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67840" y="1752480"/>
                      <a:ext cx="1585800" cy="195588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7" name=""/>
            <p:cNvSpPr/>
            <p:nvPr/>
          </p:nvSpPr>
          <p:spPr>
            <a:xfrm>
              <a:off x="4876920" y="914400"/>
              <a:ext cx="4495680" cy="10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Capacidades, Proceso e Instrumento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Evalu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76920" y="2133720"/>
              <a:ext cx="22860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Vinculación con el SN y creación de capacidades intern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9" name=""/>
            <p:cNvGraphicFramePr/>
            <p:nvPr/>
          </p:nvGraphicFramePr>
          <p:xfrm>
            <a:off x="6858000" y="2819520"/>
            <a:ext cx="2238480" cy="1641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0" y="2819520"/>
                      <a:ext cx="2238480" cy="164124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71" name=""/>
            <p:cNvSpPr/>
            <p:nvPr/>
          </p:nvSpPr>
          <p:spPr>
            <a:xfrm>
              <a:off x="4800600" y="7621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581280" y="4114800"/>
            <a:ext cx="5638680" cy="2514600"/>
            <a:chOff x="3581280" y="4114800"/>
            <a:chExt cx="5638680" cy="2514600"/>
          </a:xfrm>
        </p:grpSpPr>
        <p:grpSp>
          <p:nvGrpSpPr>
            <p:cNvPr id="873" name=""/>
            <p:cNvGrpSpPr/>
            <p:nvPr/>
          </p:nvGrpSpPr>
          <p:grpSpPr>
            <a:xfrm>
              <a:off x="3581280" y="4341960"/>
              <a:ext cx="5638680" cy="2287440"/>
              <a:chOff x="3581280" y="4341960"/>
              <a:chExt cx="5638680" cy="2287440"/>
            </a:xfrm>
          </p:grpSpPr>
          <p:sp>
            <p:nvSpPr>
              <p:cNvPr id="874" name=""/>
              <p:cNvSpPr/>
              <p:nvPr/>
            </p:nvSpPr>
            <p:spPr>
              <a:xfrm>
                <a:off x="4343400" y="4341960"/>
                <a:ext cx="4876560" cy="71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Brechas de Competencias Establecidas y Asumid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75" name=""/>
              <p:cNvGraphicFramePr/>
              <p:nvPr/>
            </p:nvGraphicFramePr>
            <p:xfrm>
              <a:off x="5867280" y="5237280"/>
              <a:ext cx="3048120" cy="131616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87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67280" y="5237280"/>
                        <a:ext cx="3048120" cy="1316160"/>
                      </a:xfrm>
                      <a:prstGeom prst="rect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877" name=""/>
              <p:cNvSpPr/>
              <p:nvPr/>
            </p:nvSpPr>
            <p:spPr>
              <a:xfrm>
                <a:off x="3581280" y="5256360"/>
                <a:ext cx="25146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990000"/>
                    </a:solidFill>
                    <a:latin typeface="Arial"/>
                  </a:rPr>
                  <a:t>Brecha establecida, presentada y entendi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78" name=""/>
              <p:cNvGraphicFramePr/>
              <p:nvPr/>
            </p:nvGraphicFramePr>
            <p:xfrm>
              <a:off x="5257800" y="5775480"/>
              <a:ext cx="3047760" cy="853920"/>
            </p:xfrm>
            <a:graphic>
              <a:graphicData uri="http://schemas.openxmlformats.org/presentationml/2006/ole">
                <p:oleObj progId="Excel.Sheet.12" r:id="rId7" spid="">
                  <p:embed/>
                  <p:pic>
                    <p:nvPicPr>
                      <p:cNvPr id="8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257800" y="5775480"/>
                        <a:ext cx="3047760" cy="853920"/>
                      </a:xfrm>
                      <a:prstGeom prst="rect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80" name=""/>
            <p:cNvSpPr/>
            <p:nvPr/>
          </p:nvSpPr>
          <p:spPr>
            <a:xfrm>
              <a:off x="4495680" y="411480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152280" y="3048120"/>
            <a:ext cx="5029200" cy="3581280"/>
            <a:chOff x="152280" y="3048120"/>
            <a:chExt cx="5029200" cy="3581280"/>
          </a:xfrm>
        </p:grpSpPr>
        <p:sp>
          <p:nvSpPr>
            <p:cNvPr id="882" name=""/>
            <p:cNvSpPr/>
            <p:nvPr/>
          </p:nvSpPr>
          <p:spPr>
            <a:xfrm>
              <a:off x="152280" y="3276720"/>
              <a:ext cx="4952880" cy="79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PDI Establecido/Acept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P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lan De </a:t>
              </a: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D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sarrollo </a:t>
              </a: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I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3" name=""/>
            <p:cNvGraphicFramePr/>
            <p:nvPr/>
          </p:nvGraphicFramePr>
          <p:xfrm>
            <a:off x="228240" y="4114800"/>
            <a:ext cx="2438640" cy="197640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88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240" y="4114800"/>
                      <a:ext cx="2438640" cy="197640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885" name=""/>
            <p:cNvGraphicFramePr/>
            <p:nvPr/>
          </p:nvGraphicFramePr>
          <p:xfrm>
            <a:off x="228240" y="5451480"/>
            <a:ext cx="3505320" cy="1177920"/>
          </p:xfrm>
          <a:graphic>
            <a:graphicData uri="http://schemas.openxmlformats.org/presentationml/2006/ole">
              <p:oleObj progId="Excel.Sheet.12" r:id="rId11" spid="">
                <p:embed/>
                <p:pic>
                  <p:nvPicPr>
                    <p:cNvPr id="88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8240" y="5451480"/>
                      <a:ext cx="3505320" cy="117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7" name=""/>
            <p:cNvSpPr/>
            <p:nvPr/>
          </p:nvSpPr>
          <p:spPr>
            <a:xfrm>
              <a:off x="2666880" y="3962520"/>
              <a:ext cx="25146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Establecer 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pla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desarrollo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Compete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28240" y="30481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-152280" y="914400"/>
            <a:ext cx="4952520" cy="2209320"/>
            <a:chOff x="-152280" y="914400"/>
            <a:chExt cx="4952520" cy="2209320"/>
          </a:xfrm>
        </p:grpSpPr>
        <p:grpSp>
          <p:nvGrpSpPr>
            <p:cNvPr id="890" name=""/>
            <p:cNvGrpSpPr/>
            <p:nvPr/>
          </p:nvGrpSpPr>
          <p:grpSpPr>
            <a:xfrm>
              <a:off x="2539800" y="914400"/>
              <a:ext cx="2260440" cy="2209320"/>
              <a:chOff x="2539800" y="914400"/>
              <a:chExt cx="2260440" cy="2209320"/>
            </a:xfrm>
          </p:grpSpPr>
          <p:pic>
            <p:nvPicPr>
              <p:cNvPr id="89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073320" y="1295280"/>
                <a:ext cx="172692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89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844720" y="1142640"/>
                <a:ext cx="172692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89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39800" y="914400"/>
                <a:ext cx="172728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</p:grpSp>
        <p:sp>
          <p:nvSpPr>
            <p:cNvPr id="894" name=""/>
            <p:cNvSpPr/>
            <p:nvPr/>
          </p:nvSpPr>
          <p:spPr>
            <a:xfrm>
              <a:off x="101520" y="1141200"/>
              <a:ext cx="243792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Unidades de Compete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-152280" y="2055600"/>
              <a:ext cx="26064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Identifica la forma competente de realizar una fun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2280" y="9144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IMPLEMENT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322360" y="549360"/>
            <a:ext cx="5041440" cy="6334920"/>
            <a:chOff x="2322360" y="549360"/>
            <a:chExt cx="5041440" cy="6334920"/>
          </a:xfrm>
        </p:grpSpPr>
        <p:sp>
          <p:nvSpPr>
            <p:cNvPr id="74" name=""/>
            <p:cNvSpPr/>
            <p:nvPr/>
          </p:nvSpPr>
          <p:spPr>
            <a:xfrm>
              <a:off x="2388240" y="1649880"/>
              <a:ext cx="4942080" cy="5225400"/>
            </a:xfrm>
            <a:custGeom>
              <a:avLst/>
              <a:gdLst/>
              <a:ahLst/>
              <a:rect l="l" t="t" r="r" b="b"/>
              <a:pathLst>
                <a:path w="2310" h="2321">
                  <a:moveTo>
                    <a:pt x="864" y="0"/>
                  </a:moveTo>
                  <a:lnTo>
                    <a:pt x="799" y="90"/>
                  </a:lnTo>
                  <a:lnTo>
                    <a:pt x="626" y="120"/>
                  </a:lnTo>
                  <a:lnTo>
                    <a:pt x="540" y="313"/>
                  </a:lnTo>
                  <a:lnTo>
                    <a:pt x="190" y="422"/>
                  </a:lnTo>
                  <a:lnTo>
                    <a:pt x="150" y="562"/>
                  </a:lnTo>
                  <a:lnTo>
                    <a:pt x="158" y="604"/>
                  </a:lnTo>
                  <a:lnTo>
                    <a:pt x="62" y="764"/>
                  </a:lnTo>
                  <a:lnTo>
                    <a:pt x="86" y="822"/>
                  </a:lnTo>
                  <a:lnTo>
                    <a:pt x="0" y="935"/>
                  </a:lnTo>
                  <a:lnTo>
                    <a:pt x="102" y="1134"/>
                  </a:lnTo>
                  <a:lnTo>
                    <a:pt x="15" y="1366"/>
                  </a:lnTo>
                  <a:lnTo>
                    <a:pt x="364" y="1627"/>
                  </a:lnTo>
                  <a:lnTo>
                    <a:pt x="347" y="1688"/>
                  </a:lnTo>
                  <a:lnTo>
                    <a:pt x="593" y="1778"/>
                  </a:lnTo>
                  <a:lnTo>
                    <a:pt x="593" y="1879"/>
                  </a:lnTo>
                  <a:lnTo>
                    <a:pt x="951" y="2099"/>
                  </a:lnTo>
                  <a:lnTo>
                    <a:pt x="1102" y="2130"/>
                  </a:lnTo>
                  <a:lnTo>
                    <a:pt x="1237" y="2320"/>
                  </a:lnTo>
                  <a:lnTo>
                    <a:pt x="1300" y="2290"/>
                  </a:lnTo>
                  <a:lnTo>
                    <a:pt x="1522" y="1949"/>
                  </a:lnTo>
                  <a:lnTo>
                    <a:pt x="1515" y="1828"/>
                  </a:lnTo>
                  <a:lnTo>
                    <a:pt x="1833" y="1688"/>
                  </a:lnTo>
                  <a:lnTo>
                    <a:pt x="1998" y="1447"/>
                  </a:lnTo>
                  <a:lnTo>
                    <a:pt x="1904" y="1326"/>
                  </a:lnTo>
                  <a:lnTo>
                    <a:pt x="2124" y="1185"/>
                  </a:lnTo>
                  <a:lnTo>
                    <a:pt x="2309" y="914"/>
                  </a:lnTo>
                  <a:lnTo>
                    <a:pt x="2203" y="744"/>
                  </a:lnTo>
                  <a:lnTo>
                    <a:pt x="2229" y="532"/>
                  </a:lnTo>
                  <a:lnTo>
                    <a:pt x="1943" y="233"/>
                  </a:lnTo>
                  <a:lnTo>
                    <a:pt x="1743" y="210"/>
                  </a:lnTo>
                  <a:lnTo>
                    <a:pt x="1531" y="71"/>
                  </a:lnTo>
                  <a:lnTo>
                    <a:pt x="1498" y="20"/>
                  </a:lnTo>
                  <a:lnTo>
                    <a:pt x="864" y="0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63080" y="1670400"/>
              <a:ext cx="2710440" cy="4752720"/>
            </a:xfrm>
            <a:custGeom>
              <a:avLst/>
              <a:gdLst/>
              <a:ahLst/>
              <a:rect l="l" t="t" r="r" b="b"/>
              <a:pathLst>
                <a:path w="1267" h="2111">
                  <a:moveTo>
                    <a:pt x="656" y="0"/>
                  </a:moveTo>
                  <a:lnTo>
                    <a:pt x="759" y="11"/>
                  </a:lnTo>
                  <a:lnTo>
                    <a:pt x="792" y="62"/>
                  </a:lnTo>
                  <a:lnTo>
                    <a:pt x="966" y="71"/>
                  </a:lnTo>
                  <a:lnTo>
                    <a:pt x="1013" y="151"/>
                  </a:lnTo>
                  <a:lnTo>
                    <a:pt x="942" y="211"/>
                  </a:lnTo>
                  <a:lnTo>
                    <a:pt x="997" y="353"/>
                  </a:lnTo>
                  <a:lnTo>
                    <a:pt x="1204" y="353"/>
                  </a:lnTo>
                  <a:lnTo>
                    <a:pt x="1266" y="452"/>
                  </a:lnTo>
                  <a:lnTo>
                    <a:pt x="836" y="396"/>
                  </a:lnTo>
                  <a:lnTo>
                    <a:pt x="692" y="525"/>
                  </a:lnTo>
                  <a:lnTo>
                    <a:pt x="1093" y="624"/>
                  </a:lnTo>
                  <a:lnTo>
                    <a:pt x="665" y="724"/>
                  </a:lnTo>
                  <a:lnTo>
                    <a:pt x="633" y="844"/>
                  </a:lnTo>
                  <a:lnTo>
                    <a:pt x="680" y="905"/>
                  </a:lnTo>
                  <a:lnTo>
                    <a:pt x="650" y="944"/>
                  </a:lnTo>
                  <a:lnTo>
                    <a:pt x="752" y="985"/>
                  </a:lnTo>
                  <a:lnTo>
                    <a:pt x="680" y="1106"/>
                  </a:lnTo>
                  <a:lnTo>
                    <a:pt x="500" y="1056"/>
                  </a:lnTo>
                  <a:lnTo>
                    <a:pt x="460" y="1106"/>
                  </a:lnTo>
                  <a:lnTo>
                    <a:pt x="244" y="1125"/>
                  </a:lnTo>
                  <a:lnTo>
                    <a:pt x="467" y="1237"/>
                  </a:lnTo>
                  <a:lnTo>
                    <a:pt x="500" y="1307"/>
                  </a:lnTo>
                  <a:lnTo>
                    <a:pt x="792" y="1337"/>
                  </a:lnTo>
                  <a:lnTo>
                    <a:pt x="807" y="1227"/>
                  </a:lnTo>
                  <a:lnTo>
                    <a:pt x="1061" y="795"/>
                  </a:lnTo>
                  <a:lnTo>
                    <a:pt x="1173" y="765"/>
                  </a:lnTo>
                  <a:lnTo>
                    <a:pt x="876" y="1257"/>
                  </a:lnTo>
                  <a:lnTo>
                    <a:pt x="1243" y="1146"/>
                  </a:lnTo>
                  <a:lnTo>
                    <a:pt x="588" y="1585"/>
                  </a:lnTo>
                  <a:lnTo>
                    <a:pt x="907" y="1480"/>
                  </a:lnTo>
                  <a:lnTo>
                    <a:pt x="846" y="1679"/>
                  </a:lnTo>
                  <a:lnTo>
                    <a:pt x="1102" y="1769"/>
                  </a:lnTo>
                  <a:lnTo>
                    <a:pt x="594" y="1880"/>
                  </a:lnTo>
                  <a:lnTo>
                    <a:pt x="792" y="1981"/>
                  </a:lnTo>
                  <a:lnTo>
                    <a:pt x="879" y="2110"/>
                  </a:lnTo>
                  <a:lnTo>
                    <a:pt x="434" y="1880"/>
                  </a:lnTo>
                  <a:lnTo>
                    <a:pt x="429" y="1759"/>
                  </a:lnTo>
                  <a:lnTo>
                    <a:pt x="665" y="1789"/>
                  </a:lnTo>
                  <a:lnTo>
                    <a:pt x="150" y="1657"/>
                  </a:lnTo>
                  <a:lnTo>
                    <a:pt x="173" y="1608"/>
                  </a:lnTo>
                  <a:lnTo>
                    <a:pt x="397" y="1588"/>
                  </a:lnTo>
                  <a:lnTo>
                    <a:pt x="88" y="1366"/>
                  </a:lnTo>
                  <a:lnTo>
                    <a:pt x="150" y="1255"/>
                  </a:lnTo>
                  <a:lnTo>
                    <a:pt x="331" y="1347"/>
                  </a:lnTo>
                  <a:lnTo>
                    <a:pt x="237" y="1146"/>
                  </a:lnTo>
                  <a:lnTo>
                    <a:pt x="0" y="944"/>
                  </a:lnTo>
                  <a:lnTo>
                    <a:pt x="173" y="853"/>
                  </a:lnTo>
                  <a:lnTo>
                    <a:pt x="136" y="755"/>
                  </a:lnTo>
                  <a:lnTo>
                    <a:pt x="429" y="675"/>
                  </a:lnTo>
                  <a:lnTo>
                    <a:pt x="310" y="503"/>
                  </a:lnTo>
                  <a:lnTo>
                    <a:pt x="500" y="553"/>
                  </a:lnTo>
                  <a:lnTo>
                    <a:pt x="713" y="392"/>
                  </a:lnTo>
                  <a:lnTo>
                    <a:pt x="553" y="201"/>
                  </a:lnTo>
                  <a:lnTo>
                    <a:pt x="776" y="111"/>
                  </a:lnTo>
                  <a:lnTo>
                    <a:pt x="65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69600" y="3732480"/>
              <a:ext cx="825480" cy="603360"/>
            </a:xfrm>
            <a:custGeom>
              <a:avLst/>
              <a:gdLst/>
              <a:ahLst/>
              <a:rect l="l" t="t" r="r" b="b"/>
              <a:pathLst>
                <a:path w="386" h="268">
                  <a:moveTo>
                    <a:pt x="0" y="0"/>
                  </a:moveTo>
                  <a:lnTo>
                    <a:pt x="385" y="267"/>
                  </a:lnTo>
                  <a:lnTo>
                    <a:pt x="55" y="197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05960" y="3012120"/>
              <a:ext cx="945360" cy="708840"/>
            </a:xfrm>
            <a:custGeom>
              <a:avLst/>
              <a:gdLst/>
              <a:ahLst/>
              <a:rect l="l" t="t" r="r" b="b"/>
              <a:pathLst>
                <a:path w="442" h="315">
                  <a:moveTo>
                    <a:pt x="24" y="138"/>
                  </a:moveTo>
                  <a:lnTo>
                    <a:pt x="78" y="226"/>
                  </a:lnTo>
                  <a:lnTo>
                    <a:pt x="0" y="297"/>
                  </a:lnTo>
                  <a:lnTo>
                    <a:pt x="78" y="314"/>
                  </a:lnTo>
                  <a:lnTo>
                    <a:pt x="243" y="215"/>
                  </a:lnTo>
                  <a:lnTo>
                    <a:pt x="149" y="117"/>
                  </a:lnTo>
                  <a:lnTo>
                    <a:pt x="441" y="0"/>
                  </a:lnTo>
                  <a:lnTo>
                    <a:pt x="165" y="0"/>
                  </a:lnTo>
                  <a:lnTo>
                    <a:pt x="24" y="13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17000" y="1877760"/>
              <a:ext cx="564480" cy="148320"/>
            </a:xfrm>
            <a:custGeom>
              <a:avLst/>
              <a:gdLst/>
              <a:ahLst/>
              <a:rect l="l" t="t" r="r" b="b"/>
              <a:pathLst>
                <a:path w="264" h="66">
                  <a:moveTo>
                    <a:pt x="0" y="36"/>
                  </a:moveTo>
                  <a:lnTo>
                    <a:pt x="123" y="65"/>
                  </a:lnTo>
                  <a:lnTo>
                    <a:pt x="263" y="9"/>
                  </a:lnTo>
                  <a:lnTo>
                    <a:pt x="146" y="0"/>
                  </a:lnTo>
                  <a:lnTo>
                    <a:pt x="0" y="3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95160" y="2174760"/>
              <a:ext cx="1283400" cy="191160"/>
            </a:xfrm>
            <a:custGeom>
              <a:avLst/>
              <a:gdLst/>
              <a:ahLst/>
              <a:rect l="l" t="t" r="r" b="b"/>
              <a:pathLst>
                <a:path w="600" h="85">
                  <a:moveTo>
                    <a:pt x="417" y="0"/>
                  </a:moveTo>
                  <a:lnTo>
                    <a:pt x="0" y="55"/>
                  </a:lnTo>
                  <a:lnTo>
                    <a:pt x="79" y="84"/>
                  </a:lnTo>
                  <a:lnTo>
                    <a:pt x="347" y="84"/>
                  </a:lnTo>
                  <a:lnTo>
                    <a:pt x="599" y="26"/>
                  </a:lnTo>
                  <a:lnTo>
                    <a:pt x="41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81000" y="5824080"/>
              <a:ext cx="500400" cy="1008720"/>
            </a:xfrm>
            <a:custGeom>
              <a:avLst/>
              <a:gdLst/>
              <a:ahLst/>
              <a:rect l="l" t="t" r="r" b="b"/>
              <a:pathLst>
                <a:path w="234" h="448">
                  <a:moveTo>
                    <a:pt x="0" y="58"/>
                  </a:moveTo>
                  <a:lnTo>
                    <a:pt x="233" y="447"/>
                  </a:lnTo>
                  <a:lnTo>
                    <a:pt x="116" y="0"/>
                  </a:lnTo>
                  <a:lnTo>
                    <a:pt x="0" y="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52680" y="4304880"/>
              <a:ext cx="692640" cy="510840"/>
            </a:xfrm>
            <a:custGeom>
              <a:avLst/>
              <a:gdLst/>
              <a:ahLst/>
              <a:rect l="l" t="t" r="r" b="b"/>
              <a:pathLst>
                <a:path w="324" h="227">
                  <a:moveTo>
                    <a:pt x="87" y="0"/>
                  </a:moveTo>
                  <a:lnTo>
                    <a:pt x="323" y="58"/>
                  </a:lnTo>
                  <a:lnTo>
                    <a:pt x="211" y="226"/>
                  </a:lnTo>
                  <a:lnTo>
                    <a:pt x="0" y="185"/>
                  </a:lnTo>
                  <a:lnTo>
                    <a:pt x="8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12080" y="1787400"/>
              <a:ext cx="669240" cy="326520"/>
            </a:xfrm>
            <a:custGeom>
              <a:avLst/>
              <a:gdLst/>
              <a:ahLst/>
              <a:rect l="l" t="t" r="r" b="b"/>
              <a:pathLst>
                <a:path w="313" h="145">
                  <a:moveTo>
                    <a:pt x="148" y="0"/>
                  </a:moveTo>
                  <a:lnTo>
                    <a:pt x="312" y="126"/>
                  </a:lnTo>
                  <a:lnTo>
                    <a:pt x="187" y="144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18960" y="2283120"/>
              <a:ext cx="1497600" cy="1388520"/>
            </a:xfrm>
            <a:custGeom>
              <a:avLst/>
              <a:gdLst/>
              <a:ahLst/>
              <a:rect l="l" t="t" r="r" b="b"/>
              <a:pathLst>
                <a:path w="700" h="617">
                  <a:moveTo>
                    <a:pt x="380" y="0"/>
                  </a:moveTo>
                  <a:lnTo>
                    <a:pt x="616" y="250"/>
                  </a:lnTo>
                  <a:lnTo>
                    <a:pt x="584" y="480"/>
                  </a:lnTo>
                  <a:lnTo>
                    <a:pt x="680" y="610"/>
                  </a:lnTo>
                  <a:lnTo>
                    <a:pt x="699" y="616"/>
                  </a:lnTo>
                  <a:lnTo>
                    <a:pt x="199" y="590"/>
                  </a:lnTo>
                  <a:lnTo>
                    <a:pt x="0" y="369"/>
                  </a:lnTo>
                  <a:lnTo>
                    <a:pt x="513" y="259"/>
                  </a:lnTo>
                  <a:lnTo>
                    <a:pt x="0" y="124"/>
                  </a:lnTo>
                  <a:lnTo>
                    <a:pt x="38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8680" y="4619880"/>
              <a:ext cx="1405440" cy="736200"/>
            </a:xfrm>
            <a:custGeom>
              <a:avLst/>
              <a:gdLst/>
              <a:ahLst/>
              <a:rect l="l" t="t" r="r" b="b"/>
              <a:pathLst>
                <a:path w="657" h="327">
                  <a:moveTo>
                    <a:pt x="570" y="0"/>
                  </a:moveTo>
                  <a:lnTo>
                    <a:pt x="71" y="92"/>
                  </a:lnTo>
                  <a:lnTo>
                    <a:pt x="0" y="326"/>
                  </a:lnTo>
                  <a:lnTo>
                    <a:pt x="656" y="139"/>
                  </a:lnTo>
                  <a:lnTo>
                    <a:pt x="57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40640" y="5727240"/>
              <a:ext cx="686880" cy="286200"/>
            </a:xfrm>
            <a:custGeom>
              <a:avLst/>
              <a:gdLst/>
              <a:ahLst/>
              <a:rect l="l" t="t" r="r" b="b"/>
              <a:pathLst>
                <a:path w="321" h="127">
                  <a:moveTo>
                    <a:pt x="320" y="0"/>
                  </a:moveTo>
                  <a:lnTo>
                    <a:pt x="0" y="50"/>
                  </a:lnTo>
                  <a:lnTo>
                    <a:pt x="22" y="107"/>
                  </a:lnTo>
                  <a:lnTo>
                    <a:pt x="266" y="126"/>
                  </a:lnTo>
                  <a:lnTo>
                    <a:pt x="32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3440" y="1945080"/>
              <a:ext cx="806040" cy="191160"/>
            </a:xfrm>
            <a:custGeom>
              <a:avLst/>
              <a:gdLst/>
              <a:ahLst/>
              <a:rect l="l" t="t" r="r" b="b"/>
              <a:pathLst>
                <a:path w="377" h="85">
                  <a:moveTo>
                    <a:pt x="171" y="0"/>
                  </a:moveTo>
                  <a:lnTo>
                    <a:pt x="376" y="28"/>
                  </a:lnTo>
                  <a:lnTo>
                    <a:pt x="296" y="84"/>
                  </a:lnTo>
                  <a:lnTo>
                    <a:pt x="0" y="66"/>
                  </a:lnTo>
                  <a:lnTo>
                    <a:pt x="17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7480" y="2715120"/>
              <a:ext cx="1625400" cy="306000"/>
            </a:xfrm>
            <a:custGeom>
              <a:avLst/>
              <a:gdLst/>
              <a:ahLst/>
              <a:rect l="l" t="t" r="r" b="b"/>
              <a:pathLst>
                <a:path w="760" h="136">
                  <a:moveTo>
                    <a:pt x="323" y="0"/>
                  </a:moveTo>
                  <a:lnTo>
                    <a:pt x="719" y="86"/>
                  </a:lnTo>
                  <a:lnTo>
                    <a:pt x="759" y="135"/>
                  </a:lnTo>
                  <a:lnTo>
                    <a:pt x="0" y="38"/>
                  </a:lnTo>
                  <a:lnTo>
                    <a:pt x="323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72200" y="2940120"/>
              <a:ext cx="924120" cy="403200"/>
            </a:xfrm>
            <a:custGeom>
              <a:avLst/>
              <a:gdLst/>
              <a:ahLst/>
              <a:rect l="l" t="t" r="r" b="b"/>
              <a:pathLst>
                <a:path w="432" h="179">
                  <a:moveTo>
                    <a:pt x="141" y="0"/>
                  </a:moveTo>
                  <a:lnTo>
                    <a:pt x="431" y="21"/>
                  </a:lnTo>
                  <a:lnTo>
                    <a:pt x="166" y="147"/>
                  </a:lnTo>
                  <a:lnTo>
                    <a:pt x="0" y="178"/>
                  </a:lnTo>
                  <a:lnTo>
                    <a:pt x="14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35320" y="3212640"/>
              <a:ext cx="1063080" cy="555840"/>
            </a:xfrm>
            <a:custGeom>
              <a:avLst/>
              <a:gdLst/>
              <a:ahLst/>
              <a:rect l="l" t="t" r="r" b="b"/>
              <a:pathLst>
                <a:path w="497" h="247">
                  <a:moveTo>
                    <a:pt x="0" y="61"/>
                  </a:moveTo>
                  <a:lnTo>
                    <a:pt x="496" y="246"/>
                  </a:lnTo>
                  <a:lnTo>
                    <a:pt x="464" y="50"/>
                  </a:lnTo>
                  <a:lnTo>
                    <a:pt x="197" y="0"/>
                  </a:lnTo>
                  <a:lnTo>
                    <a:pt x="0" y="6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31480" y="3712680"/>
              <a:ext cx="938880" cy="373680"/>
            </a:xfrm>
            <a:custGeom>
              <a:avLst/>
              <a:gdLst/>
              <a:ahLst/>
              <a:rect l="l" t="t" r="r" b="b"/>
              <a:pathLst>
                <a:path w="439" h="166">
                  <a:moveTo>
                    <a:pt x="0" y="38"/>
                  </a:moveTo>
                  <a:lnTo>
                    <a:pt x="438" y="165"/>
                  </a:lnTo>
                  <a:lnTo>
                    <a:pt x="55" y="0"/>
                  </a:lnTo>
                  <a:lnTo>
                    <a:pt x="0" y="3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85400" y="4140360"/>
              <a:ext cx="1687680" cy="923040"/>
            </a:xfrm>
            <a:custGeom>
              <a:avLst/>
              <a:gdLst/>
              <a:ahLst/>
              <a:rect l="l" t="t" r="r" b="b"/>
              <a:pathLst>
                <a:path w="789" h="410">
                  <a:moveTo>
                    <a:pt x="38" y="259"/>
                  </a:moveTo>
                  <a:lnTo>
                    <a:pt x="708" y="0"/>
                  </a:lnTo>
                  <a:lnTo>
                    <a:pt x="788" y="51"/>
                  </a:lnTo>
                  <a:lnTo>
                    <a:pt x="0" y="409"/>
                  </a:lnTo>
                  <a:lnTo>
                    <a:pt x="38" y="25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21080" y="4277880"/>
              <a:ext cx="519480" cy="332640"/>
            </a:xfrm>
            <a:custGeom>
              <a:avLst/>
              <a:gdLst/>
              <a:ahLst/>
              <a:rect l="l" t="t" r="r" b="b"/>
              <a:pathLst>
                <a:path w="243" h="148">
                  <a:moveTo>
                    <a:pt x="47" y="0"/>
                  </a:moveTo>
                  <a:lnTo>
                    <a:pt x="242" y="147"/>
                  </a:lnTo>
                  <a:lnTo>
                    <a:pt x="0" y="118"/>
                  </a:lnTo>
                  <a:lnTo>
                    <a:pt x="4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1120" y="5322240"/>
              <a:ext cx="1657440" cy="263160"/>
            </a:xfrm>
            <a:custGeom>
              <a:avLst/>
              <a:gdLst/>
              <a:ahLst/>
              <a:rect l="l" t="t" r="r" b="b"/>
              <a:pathLst>
                <a:path w="775" h="117">
                  <a:moveTo>
                    <a:pt x="221" y="0"/>
                  </a:moveTo>
                  <a:lnTo>
                    <a:pt x="774" y="116"/>
                  </a:lnTo>
                  <a:lnTo>
                    <a:pt x="0" y="37"/>
                  </a:lnTo>
                  <a:lnTo>
                    <a:pt x="22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35080" y="3396960"/>
              <a:ext cx="639360" cy="779040"/>
            </a:xfrm>
            <a:custGeom>
              <a:avLst/>
              <a:gdLst/>
              <a:ahLst/>
              <a:rect l="l" t="t" r="r" b="b"/>
              <a:pathLst>
                <a:path w="299" h="346">
                  <a:moveTo>
                    <a:pt x="24" y="58"/>
                  </a:moveTo>
                  <a:lnTo>
                    <a:pt x="298" y="0"/>
                  </a:lnTo>
                  <a:lnTo>
                    <a:pt x="289" y="77"/>
                  </a:lnTo>
                  <a:lnTo>
                    <a:pt x="116" y="137"/>
                  </a:lnTo>
                  <a:lnTo>
                    <a:pt x="0" y="345"/>
                  </a:lnTo>
                  <a:lnTo>
                    <a:pt x="24" y="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98720" y="2283120"/>
              <a:ext cx="928440" cy="465480"/>
            </a:xfrm>
            <a:custGeom>
              <a:avLst/>
              <a:gdLst/>
              <a:ahLst/>
              <a:rect l="l" t="t" r="r" b="b"/>
              <a:pathLst>
                <a:path w="434" h="207">
                  <a:moveTo>
                    <a:pt x="229" y="0"/>
                  </a:moveTo>
                  <a:lnTo>
                    <a:pt x="0" y="206"/>
                  </a:lnTo>
                  <a:lnTo>
                    <a:pt x="433" y="50"/>
                  </a:lnTo>
                  <a:lnTo>
                    <a:pt x="229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0240" y="563040"/>
              <a:ext cx="1312920" cy="1190520"/>
            </a:xfrm>
            <a:custGeom>
              <a:avLst/>
              <a:gdLst/>
              <a:ahLst/>
              <a:rect l="l" t="t" r="r" b="b"/>
              <a:pathLst>
                <a:path w="614" h="529">
                  <a:moveTo>
                    <a:pt x="0" y="468"/>
                  </a:moveTo>
                  <a:lnTo>
                    <a:pt x="149" y="239"/>
                  </a:lnTo>
                  <a:lnTo>
                    <a:pt x="203" y="217"/>
                  </a:lnTo>
                  <a:lnTo>
                    <a:pt x="322" y="0"/>
                  </a:lnTo>
                  <a:lnTo>
                    <a:pt x="424" y="217"/>
                  </a:lnTo>
                  <a:lnTo>
                    <a:pt x="486" y="228"/>
                  </a:lnTo>
                  <a:lnTo>
                    <a:pt x="566" y="438"/>
                  </a:lnTo>
                  <a:lnTo>
                    <a:pt x="597" y="458"/>
                  </a:lnTo>
                  <a:lnTo>
                    <a:pt x="613" y="487"/>
                  </a:lnTo>
                  <a:lnTo>
                    <a:pt x="479" y="487"/>
                  </a:lnTo>
                  <a:lnTo>
                    <a:pt x="441" y="528"/>
                  </a:lnTo>
                  <a:lnTo>
                    <a:pt x="133" y="519"/>
                  </a:lnTo>
                  <a:lnTo>
                    <a:pt x="126" y="487"/>
                  </a:lnTo>
                  <a:lnTo>
                    <a:pt x="0" y="4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8840" y="630360"/>
              <a:ext cx="735840" cy="965880"/>
            </a:xfrm>
            <a:custGeom>
              <a:avLst/>
              <a:gdLst/>
              <a:ahLst/>
              <a:rect l="l" t="t" r="r" b="b"/>
              <a:pathLst>
                <a:path w="344" h="429">
                  <a:moveTo>
                    <a:pt x="125" y="0"/>
                  </a:moveTo>
                  <a:lnTo>
                    <a:pt x="218" y="198"/>
                  </a:lnTo>
                  <a:lnTo>
                    <a:pt x="273" y="198"/>
                  </a:lnTo>
                  <a:lnTo>
                    <a:pt x="343" y="398"/>
                  </a:lnTo>
                  <a:lnTo>
                    <a:pt x="14" y="428"/>
                  </a:lnTo>
                  <a:lnTo>
                    <a:pt x="188" y="378"/>
                  </a:lnTo>
                  <a:lnTo>
                    <a:pt x="188" y="298"/>
                  </a:lnTo>
                  <a:lnTo>
                    <a:pt x="116" y="288"/>
                  </a:lnTo>
                  <a:lnTo>
                    <a:pt x="0" y="398"/>
                  </a:lnTo>
                  <a:lnTo>
                    <a:pt x="85" y="178"/>
                  </a:lnTo>
                  <a:lnTo>
                    <a:pt x="163" y="249"/>
                  </a:lnTo>
                  <a:lnTo>
                    <a:pt x="125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55240" y="1612080"/>
              <a:ext cx="2673720" cy="297000"/>
            </a:xfrm>
            <a:custGeom>
              <a:avLst/>
              <a:gdLst/>
              <a:ahLst/>
              <a:rect l="l" t="t" r="r" b="b"/>
              <a:pathLst>
                <a:path w="1250" h="132">
                  <a:moveTo>
                    <a:pt x="204" y="36"/>
                  </a:moveTo>
                  <a:lnTo>
                    <a:pt x="340" y="63"/>
                  </a:lnTo>
                  <a:lnTo>
                    <a:pt x="703" y="99"/>
                  </a:lnTo>
                  <a:lnTo>
                    <a:pt x="1249" y="131"/>
                  </a:lnTo>
                  <a:lnTo>
                    <a:pt x="879" y="131"/>
                  </a:lnTo>
                  <a:lnTo>
                    <a:pt x="94" y="73"/>
                  </a:lnTo>
                  <a:lnTo>
                    <a:pt x="0" y="36"/>
                  </a:lnTo>
                  <a:lnTo>
                    <a:pt x="217" y="11"/>
                  </a:lnTo>
                  <a:lnTo>
                    <a:pt x="552" y="0"/>
                  </a:lnTo>
                  <a:lnTo>
                    <a:pt x="204" y="36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85760" y="1573920"/>
              <a:ext cx="2391480" cy="260640"/>
            </a:xfrm>
            <a:custGeom>
              <a:avLst/>
              <a:gdLst/>
              <a:ahLst/>
              <a:rect l="l" t="t" r="r" b="b"/>
              <a:pathLst>
                <a:path w="1118" h="116">
                  <a:moveTo>
                    <a:pt x="398" y="0"/>
                  </a:moveTo>
                  <a:lnTo>
                    <a:pt x="794" y="10"/>
                  </a:lnTo>
                  <a:lnTo>
                    <a:pt x="987" y="28"/>
                  </a:lnTo>
                  <a:lnTo>
                    <a:pt x="1057" y="42"/>
                  </a:lnTo>
                  <a:lnTo>
                    <a:pt x="1117" y="64"/>
                  </a:lnTo>
                  <a:lnTo>
                    <a:pt x="1079" y="84"/>
                  </a:lnTo>
                  <a:lnTo>
                    <a:pt x="637" y="115"/>
                  </a:lnTo>
                  <a:lnTo>
                    <a:pt x="0" y="96"/>
                  </a:lnTo>
                  <a:lnTo>
                    <a:pt x="731" y="70"/>
                  </a:lnTo>
                  <a:lnTo>
                    <a:pt x="886" y="47"/>
                  </a:lnTo>
                  <a:lnTo>
                    <a:pt x="683" y="27"/>
                  </a:lnTo>
                  <a:lnTo>
                    <a:pt x="339" y="4"/>
                  </a:lnTo>
                  <a:lnTo>
                    <a:pt x="398" y="0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41080" y="1729080"/>
              <a:ext cx="1071360" cy="145800"/>
            </a:xfrm>
            <a:custGeom>
              <a:avLst/>
              <a:gdLst/>
              <a:ahLst/>
              <a:rect l="l" t="t" r="r" b="b"/>
              <a:pathLst>
                <a:path w="501" h="65">
                  <a:moveTo>
                    <a:pt x="500" y="64"/>
                  </a:moveTo>
                  <a:lnTo>
                    <a:pt x="122" y="0"/>
                  </a:lnTo>
                  <a:lnTo>
                    <a:pt x="0" y="9"/>
                  </a:lnTo>
                  <a:lnTo>
                    <a:pt x="500" y="64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14880" y="1861920"/>
              <a:ext cx="3251160" cy="285840"/>
            </a:xfrm>
            <a:custGeom>
              <a:avLst/>
              <a:gdLst/>
              <a:ahLst/>
              <a:rect l="l" t="t" r="r" b="b"/>
              <a:pathLst>
                <a:path w="1520" h="127">
                  <a:moveTo>
                    <a:pt x="1399" y="36"/>
                  </a:moveTo>
                  <a:lnTo>
                    <a:pt x="1077" y="78"/>
                  </a:lnTo>
                  <a:lnTo>
                    <a:pt x="740" y="78"/>
                  </a:lnTo>
                  <a:lnTo>
                    <a:pt x="0" y="45"/>
                  </a:lnTo>
                  <a:lnTo>
                    <a:pt x="284" y="78"/>
                  </a:lnTo>
                  <a:lnTo>
                    <a:pt x="495" y="109"/>
                  </a:lnTo>
                  <a:lnTo>
                    <a:pt x="890" y="126"/>
                  </a:lnTo>
                  <a:lnTo>
                    <a:pt x="1090" y="120"/>
                  </a:lnTo>
                  <a:lnTo>
                    <a:pt x="1338" y="88"/>
                  </a:lnTo>
                  <a:lnTo>
                    <a:pt x="1475" y="45"/>
                  </a:lnTo>
                  <a:lnTo>
                    <a:pt x="1519" y="0"/>
                  </a:lnTo>
                  <a:lnTo>
                    <a:pt x="1399" y="36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93720" y="549360"/>
              <a:ext cx="1540080" cy="1262880"/>
            </a:xfrm>
            <a:custGeom>
              <a:avLst/>
              <a:gdLst/>
              <a:ahLst/>
              <a:rect l="l" t="t" r="r" b="b"/>
              <a:pathLst>
                <a:path w="720" h="561">
                  <a:moveTo>
                    <a:pt x="719" y="0"/>
                  </a:moveTo>
                  <a:lnTo>
                    <a:pt x="615" y="253"/>
                  </a:lnTo>
                  <a:lnTo>
                    <a:pt x="548" y="273"/>
                  </a:lnTo>
                  <a:lnTo>
                    <a:pt x="415" y="500"/>
                  </a:lnTo>
                  <a:lnTo>
                    <a:pt x="459" y="560"/>
                  </a:lnTo>
                  <a:lnTo>
                    <a:pt x="340" y="554"/>
                  </a:lnTo>
                  <a:lnTo>
                    <a:pt x="140" y="541"/>
                  </a:lnTo>
                  <a:lnTo>
                    <a:pt x="0" y="512"/>
                  </a:lnTo>
                  <a:lnTo>
                    <a:pt x="96" y="486"/>
                  </a:lnTo>
                  <a:lnTo>
                    <a:pt x="348" y="458"/>
                  </a:lnTo>
                  <a:lnTo>
                    <a:pt x="81" y="500"/>
                  </a:lnTo>
                  <a:lnTo>
                    <a:pt x="112" y="512"/>
                  </a:lnTo>
                  <a:lnTo>
                    <a:pt x="348" y="533"/>
                  </a:lnTo>
                  <a:lnTo>
                    <a:pt x="534" y="247"/>
                  </a:lnTo>
                  <a:lnTo>
                    <a:pt x="608" y="198"/>
                  </a:lnTo>
                  <a:lnTo>
                    <a:pt x="7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48360" y="1747080"/>
              <a:ext cx="4451400" cy="423000"/>
            </a:xfrm>
            <a:custGeom>
              <a:avLst/>
              <a:gdLst/>
              <a:ahLst/>
              <a:rect l="l" t="t" r="r" b="b"/>
              <a:pathLst>
                <a:path w="2081" h="188">
                  <a:moveTo>
                    <a:pt x="0" y="0"/>
                  </a:moveTo>
                  <a:lnTo>
                    <a:pt x="150" y="32"/>
                  </a:lnTo>
                  <a:lnTo>
                    <a:pt x="486" y="94"/>
                  </a:lnTo>
                  <a:lnTo>
                    <a:pt x="836" y="127"/>
                  </a:lnTo>
                  <a:lnTo>
                    <a:pt x="1282" y="161"/>
                  </a:lnTo>
                  <a:lnTo>
                    <a:pt x="1514" y="154"/>
                  </a:lnTo>
                  <a:lnTo>
                    <a:pt x="1812" y="127"/>
                  </a:lnTo>
                  <a:lnTo>
                    <a:pt x="1961" y="100"/>
                  </a:lnTo>
                  <a:lnTo>
                    <a:pt x="2028" y="80"/>
                  </a:lnTo>
                  <a:lnTo>
                    <a:pt x="2080" y="47"/>
                  </a:lnTo>
                  <a:lnTo>
                    <a:pt x="2013" y="100"/>
                  </a:lnTo>
                  <a:lnTo>
                    <a:pt x="1880" y="134"/>
                  </a:lnTo>
                  <a:lnTo>
                    <a:pt x="1670" y="167"/>
                  </a:lnTo>
                  <a:lnTo>
                    <a:pt x="1402" y="187"/>
                  </a:lnTo>
                  <a:lnTo>
                    <a:pt x="1230" y="187"/>
                  </a:lnTo>
                  <a:lnTo>
                    <a:pt x="910" y="161"/>
                  </a:lnTo>
                  <a:lnTo>
                    <a:pt x="448" y="94"/>
                  </a:lnTo>
                  <a:lnTo>
                    <a:pt x="209" y="5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9720" y="1576080"/>
              <a:ext cx="2100600" cy="270000"/>
            </a:xfrm>
            <a:custGeom>
              <a:avLst/>
              <a:gdLst/>
              <a:ahLst/>
              <a:rect l="l" t="t" r="r" b="b"/>
              <a:pathLst>
                <a:path w="982" h="120">
                  <a:moveTo>
                    <a:pt x="0" y="112"/>
                  </a:moveTo>
                  <a:lnTo>
                    <a:pt x="386" y="112"/>
                  </a:lnTo>
                  <a:lnTo>
                    <a:pt x="684" y="99"/>
                  </a:lnTo>
                  <a:lnTo>
                    <a:pt x="869" y="86"/>
                  </a:lnTo>
                  <a:lnTo>
                    <a:pt x="944" y="66"/>
                  </a:lnTo>
                  <a:lnTo>
                    <a:pt x="928" y="46"/>
                  </a:lnTo>
                  <a:lnTo>
                    <a:pt x="847" y="26"/>
                  </a:lnTo>
                  <a:lnTo>
                    <a:pt x="691" y="12"/>
                  </a:lnTo>
                  <a:lnTo>
                    <a:pt x="357" y="0"/>
                  </a:lnTo>
                  <a:lnTo>
                    <a:pt x="779" y="12"/>
                  </a:lnTo>
                  <a:lnTo>
                    <a:pt x="951" y="33"/>
                  </a:lnTo>
                  <a:lnTo>
                    <a:pt x="981" y="59"/>
                  </a:lnTo>
                  <a:lnTo>
                    <a:pt x="974" y="92"/>
                  </a:lnTo>
                  <a:lnTo>
                    <a:pt x="906" y="99"/>
                  </a:lnTo>
                  <a:lnTo>
                    <a:pt x="639" y="112"/>
                  </a:lnTo>
                  <a:lnTo>
                    <a:pt x="402" y="119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19920" y="1652400"/>
              <a:ext cx="1379880" cy="130680"/>
            </a:xfrm>
            <a:custGeom>
              <a:avLst/>
              <a:gdLst/>
              <a:ahLst/>
              <a:rect l="l" t="t" r="r" b="b"/>
              <a:pathLst>
                <a:path w="645" h="58">
                  <a:moveTo>
                    <a:pt x="0" y="44"/>
                  </a:moveTo>
                  <a:lnTo>
                    <a:pt x="310" y="57"/>
                  </a:lnTo>
                  <a:lnTo>
                    <a:pt x="525" y="38"/>
                  </a:lnTo>
                  <a:lnTo>
                    <a:pt x="644" y="25"/>
                  </a:lnTo>
                  <a:lnTo>
                    <a:pt x="644" y="13"/>
                  </a:lnTo>
                  <a:lnTo>
                    <a:pt x="474" y="0"/>
                  </a:lnTo>
                  <a:lnTo>
                    <a:pt x="525" y="25"/>
                  </a:lnTo>
                  <a:lnTo>
                    <a:pt x="371" y="44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44720" y="1886400"/>
              <a:ext cx="228960" cy="67680"/>
            </a:xfrm>
            <a:custGeom>
              <a:avLst/>
              <a:gdLst/>
              <a:ahLst/>
              <a:rect l="l" t="t" r="r" b="b"/>
              <a:pathLst>
                <a:path w="107" h="30">
                  <a:moveTo>
                    <a:pt x="106" y="6"/>
                  </a:moveTo>
                  <a:lnTo>
                    <a:pt x="99" y="29"/>
                  </a:lnTo>
                  <a:lnTo>
                    <a:pt x="0" y="0"/>
                  </a:lnTo>
                  <a:lnTo>
                    <a:pt x="10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22360" y="1978560"/>
              <a:ext cx="2705760" cy="4892400"/>
            </a:xfrm>
            <a:custGeom>
              <a:avLst/>
              <a:gdLst/>
              <a:ahLst/>
              <a:rect l="l" t="t" r="r" b="b"/>
              <a:pathLst>
                <a:path w="1265" h="2173">
                  <a:moveTo>
                    <a:pt x="773" y="15"/>
                  </a:moveTo>
                  <a:lnTo>
                    <a:pt x="833" y="262"/>
                  </a:lnTo>
                  <a:lnTo>
                    <a:pt x="602" y="214"/>
                  </a:lnTo>
                  <a:lnTo>
                    <a:pt x="371" y="331"/>
                  </a:lnTo>
                  <a:lnTo>
                    <a:pt x="432" y="428"/>
                  </a:lnTo>
                  <a:lnTo>
                    <a:pt x="253" y="435"/>
                  </a:lnTo>
                  <a:lnTo>
                    <a:pt x="133" y="600"/>
                  </a:lnTo>
                  <a:lnTo>
                    <a:pt x="171" y="683"/>
                  </a:lnTo>
                  <a:lnTo>
                    <a:pt x="82" y="773"/>
                  </a:lnTo>
                  <a:lnTo>
                    <a:pt x="164" y="986"/>
                  </a:lnTo>
                  <a:lnTo>
                    <a:pt x="371" y="1083"/>
                  </a:lnTo>
                  <a:lnTo>
                    <a:pt x="140" y="1062"/>
                  </a:lnTo>
                  <a:lnTo>
                    <a:pt x="89" y="1220"/>
                  </a:lnTo>
                  <a:lnTo>
                    <a:pt x="260" y="1276"/>
                  </a:lnTo>
                  <a:lnTo>
                    <a:pt x="319" y="1248"/>
                  </a:lnTo>
                  <a:lnTo>
                    <a:pt x="349" y="1365"/>
                  </a:lnTo>
                  <a:lnTo>
                    <a:pt x="595" y="1441"/>
                  </a:lnTo>
                  <a:lnTo>
                    <a:pt x="432" y="1482"/>
                  </a:lnTo>
                  <a:lnTo>
                    <a:pt x="416" y="1530"/>
                  </a:lnTo>
                  <a:lnTo>
                    <a:pt x="796" y="1648"/>
                  </a:lnTo>
                  <a:lnTo>
                    <a:pt x="662" y="1640"/>
                  </a:lnTo>
                  <a:lnTo>
                    <a:pt x="684" y="1737"/>
                  </a:lnTo>
                  <a:lnTo>
                    <a:pt x="1019" y="1924"/>
                  </a:lnTo>
                  <a:lnTo>
                    <a:pt x="1086" y="1945"/>
                  </a:lnTo>
                  <a:lnTo>
                    <a:pt x="1026" y="1813"/>
                  </a:lnTo>
                  <a:lnTo>
                    <a:pt x="886" y="1723"/>
                  </a:lnTo>
                  <a:lnTo>
                    <a:pt x="1146" y="1688"/>
                  </a:lnTo>
                  <a:lnTo>
                    <a:pt x="1049" y="1751"/>
                  </a:lnTo>
                  <a:lnTo>
                    <a:pt x="1264" y="2172"/>
                  </a:lnTo>
                  <a:lnTo>
                    <a:pt x="1131" y="2020"/>
                  </a:lnTo>
                  <a:lnTo>
                    <a:pt x="967" y="1958"/>
                  </a:lnTo>
                  <a:lnTo>
                    <a:pt x="611" y="1751"/>
                  </a:lnTo>
                  <a:lnTo>
                    <a:pt x="595" y="1640"/>
                  </a:lnTo>
                  <a:lnTo>
                    <a:pt x="364" y="1558"/>
                  </a:lnTo>
                  <a:lnTo>
                    <a:pt x="364" y="1482"/>
                  </a:lnTo>
                  <a:lnTo>
                    <a:pt x="22" y="1214"/>
                  </a:lnTo>
                  <a:lnTo>
                    <a:pt x="105" y="986"/>
                  </a:lnTo>
                  <a:lnTo>
                    <a:pt x="0" y="779"/>
                  </a:lnTo>
                  <a:lnTo>
                    <a:pt x="89" y="676"/>
                  </a:lnTo>
                  <a:lnTo>
                    <a:pt x="68" y="600"/>
                  </a:lnTo>
                  <a:lnTo>
                    <a:pt x="164" y="462"/>
                  </a:lnTo>
                  <a:lnTo>
                    <a:pt x="208" y="270"/>
                  </a:lnTo>
                  <a:lnTo>
                    <a:pt x="558" y="152"/>
                  </a:lnTo>
                  <a:lnTo>
                    <a:pt x="632" y="0"/>
                  </a:lnTo>
                  <a:lnTo>
                    <a:pt x="77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57480" y="2771640"/>
              <a:ext cx="693000" cy="783000"/>
            </a:xfrm>
            <a:custGeom>
              <a:avLst/>
              <a:gdLst/>
              <a:ahLst/>
              <a:rect l="l" t="t" r="r" b="b"/>
              <a:pathLst>
                <a:path w="324" h="348">
                  <a:moveTo>
                    <a:pt x="190" y="0"/>
                  </a:moveTo>
                  <a:lnTo>
                    <a:pt x="227" y="149"/>
                  </a:lnTo>
                  <a:lnTo>
                    <a:pt x="0" y="259"/>
                  </a:lnTo>
                  <a:lnTo>
                    <a:pt x="66" y="347"/>
                  </a:lnTo>
                  <a:lnTo>
                    <a:pt x="44" y="266"/>
                  </a:lnTo>
                  <a:lnTo>
                    <a:pt x="323" y="170"/>
                  </a:lnTo>
                  <a:lnTo>
                    <a:pt x="19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72600" y="4003200"/>
              <a:ext cx="468360" cy="672840"/>
            </a:xfrm>
            <a:custGeom>
              <a:avLst/>
              <a:gdLst/>
              <a:ahLst/>
              <a:rect l="l" t="t" r="r" b="b"/>
              <a:pathLst>
                <a:path w="219" h="299">
                  <a:moveTo>
                    <a:pt x="52" y="210"/>
                  </a:moveTo>
                  <a:lnTo>
                    <a:pt x="124" y="143"/>
                  </a:lnTo>
                  <a:lnTo>
                    <a:pt x="0" y="0"/>
                  </a:lnTo>
                  <a:lnTo>
                    <a:pt x="182" y="149"/>
                  </a:lnTo>
                  <a:lnTo>
                    <a:pt x="218" y="298"/>
                  </a:lnTo>
                  <a:lnTo>
                    <a:pt x="52" y="2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61640" y="2663280"/>
              <a:ext cx="2980080" cy="1935720"/>
            </a:xfrm>
            <a:custGeom>
              <a:avLst/>
              <a:gdLst/>
              <a:ahLst/>
              <a:rect l="l" t="t" r="r" b="b"/>
              <a:pathLst>
                <a:path w="1393" h="860">
                  <a:moveTo>
                    <a:pt x="260" y="316"/>
                  </a:moveTo>
                  <a:lnTo>
                    <a:pt x="283" y="501"/>
                  </a:lnTo>
                  <a:lnTo>
                    <a:pt x="394" y="577"/>
                  </a:lnTo>
                  <a:lnTo>
                    <a:pt x="335" y="701"/>
                  </a:lnTo>
                  <a:lnTo>
                    <a:pt x="118" y="680"/>
                  </a:lnTo>
                  <a:lnTo>
                    <a:pt x="132" y="784"/>
                  </a:lnTo>
                  <a:lnTo>
                    <a:pt x="0" y="817"/>
                  </a:lnTo>
                  <a:lnTo>
                    <a:pt x="163" y="859"/>
                  </a:lnTo>
                  <a:lnTo>
                    <a:pt x="394" y="769"/>
                  </a:lnTo>
                  <a:lnTo>
                    <a:pt x="439" y="577"/>
                  </a:lnTo>
                  <a:lnTo>
                    <a:pt x="431" y="371"/>
                  </a:lnTo>
                  <a:lnTo>
                    <a:pt x="796" y="172"/>
                  </a:lnTo>
                  <a:lnTo>
                    <a:pt x="736" y="427"/>
                  </a:lnTo>
                  <a:lnTo>
                    <a:pt x="832" y="178"/>
                  </a:lnTo>
                  <a:lnTo>
                    <a:pt x="1108" y="418"/>
                  </a:lnTo>
                  <a:lnTo>
                    <a:pt x="900" y="192"/>
                  </a:lnTo>
                  <a:lnTo>
                    <a:pt x="1392" y="89"/>
                  </a:lnTo>
                  <a:lnTo>
                    <a:pt x="863" y="143"/>
                  </a:lnTo>
                  <a:lnTo>
                    <a:pt x="587" y="0"/>
                  </a:lnTo>
                  <a:lnTo>
                    <a:pt x="424" y="48"/>
                  </a:lnTo>
                  <a:lnTo>
                    <a:pt x="379" y="7"/>
                  </a:lnTo>
                  <a:lnTo>
                    <a:pt x="320" y="48"/>
                  </a:lnTo>
                  <a:lnTo>
                    <a:pt x="602" y="117"/>
                  </a:lnTo>
                  <a:lnTo>
                    <a:pt x="662" y="199"/>
                  </a:lnTo>
                  <a:lnTo>
                    <a:pt x="260" y="3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84440" y="2071080"/>
              <a:ext cx="2979360" cy="4813200"/>
            </a:xfrm>
            <a:custGeom>
              <a:avLst/>
              <a:gdLst/>
              <a:ahLst/>
              <a:rect l="l" t="t" r="r" b="b"/>
              <a:pathLst>
                <a:path w="1393" h="2138">
                  <a:moveTo>
                    <a:pt x="477" y="751"/>
                  </a:moveTo>
                  <a:lnTo>
                    <a:pt x="551" y="979"/>
                  </a:lnTo>
                  <a:lnTo>
                    <a:pt x="0" y="1359"/>
                  </a:lnTo>
                  <a:lnTo>
                    <a:pt x="276" y="1247"/>
                  </a:lnTo>
                  <a:lnTo>
                    <a:pt x="193" y="1482"/>
                  </a:lnTo>
                  <a:lnTo>
                    <a:pt x="313" y="1489"/>
                  </a:lnTo>
                  <a:lnTo>
                    <a:pt x="417" y="1199"/>
                  </a:lnTo>
                  <a:lnTo>
                    <a:pt x="968" y="1104"/>
                  </a:lnTo>
                  <a:lnTo>
                    <a:pt x="998" y="1275"/>
                  </a:lnTo>
                  <a:lnTo>
                    <a:pt x="901" y="1489"/>
                  </a:lnTo>
                  <a:lnTo>
                    <a:pt x="566" y="1627"/>
                  </a:lnTo>
                  <a:lnTo>
                    <a:pt x="268" y="1640"/>
                  </a:lnTo>
                  <a:lnTo>
                    <a:pt x="543" y="1669"/>
                  </a:lnTo>
                  <a:lnTo>
                    <a:pt x="559" y="1771"/>
                  </a:lnTo>
                  <a:lnTo>
                    <a:pt x="298" y="1779"/>
                  </a:lnTo>
                  <a:lnTo>
                    <a:pt x="223" y="1703"/>
                  </a:lnTo>
                  <a:lnTo>
                    <a:pt x="313" y="2137"/>
                  </a:lnTo>
                  <a:lnTo>
                    <a:pt x="372" y="2116"/>
                  </a:lnTo>
                  <a:lnTo>
                    <a:pt x="595" y="1779"/>
                  </a:lnTo>
                  <a:lnTo>
                    <a:pt x="610" y="1647"/>
                  </a:lnTo>
                  <a:lnTo>
                    <a:pt x="908" y="1495"/>
                  </a:lnTo>
                  <a:lnTo>
                    <a:pt x="1079" y="1268"/>
                  </a:lnTo>
                  <a:lnTo>
                    <a:pt x="1005" y="1124"/>
                  </a:lnTo>
                  <a:lnTo>
                    <a:pt x="1191" y="1020"/>
                  </a:lnTo>
                  <a:lnTo>
                    <a:pt x="1392" y="725"/>
                  </a:lnTo>
                  <a:lnTo>
                    <a:pt x="1288" y="551"/>
                  </a:lnTo>
                  <a:lnTo>
                    <a:pt x="1309" y="338"/>
                  </a:lnTo>
                  <a:lnTo>
                    <a:pt x="1035" y="48"/>
                  </a:lnTo>
                  <a:lnTo>
                    <a:pt x="818" y="0"/>
                  </a:lnTo>
                  <a:lnTo>
                    <a:pt x="1013" y="63"/>
                  </a:lnTo>
                  <a:lnTo>
                    <a:pt x="1273" y="338"/>
                  </a:lnTo>
                  <a:lnTo>
                    <a:pt x="1236" y="538"/>
                  </a:lnTo>
                  <a:lnTo>
                    <a:pt x="1138" y="580"/>
                  </a:lnTo>
                  <a:lnTo>
                    <a:pt x="1258" y="566"/>
                  </a:lnTo>
                  <a:lnTo>
                    <a:pt x="1333" y="731"/>
                  </a:lnTo>
                  <a:lnTo>
                    <a:pt x="833" y="682"/>
                  </a:lnTo>
                  <a:lnTo>
                    <a:pt x="745" y="758"/>
                  </a:lnTo>
                  <a:lnTo>
                    <a:pt x="1138" y="972"/>
                  </a:lnTo>
                  <a:lnTo>
                    <a:pt x="976" y="1069"/>
                  </a:lnTo>
                  <a:lnTo>
                    <a:pt x="432" y="1179"/>
                  </a:lnTo>
                  <a:lnTo>
                    <a:pt x="580" y="992"/>
                  </a:lnTo>
                  <a:lnTo>
                    <a:pt x="737" y="930"/>
                  </a:lnTo>
                  <a:lnTo>
                    <a:pt x="477" y="7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20240" y="2260440"/>
              <a:ext cx="885600" cy="438480"/>
            </a:xfrm>
            <a:custGeom>
              <a:avLst/>
              <a:gdLst/>
              <a:ahLst/>
              <a:rect l="l" t="t" r="r" b="b"/>
              <a:pathLst>
                <a:path w="414" h="195">
                  <a:moveTo>
                    <a:pt x="413" y="0"/>
                  </a:moveTo>
                  <a:lnTo>
                    <a:pt x="206" y="66"/>
                  </a:lnTo>
                  <a:lnTo>
                    <a:pt x="0" y="60"/>
                  </a:lnTo>
                  <a:lnTo>
                    <a:pt x="22" y="194"/>
                  </a:lnTo>
                  <a:lnTo>
                    <a:pt x="310" y="194"/>
                  </a:lnTo>
                  <a:lnTo>
                    <a:pt x="89" y="154"/>
                  </a:lnTo>
                  <a:lnTo>
                    <a:pt x="4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16440" y="2152440"/>
              <a:ext cx="1204560" cy="315000"/>
            </a:xfrm>
            <a:custGeom>
              <a:avLst/>
              <a:gdLst/>
              <a:ahLst/>
              <a:rect l="l" t="t" r="r" b="b"/>
              <a:pathLst>
                <a:path w="563" h="140">
                  <a:moveTo>
                    <a:pt x="0" y="0"/>
                  </a:moveTo>
                  <a:lnTo>
                    <a:pt x="111" y="139"/>
                  </a:lnTo>
                  <a:lnTo>
                    <a:pt x="155" y="66"/>
                  </a:lnTo>
                  <a:lnTo>
                    <a:pt x="562" y="19"/>
                  </a:lnTo>
                  <a:lnTo>
                    <a:pt x="170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80880" y="1918080"/>
              <a:ext cx="658800" cy="143640"/>
            </a:xfrm>
            <a:custGeom>
              <a:avLst/>
              <a:gdLst/>
              <a:ahLst/>
              <a:rect l="l" t="t" r="r" b="b"/>
              <a:pathLst>
                <a:path w="308" h="64">
                  <a:moveTo>
                    <a:pt x="15" y="19"/>
                  </a:moveTo>
                  <a:lnTo>
                    <a:pt x="0" y="38"/>
                  </a:lnTo>
                  <a:lnTo>
                    <a:pt x="102" y="63"/>
                  </a:lnTo>
                  <a:lnTo>
                    <a:pt x="307" y="50"/>
                  </a:lnTo>
                  <a:lnTo>
                    <a:pt x="205" y="0"/>
                  </a:lnTo>
                  <a:lnTo>
                    <a:pt x="15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77000" y="594000"/>
              <a:ext cx="643680" cy="1109880"/>
            </a:xfrm>
            <a:custGeom>
              <a:avLst/>
              <a:gdLst/>
              <a:ahLst/>
              <a:rect l="l" t="t" r="r" b="b"/>
              <a:pathLst>
                <a:path w="301" h="493">
                  <a:moveTo>
                    <a:pt x="0" y="0"/>
                  </a:moveTo>
                  <a:lnTo>
                    <a:pt x="66" y="184"/>
                  </a:lnTo>
                  <a:lnTo>
                    <a:pt x="168" y="226"/>
                  </a:lnTo>
                  <a:lnTo>
                    <a:pt x="300" y="492"/>
                  </a:lnTo>
                  <a:lnTo>
                    <a:pt x="154" y="253"/>
                  </a:lnTo>
                  <a:lnTo>
                    <a:pt x="74" y="226"/>
                  </a:lnTo>
                  <a:lnTo>
                    <a:pt x="74" y="35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40800" y="1652400"/>
              <a:ext cx="917640" cy="84960"/>
            </a:xfrm>
            <a:custGeom>
              <a:avLst/>
              <a:gdLst/>
              <a:ahLst/>
              <a:rect l="l" t="t" r="r" b="b"/>
              <a:pathLst>
                <a:path w="429" h="38">
                  <a:moveTo>
                    <a:pt x="29" y="0"/>
                  </a:moveTo>
                  <a:lnTo>
                    <a:pt x="170" y="24"/>
                  </a:lnTo>
                  <a:lnTo>
                    <a:pt x="428" y="37"/>
                  </a:lnTo>
                  <a:lnTo>
                    <a:pt x="125" y="30"/>
                  </a:lnTo>
                  <a:lnTo>
                    <a:pt x="0" y="24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852000" y="622440"/>
            <a:ext cx="2000520" cy="5294520"/>
            <a:chOff x="3852000" y="622440"/>
            <a:chExt cx="2000520" cy="5294520"/>
          </a:xfrm>
        </p:grpSpPr>
        <p:sp>
          <p:nvSpPr>
            <p:cNvPr id="118" name=""/>
            <p:cNvSpPr/>
            <p:nvPr/>
          </p:nvSpPr>
          <p:spPr>
            <a:xfrm>
              <a:off x="4042800" y="622440"/>
              <a:ext cx="158436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Habilidade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7720" y="1374840"/>
              <a:ext cx="169092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Conocimien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52000" y="2494080"/>
              <a:ext cx="200052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Valores/Rol So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42440" y="3502080"/>
              <a:ext cx="162108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Autoimagen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53320" y="4510080"/>
              <a:ext cx="139824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 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Rasgo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35680" y="5518080"/>
              <a:ext cx="143316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Motivos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7480" y="620640"/>
            <a:ext cx="2259360" cy="5258160"/>
            <a:chOff x="447480" y="620640"/>
            <a:chExt cx="2259360" cy="5258160"/>
          </a:xfrm>
        </p:grpSpPr>
        <p:sp>
          <p:nvSpPr>
            <p:cNvPr id="125" name=""/>
            <p:cNvSpPr/>
            <p:nvPr/>
          </p:nvSpPr>
          <p:spPr>
            <a:xfrm>
              <a:off x="1003680" y="620640"/>
              <a:ext cx="114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pue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82360" y="1374840"/>
              <a:ext cx="13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sé co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7480" y="2421000"/>
              <a:ext cx="2259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veo impor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o apropi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88560" y="3540240"/>
              <a:ext cx="11790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soy 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4363920"/>
              <a:ext cx="1901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hago naturalmente o habitual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4080" y="5556240"/>
              <a:ext cx="15843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disfr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128000" y="620640"/>
            <a:ext cx="1901880" cy="5258160"/>
            <a:chOff x="7128000" y="620640"/>
            <a:chExt cx="1901880" cy="5258160"/>
          </a:xfrm>
        </p:grpSpPr>
        <p:sp>
          <p:nvSpPr>
            <p:cNvPr id="132" name=""/>
            <p:cNvSpPr/>
            <p:nvPr/>
          </p:nvSpPr>
          <p:spPr>
            <a:xfrm>
              <a:off x="7668360" y="620640"/>
              <a:ext cx="81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Pue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3880" y="137484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Sé co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42760" y="2421000"/>
              <a:ext cx="18738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Es lo correct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hacer para 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46040" y="3540240"/>
              <a:ext cx="86508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Soy 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28000" y="4363920"/>
              <a:ext cx="1901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Lo hago naturalmente o habitual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6760" y="5556240"/>
              <a:ext cx="15843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Lo disfr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39800" y="6165720"/>
            <a:ext cx="201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Competencia No 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04160" y="6093000"/>
            <a:ext cx="201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Competencia 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BASES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533520" y="457200"/>
            <a:ext cx="8328960" cy="5568480"/>
            <a:chOff x="533520" y="457200"/>
            <a:chExt cx="8328960" cy="5568480"/>
          </a:xfrm>
        </p:grpSpPr>
        <p:sp>
          <p:nvSpPr>
            <p:cNvPr id="142" name=""/>
            <p:cNvSpPr/>
            <p:nvPr/>
          </p:nvSpPr>
          <p:spPr>
            <a:xfrm>
              <a:off x="5886360" y="520380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To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1320" y="520380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Nivel Gerenc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520380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Objeti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86360" y="4269960"/>
              <a:ext cx="297612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Productos / resulta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11320" y="4269960"/>
              <a:ext cx="297468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Características person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520" y="4269960"/>
              <a:ext cx="237780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Resumen de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86360" y="3449520"/>
              <a:ext cx="297612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Función / 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11320" y="3449520"/>
              <a:ext cx="297468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La perso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20" y="3449520"/>
              <a:ext cx="237780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Fo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86360" y="2100960"/>
              <a:ext cx="297612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Identificar los estándares requeri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11320" y="2100960"/>
              <a:ext cx="297468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Identificar el alto desemp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2100960"/>
              <a:ext cx="237780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Propósi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86360" y="127908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U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11320" y="127908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US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127908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Ori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86360" y="45720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cc66"/>
                  </a:solidFill>
                  <a:latin typeface="Arial Narrow"/>
                </a:rPr>
                <a:t>Compet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11320" y="45720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cc66"/>
                  </a:solidFill>
                  <a:latin typeface="Arial Narrow"/>
                </a:rPr>
                <a:t>Competenci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520" y="45720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520" y="457200"/>
              <a:ext cx="237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520" y="6025680"/>
              <a:ext cx="237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520" y="4572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862480" y="4572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11320" y="457200"/>
              <a:ext cx="2974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520" y="127908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86360" y="457200"/>
              <a:ext cx="297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62480" y="127908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520" y="2100960"/>
              <a:ext cx="0" cy="1348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62480" y="2100960"/>
              <a:ext cx="0" cy="1348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3520" y="3449520"/>
              <a:ext cx="0" cy="82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862480" y="3449520"/>
              <a:ext cx="0" cy="82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520" y="4269960"/>
              <a:ext cx="0" cy="933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862480" y="4269960"/>
              <a:ext cx="0" cy="933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520" y="52038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862480" y="52038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1320" y="6025680"/>
              <a:ext cx="2974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86360" y="6025680"/>
              <a:ext cx="297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HISTORIA DE LAS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76240" y="2638440"/>
            <a:ext cx="7848720" cy="1655640"/>
            <a:chOff x="876240" y="2638440"/>
            <a:chExt cx="7848720" cy="1655640"/>
          </a:xfrm>
        </p:grpSpPr>
        <p:sp>
          <p:nvSpPr>
            <p:cNvPr id="181" name=""/>
            <p:cNvSpPr/>
            <p:nvPr/>
          </p:nvSpPr>
          <p:spPr>
            <a:xfrm>
              <a:off x="4218120" y="4017600"/>
              <a:ext cx="4460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8120" y="374148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18120" y="3466800"/>
              <a:ext cx="44604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18120" y="319068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18120" y="291456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1384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1384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1384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1384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1384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35840" y="4017600"/>
              <a:ext cx="3780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35840" y="374148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35840" y="3466800"/>
              <a:ext cx="3780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35840" y="319068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35840" y="291456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42040" y="4017600"/>
              <a:ext cx="419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42040" y="374148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42040" y="3466800"/>
              <a:ext cx="4194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42040" y="319068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42040" y="291456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26240" y="4017600"/>
              <a:ext cx="4158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26240" y="374148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26240" y="3466800"/>
              <a:ext cx="4158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26240" y="319068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26240" y="291456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02200" y="4017600"/>
              <a:ext cx="4129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2200" y="374148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02200" y="3466800"/>
              <a:ext cx="4129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02200" y="319068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02200" y="291456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7840" y="4017600"/>
              <a:ext cx="41436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7840" y="374148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87840" y="3466800"/>
              <a:ext cx="41436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87840" y="319068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87840" y="291456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6416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416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6416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416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416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61440" y="4017600"/>
              <a:ext cx="374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1512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5280" y="4017600"/>
              <a:ext cx="41256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2880" y="4017600"/>
              <a:ext cx="4352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54400" y="4017600"/>
              <a:ext cx="142848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1440" y="374148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1512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5280" y="374148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2880" y="374148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54400" y="374148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61440" y="3466800"/>
              <a:ext cx="3744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1512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5280" y="3466800"/>
              <a:ext cx="41256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2880" y="3466800"/>
              <a:ext cx="43524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54400" y="3466800"/>
              <a:ext cx="142848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61440" y="319068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1512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75280" y="319068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82880" y="319068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54400" y="319068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61440" y="291456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1512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75280" y="291456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82880" y="291456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54400" y="291456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61440" y="2638440"/>
              <a:ext cx="11635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5120" y="2638440"/>
              <a:ext cx="12463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75280" y="2638440"/>
              <a:ext cx="12398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82880" y="2638440"/>
              <a:ext cx="1292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54400" y="2638440"/>
              <a:ext cx="142848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76240" y="2638440"/>
              <a:ext cx="1478160" cy="165564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FUNCIONALES   </a:t>
              </a: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(Técnico Específic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Describen las capacidades requeridas del desempeño para lograr el propósito principal de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6240" y="263844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6240" y="42940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6240" y="2638440"/>
              <a:ext cx="0" cy="16556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724960" y="2638440"/>
              <a:ext cx="0" cy="16556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5440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8288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7528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1512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6144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54400" y="291456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812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6416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7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0220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62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420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35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13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54400" y="319068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54400" y="34668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54400" y="374148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54400" y="40176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76240" y="4370400"/>
            <a:ext cx="7846920" cy="1440000"/>
            <a:chOff x="876240" y="4370400"/>
            <a:chExt cx="7846920" cy="1440000"/>
          </a:xfrm>
        </p:grpSpPr>
        <p:sp>
          <p:nvSpPr>
            <p:cNvPr id="275" name=""/>
            <p:cNvSpPr/>
            <p:nvPr/>
          </p:nvSpPr>
          <p:spPr>
            <a:xfrm>
              <a:off x="2354400" y="5556240"/>
              <a:ext cx="6368760" cy="25416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4400" y="5300640"/>
              <a:ext cx="6368760" cy="2556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Comunicación y negociación de confli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54400" y="4965840"/>
              <a:ext cx="6368760" cy="3348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Lideraz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54400" y="4710240"/>
              <a:ext cx="6368760" cy="2556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Toma de decisiones y resolución de problem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54400" y="4370400"/>
              <a:ext cx="6368760" cy="33984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Conocimiento del nego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6240" y="4370400"/>
              <a:ext cx="1478160" cy="14400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CONDUCTU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Describen las capacidades transversales y diferenciadoras del desempeño en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6240" y="4370400"/>
              <a:ext cx="78469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76240" y="5810400"/>
              <a:ext cx="78469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6240" y="4370400"/>
              <a:ext cx="0" cy="144000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23160" y="4370400"/>
              <a:ext cx="0" cy="144000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54400" y="4370400"/>
              <a:ext cx="0" cy="144000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54400" y="47102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54400" y="49658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54400" y="53006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54400" y="55562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876240" y="5894280"/>
            <a:ext cx="7848720" cy="456840"/>
            <a:chOff x="876240" y="5894280"/>
            <a:chExt cx="7848720" cy="456840"/>
          </a:xfrm>
        </p:grpSpPr>
        <p:sp>
          <p:nvSpPr>
            <p:cNvPr id="291" name=""/>
            <p:cNvSpPr/>
            <p:nvPr/>
          </p:nvSpPr>
          <p:spPr>
            <a:xfrm>
              <a:off x="2352960" y="5894280"/>
              <a:ext cx="6371640" cy="456840"/>
            </a:xfrm>
            <a:prstGeom prst="rect">
              <a:avLst/>
            </a:prstGeom>
            <a:gradFill rotWithShape="0">
              <a:gsLst>
                <a:gs pos="0">
                  <a:srgbClr val="e2b4e2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66"/>
                  </a:solidFill>
                  <a:latin typeface="Times New Roman"/>
                </a:rPr>
                <a:t>Leer, escribir, calcular, </a:t>
              </a: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uso NTIC</a:t>
              </a:r>
              <a:r>
                <a:rPr b="0" lang="es-ES" sz="1600" spc="-1" strike="noStrike">
                  <a:solidFill>
                    <a:srgbClr val="000066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6240" y="5894280"/>
              <a:ext cx="1476720" cy="456840"/>
            </a:xfrm>
            <a:prstGeom prst="rect">
              <a:avLst/>
            </a:prstGeom>
            <a:gradFill rotWithShape="0">
              <a:gsLst>
                <a:gs pos="0">
                  <a:srgbClr val="e2b4e2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BAS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76240" y="58942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76240" y="635112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6240" y="5894280"/>
              <a:ext cx="0" cy="4568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24960" y="5894280"/>
              <a:ext cx="0" cy="4568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52960" y="5894280"/>
              <a:ext cx="0" cy="4568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876240" y="1066680"/>
            <a:ext cx="7848720" cy="1474560"/>
            <a:chOff x="876240" y="1066680"/>
            <a:chExt cx="7848720" cy="1474560"/>
          </a:xfrm>
        </p:grpSpPr>
        <p:sp>
          <p:nvSpPr>
            <p:cNvPr id="299" name=""/>
            <p:cNvSpPr/>
            <p:nvPr/>
          </p:nvSpPr>
          <p:spPr>
            <a:xfrm>
              <a:off x="4218120" y="229536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18120" y="2049120"/>
              <a:ext cx="439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8120" y="180324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18120" y="1557000"/>
              <a:ext cx="439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18120" y="131112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57680" y="229536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57680" y="2049120"/>
              <a:ext cx="4176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57680" y="180324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57680" y="1557000"/>
              <a:ext cx="4176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57680" y="131112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12040" y="229536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12040" y="204912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12040" y="180324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12040" y="155700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12040" y="131112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37640" y="229536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37640" y="2049120"/>
              <a:ext cx="3744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37640" y="180324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37640" y="1557000"/>
              <a:ext cx="3744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37640" y="131112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40600" y="229536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40600" y="2049120"/>
              <a:ext cx="4208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40600" y="180324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40600" y="1557000"/>
              <a:ext cx="4208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40600" y="131112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26240" y="229536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26240" y="204912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26240" y="180324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26240" y="155700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26240" y="131112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02200" y="229536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02200" y="204912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02200" y="180324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02200" y="155700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02200" y="131112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87840" y="229536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7840" y="204912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7840" y="180324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7840" y="155700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87840" y="131112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61440" y="229536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15120" y="229536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75280" y="229536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82880" y="229536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54400" y="229536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COORDI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61440" y="2049120"/>
              <a:ext cx="3762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15120" y="2049120"/>
              <a:ext cx="4111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75280" y="2049120"/>
              <a:ext cx="412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82880" y="2049120"/>
              <a:ext cx="4352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4400" y="2049120"/>
              <a:ext cx="142848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FACULT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61440" y="180324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15120" y="180324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5280" y="180324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82880" y="180324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54400" y="180324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CONTR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61440" y="1557000"/>
              <a:ext cx="3762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15120" y="1557000"/>
              <a:ext cx="4111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75280" y="1557000"/>
              <a:ext cx="412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82880" y="1557000"/>
              <a:ext cx="4352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54400" y="1557000"/>
              <a:ext cx="142848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ORGANIZ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61440" y="131112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15120" y="131112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75280" y="131112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2880" y="131112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54400" y="131112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PLANIFI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61440" y="1066680"/>
              <a:ext cx="116352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PERSO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15120" y="1066680"/>
              <a:ext cx="124632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75280" y="1066680"/>
              <a:ext cx="123984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ACTIVID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82880" y="1066680"/>
              <a:ext cx="129240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54400" y="1066680"/>
              <a:ext cx="142848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GESTIO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6240" y="1066680"/>
              <a:ext cx="1478160" cy="147456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66"/>
                  </a:solidFill>
                  <a:latin typeface="Times New Roman"/>
                </a:rPr>
                <a:t>FUNCIONALES</a:t>
              </a:r>
              <a:r>
                <a:rPr b="0" lang="es-ES" sz="1400" spc="-1" strike="noStrike">
                  <a:solidFill>
                    <a:srgbClr val="000066"/>
                  </a:solidFill>
                  <a:latin typeface="Times New Roman"/>
                </a:rPr>
                <a:t> (Gestió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66"/>
                  </a:solidFill>
                  <a:latin typeface="Times New Roman"/>
                </a:rPr>
                <a:t>Describen las capacidades requeridas del desempeño para </a:t>
              </a: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lograr el propósito principal de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6240" y="10666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6240" y="254124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6240" y="1066680"/>
              <a:ext cx="0" cy="147456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24960" y="1066680"/>
              <a:ext cx="0" cy="147456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5440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288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7528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512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6144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54400" y="131112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1812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5768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878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0220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262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4060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376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120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54400" y="15570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54400" y="180324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54400" y="204912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54400" y="229536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EJEMPLO COMPETENCIAS FUNCIONALES G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92360" y="693720"/>
            <a:ext cx="6192720" cy="5904000"/>
            <a:chOff x="1692360" y="693720"/>
            <a:chExt cx="6192720" cy="5904000"/>
          </a:xfrm>
        </p:grpSpPr>
        <p:sp>
          <p:nvSpPr>
            <p:cNvPr id="394" name=""/>
            <p:cNvSpPr/>
            <p:nvPr/>
          </p:nvSpPr>
          <p:spPr>
            <a:xfrm>
              <a:off x="1692360" y="693720"/>
              <a:ext cx="6192720" cy="590400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9440000">
              <a:off x="3255480" y="1218960"/>
              <a:ext cx="139248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Adminis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20200">
              <a:off x="5029560" y="1143000"/>
              <a:ext cx="1160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De sí m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42480" y="6021360"/>
              <a:ext cx="2181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Y habilidades pers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268360" y="1052640"/>
            <a:ext cx="5040360" cy="4824360"/>
            <a:chOff x="2268360" y="1052640"/>
            <a:chExt cx="5040360" cy="4824360"/>
          </a:xfrm>
        </p:grpSpPr>
        <p:sp>
          <p:nvSpPr>
            <p:cNvPr id="399" name=""/>
            <p:cNvSpPr/>
            <p:nvPr/>
          </p:nvSpPr>
          <p:spPr>
            <a:xfrm>
              <a:off x="2268360" y="1052640"/>
              <a:ext cx="5040360" cy="4824360"/>
            </a:xfrm>
            <a:prstGeom prst="pentagon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00600" y="1052640"/>
              <a:ext cx="0" cy="237636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2924280"/>
              <a:ext cx="2532240" cy="50472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276720" y="3429000"/>
              <a:ext cx="1523880" cy="244800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4800240" y="3429000"/>
              <a:ext cx="1500120" cy="244800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800240" y="2924280"/>
              <a:ext cx="2508120" cy="50472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988000" y="2276640"/>
            <a:ext cx="3659760" cy="3040920"/>
            <a:chOff x="2988000" y="2276640"/>
            <a:chExt cx="3659760" cy="3040920"/>
          </a:xfrm>
        </p:grpSpPr>
        <p:sp>
          <p:nvSpPr>
            <p:cNvPr id="406" name=""/>
            <p:cNvSpPr/>
            <p:nvPr/>
          </p:nvSpPr>
          <p:spPr>
            <a:xfrm>
              <a:off x="2988000" y="3716280"/>
              <a:ext cx="991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Us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88520" y="4797360"/>
              <a:ext cx="134820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Trabaj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con Person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08360" y="3716280"/>
              <a:ext cx="113940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Logr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75280" y="2276640"/>
              <a:ext cx="11210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Facilit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el Camb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79320" y="2276640"/>
              <a:ext cx="99288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D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Dire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11280" y="620640"/>
            <a:ext cx="8424720" cy="6048360"/>
            <a:chOff x="611280" y="620640"/>
            <a:chExt cx="8424720" cy="6048360"/>
          </a:xfrm>
        </p:grpSpPr>
        <p:sp>
          <p:nvSpPr>
            <p:cNvPr id="412" name=""/>
            <p:cNvSpPr/>
            <p:nvPr/>
          </p:nvSpPr>
          <p:spPr>
            <a:xfrm>
              <a:off x="7020000" y="1197000"/>
              <a:ext cx="2016000" cy="503280"/>
            </a:xfrm>
            <a:prstGeom prst="wedgeRectCallout">
              <a:avLst>
                <a:gd name="adj1" fmla="val -85277"/>
                <a:gd name="adj2" fmla="val 2194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. Liderar Innov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. Administrar el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77080" y="4581360"/>
              <a:ext cx="2158920" cy="719280"/>
            </a:xfrm>
            <a:prstGeom prst="wedgeRectCallout">
              <a:avLst>
                <a:gd name="adj1" fmla="val -50365"/>
                <a:gd name="adj2" fmla="val -1201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F. Liderar operaciones de Negocio y Proyec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. Satisfacer necesidades de los cli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4360" y="620640"/>
              <a:ext cx="2087280" cy="865440"/>
            </a:xfrm>
            <a:prstGeom prst="wedgeRectCallout">
              <a:avLst>
                <a:gd name="adj1" fmla="val 104601"/>
                <a:gd name="adj2" fmla="val 117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o de visión de futu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B. Obtener compromiso y lider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. Dando Govern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1280" y="4508640"/>
              <a:ext cx="1944720" cy="1441440"/>
            </a:xfrm>
            <a:prstGeom prst="wedgeRectCallout">
              <a:avLst>
                <a:gd name="adj1" fmla="val 80777"/>
                <a:gd name="adj2" fmla="val -53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K. Administrar recursos financie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L. Brindar productos y/o servic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. Administrar recursos físicos y tecnológ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. Administrar información y cono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35280" y="6308640"/>
              <a:ext cx="1657080" cy="360360"/>
            </a:xfrm>
            <a:prstGeom prst="wedgeRectCallout">
              <a:avLst>
                <a:gd name="adj1" fmla="val 114365"/>
                <a:gd name="adj2" fmla="val -411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O. Administrarse a sí mis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83280" y="6093000"/>
              <a:ext cx="2449440" cy="576000"/>
            </a:xfrm>
            <a:prstGeom prst="wedgeRectCallout">
              <a:avLst>
                <a:gd name="adj1" fmla="val -61472"/>
                <a:gd name="adj2" fmla="val -132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H. Construir Rel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.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ar redes y alian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J. Administrar Perso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S BÁ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52560" y="1523880"/>
            <a:ext cx="7772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habilidad para leer,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cribi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hablar; y usar matemáticas al nivel necesario para funcionar y progresar en el trabajo y en la sociedad en gener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s habilidades necesarias para tener éxito en el trabajo, educación y en la vida diar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S CONDUCT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52560" y="838080"/>
            <a:ext cx="7772400" cy="30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quello que las personas de alto desempeño están más dispuestos a hacer en forma continua y que les permite producir resultados de negocios superi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caracterizan por estar definidas con el máximo grado de concreción y especificidad, en cada uno de sus nive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desprenden de la estrategia y core competences de la organ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expresan en descriptores conductuales que las hacen observables y medi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6:03Z</dcterms:created>
  <dc:creator>usuario</dc:creator>
  <dc:description/>
  <dc:language>en-US</dc:language>
  <cp:lastModifiedBy>usuario</cp:lastModifiedBy>
  <dcterms:modified xsi:type="dcterms:W3CDTF">2004-03-10T20:06:57Z</dcterms:modified>
  <cp:revision>1</cp:revision>
  <dc:subject/>
  <dc:title>Modelo de Competencias Laborales Gestión por Competencias  </dc:title>
</cp:coreProperties>
</file>