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ECA8-A9E1-4A32-9072-5F4A06483B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CA7B-F748-4FA1-995A-2F22A4839B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199E-A344-4F1A-AF02-85AF60857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2D87-2314-4645-BCB1-39CE5DC80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A941-8423-4895-9885-01F23FA48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0778-8B67-4418-8A49-651C7AF2D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9939-C8F2-4E1A-9993-271EC83447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D9CA-5625-4CDE-B518-B9EBBE584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8D01-E4A9-4C2E-859F-89214FE43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5872-229C-4FB1-ABD6-22FE5DFB2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7060-9134-4FFC-B031-B8EBDC8DD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DD2A-E73C-4700-87CA-B7B422015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34FB-5993-40B6-A9AD-2BA725272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7A43-39D3-4F23-9231-1A3914AF7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584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040" y="6073920"/>
            <a:ext cx="6769080" cy="441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MARCO GLOBAL DE LA GESTIÓN DE RR.HH. BASADA EN COMPETE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Uso Docente en MBA DII-U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B7F-1FE0-4412-AFCC-C09290D2F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Marco Global de la              Gestión de Recursos Humanos                 basada en Compet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57200" y="1676520"/>
            <a:ext cx="7695720" cy="3047400"/>
            <a:chOff x="457200" y="1676520"/>
            <a:chExt cx="7695720" cy="3047400"/>
          </a:xfrm>
        </p:grpSpPr>
        <p:sp>
          <p:nvSpPr>
            <p:cNvPr id="140" name=""/>
            <p:cNvSpPr/>
            <p:nvPr/>
          </p:nvSpPr>
          <p:spPr>
            <a:xfrm>
              <a:off x="1338840" y="1676520"/>
              <a:ext cx="6814080" cy="304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entury Gothic"/>
                </a:rPr>
                <a:t>La Competencia Laboral es la capacidad manifiesta por una persona para realizar un trabajo productivo aplicando recursos, de manera que cumpla con los estándares de desempeño exigidos en los criterios y condiciones de ejecución del producto, y satisfaga las necesidades y exigencias del cli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2469240"/>
              <a:ext cx="5612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90720" y="1371600"/>
            <a:ext cx="38088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4920" y="2725560"/>
            <a:ext cx="27468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3320" y="2568600"/>
            <a:ext cx="704880" cy="211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480" y="341784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SULTAD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   </a:t>
            </a:r>
            <a:r>
              <a:rPr b="0" lang="es-CL" sz="1400" spc="-1" strike="noStrike">
                <a:solidFill>
                  <a:srgbClr val="000000"/>
                </a:solidFill>
                <a:latin typeface="Century Gothic"/>
              </a:rPr>
              <a:t>Servicio,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1240" y="3592440"/>
            <a:ext cx="368640" cy="206280"/>
          </a:xfrm>
          <a:prstGeom prst="rightArrow">
            <a:avLst>
              <a:gd name="adj1" fmla="val 50000"/>
              <a:gd name="adj2" fmla="val 44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3516480"/>
            <a:ext cx="16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PRA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240" y="4255920"/>
            <a:ext cx="22557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8892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Cal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232080"/>
            <a:ext cx="166212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4120" y="2732040"/>
            <a:ext cx="1822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Atributo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88800">
            <a:off x="3092040" y="3188880"/>
            <a:ext cx="547560" cy="128520"/>
          </a:xfrm>
          <a:prstGeom prst="rightArrow">
            <a:avLst>
              <a:gd name="adj1" fmla="val 50000"/>
              <a:gd name="adj2" fmla="val 1065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55000">
            <a:off x="3066840" y="4179600"/>
            <a:ext cx="547560" cy="106200"/>
          </a:xfrm>
          <a:prstGeom prst="rightArrow">
            <a:avLst>
              <a:gd name="adj1" fmla="val 50000"/>
              <a:gd name="adj2" fmla="val 12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167652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FACTORE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5530680"/>
            <a:ext cx="71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i="1" lang="es-ES_tradnl" sz="1400" spc="-1" strike="noStrike">
                <a:solidFill>
                  <a:srgbClr val="000000"/>
                </a:solidFill>
                <a:latin typeface="Century Gothic"/>
              </a:rPr>
              <a:t>Siempre hay un cliente quien justifica la existencia de un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2438280"/>
            <a:ext cx="16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ementos del C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3668760"/>
            <a:ext cx="380880" cy="206280"/>
          </a:xfrm>
          <a:prstGeom prst="rightArrow">
            <a:avLst>
              <a:gd name="adj1" fmla="val 50000"/>
              <a:gd name="adj2" fmla="val 46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0" y="3646440"/>
            <a:ext cx="520920" cy="152280"/>
          </a:xfrm>
          <a:prstGeom prst="rightArrow">
            <a:avLst>
              <a:gd name="adj1" fmla="val 50000"/>
              <a:gd name="adj2" fmla="val 85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68800">
            <a:off x="4349160" y="151920"/>
            <a:ext cx="609480" cy="3962520"/>
          </a:xfrm>
          <a:custGeom>
            <a:avLst/>
            <a:gdLst>
              <a:gd name="textAreaLeft" fmla="*/ 0 w 609480"/>
              <a:gd name="textAreaRight" fmla="*/ 219960 w 6094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038480"/>
            <a:ext cx="182880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Atributos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447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Saber actuar y Reaccionar en forma responsable y validada en un contexto profesional particular,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124080"/>
            <a:ext cx="1447560" cy="1739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aber Movilizar Integrar y Transfe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720" y="3124080"/>
            <a:ext cx="2089080" cy="160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Recurso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(Conocimientos, Habilidades, y Actitu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3840" y="3135240"/>
            <a:ext cx="2754360" cy="297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ara Resolver problemas en un contexto laboral particular, cumpliendo estándares o criteri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1295280"/>
            <a:ext cx="60958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Empezar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rocesos críticos para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argos muy sensibles para el logro de los objetivos en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Áreas centrales en la cadena de val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Unidades en las cuales existen condiciones para una óptima implementación del modelo, a modo de pil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do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0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c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identificar las 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eden utilizarse diversas técnic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mbinadas o no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71600" y="2209680"/>
            <a:ext cx="6857640" cy="1981080"/>
            <a:chOff x="1371600" y="2209680"/>
            <a:chExt cx="6857640" cy="1981080"/>
          </a:xfrm>
        </p:grpSpPr>
        <p:sp>
          <p:nvSpPr>
            <p:cNvPr id="193" name=""/>
            <p:cNvSpPr/>
            <p:nvPr/>
          </p:nvSpPr>
          <p:spPr>
            <a:xfrm>
              <a:off x="137160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stra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04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nel de Exper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00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b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ntrev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04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Be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chmark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Estánd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00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Funcional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 y de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57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609480"/>
            <a:ext cx="784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9cc"/>
                </a:solidFill>
                <a:latin typeface="Impact"/>
              </a:rPr>
              <a:t>nálisis Funcional, para Identificar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57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371600"/>
            <a:ext cx="30456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95280" y="131760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Gothic"/>
              </a:rPr>
              <a:t>Metodologí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66680" y="2438280"/>
            <a:ext cx="7086600" cy="1905120"/>
            <a:chOff x="1066680" y="2438280"/>
            <a:chExt cx="7086600" cy="1905120"/>
          </a:xfrm>
        </p:grpSpPr>
        <p:sp>
          <p:nvSpPr>
            <p:cNvPr id="211" name=""/>
            <p:cNvSpPr/>
            <p:nvPr/>
          </p:nvSpPr>
          <p:spPr>
            <a:xfrm>
              <a:off x="1066680" y="2438280"/>
              <a:ext cx="7086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3276720"/>
              <a:ext cx="12142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C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276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 C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276720"/>
              <a:ext cx="14652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276720"/>
              <a:ext cx="1219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7160" y="263844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Qué hay que hacer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7814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92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7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24080" y="397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1219320"/>
            <a:ext cx="72388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Recomendaciones para su identificació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ertinentes y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ponden al futuro deseado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raducen misi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, objetivos, valores, cultura)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ver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so frecu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tisface una necesidad funcional (es demand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lanceadas.  (Cuadro de Mando Integ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906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Competencias G</a:t>
            </a:r>
            <a:r>
              <a:rPr b="0" lang="es-CL" sz="3200" spc="-1" strike="noStrike">
                <a:solidFill>
                  <a:srgbClr val="0099cc"/>
                </a:solidFill>
                <a:latin typeface="Impact"/>
              </a:rPr>
              <a:t>ené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isten muchos formatos para describir las normas de competencias, ¿pero cuáles son los componentes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3040" y="2133720"/>
            <a:ext cx="495144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mbre de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390760"/>
            <a:ext cx="6781680" cy="59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022560"/>
            <a:ext cx="67820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iterio de desempeño / Indicador condu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3040" y="3352680"/>
            <a:ext cx="67820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0" y="4191120"/>
            <a:ext cx="676728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4 Criterio de desempeñ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1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tros componentes que se utilizan s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27340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ampo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tuaciones, condicione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ha de 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78136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servación, experiencia, productos de trabajo, pruebas, testimon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27672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sta de Conocimiento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78468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al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étodos, procedimiento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80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ursos, lecturas, ejerc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775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c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finiciones de concepto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Impact"/>
              </a:rPr>
              <a:t>2 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ecto de los componentes que utilizaremos en la descripción de competencias?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Considerem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n desafiantes, pero no amenazan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dialogu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, sea homologabl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con las best pract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interpre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nuestra cultura, que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o conduzcan a dobles interpretacione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facili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la posterior implementación de otras aplicaciones d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pueda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ser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objeto de actualización contínua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no sea buroc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 un instrumento, no un fin en sí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  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3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48320" y="45720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492200"/>
            <a:ext cx="678168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el rol de las actitudes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quer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as competencias permiten relacionar las prácticas de trabajo con la estrategia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Conlleva uniformar las prácticas de RR.HH. y conduce a una Gestión integrada de los RR.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diferentes accesos al k-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28800" y="1371600"/>
            <a:ext cx="60958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Empezar por las competencias de 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un cargo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más “sensibles” para asegurar el objetivo institucional o del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área analizada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, aplicando el siguiente or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scribiendo el cargo en términos de ejes de competencias y sus recursos asoci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finiendo las prácticas asociadas y sus respectivos criterios y evidencias de desempe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Identificando estándares o indicadores para cada prác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mpetencias en un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5280" y="1371600"/>
            <a:ext cx="7188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1. Misión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2. Resultados esperados en servicios y/o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3. Factores de Camb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4. Principales competenc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Expresadas como “ser capaz de + verbo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Ubicadas sobre ej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Con criterios, evidencias y campos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5. Los principales “Recurs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pers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Habilidades (ser capaz de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del entorno (Banco de Datos, Sistemas de so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6240" y="68580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 contenido de una descripción de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Factores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711440"/>
            <a:ext cx="7086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riables de contexto que determinan que la competencia se modifique e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711440"/>
            <a:ext cx="7086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junto de tarea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Pr</a:t>
            </a:r>
            <a:r>
              <a:rPr b="0" lang="es-CL" sz="3600" spc="-1" strike="noStrike">
                <a:solidFill>
                  <a:srgbClr val="0099cc"/>
                </a:solidFill>
                <a:latin typeface="Impact"/>
              </a:rPr>
              <a:t>á</a:t>
            </a: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ticas de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5280" y="1371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escripciones que especifican qué actividades realizar y cómo ejecutarlas para alcanzar una actuación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371600"/>
            <a:ext cx="7162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Orientan hacia el desempeño considerado como competen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eben considerarse contribuyentes y significativos (críticos) para alcanzar los resultados previstos y hacer referencia a la calidad que deben tener dichos result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Expresan el qué se espera del desempeño y el cómo se espera que sea el resultado o 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87280" y="1371600"/>
            <a:ext cx="71186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Corresponde al contexto de trabajo específico en el cua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e pondrá a prueba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domin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competencia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22200" y="733320"/>
            <a:ext cx="761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una Práctica de Trabajo y sus Crit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19320" y="1295280"/>
            <a:ext cx="6400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Ser capaz de enfrentar recla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Objetivando los recl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vitando reacciones negativas y reflejas ante la a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onando la solución a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Comunicando al cliente la gestión realizada y efectos esperados de ella (condiciones, pla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erificando que el cliente comprenda la respuesta y se manifieste satisfecho con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48600" y="946476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2120" y="94647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5440" y="9575640"/>
            <a:ext cx="1828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2760" y="94647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0" y="964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14320" y="9634680"/>
            <a:ext cx="498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Hooghiemstra, T.; Gestión Integrada de Recursos Humanos; 1996;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1120" y="967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86920" y="1218960"/>
            <a:ext cx="7270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S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guen tres tipos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 conoc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ceso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aquellas elementos que indican la calidad en la ejecución de una tarea y que son factibles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observación y análisi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del proceso de trabaj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ducto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los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ultados o productos identificables y tangibles, que pueden usarse como referentes para demostrar que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actividad fue realiza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Evid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600" y="1219320"/>
            <a:ext cx="8204040" cy="126720"/>
            <a:chOff x="228600" y="1219320"/>
            <a:chExt cx="8204040" cy="12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174680" y="12193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447560" y="1939680"/>
            <a:ext cx="7445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Cumple con los aspectos formales (plazos, formato, medios de distribución, lenguaje, legal del pa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el entendimiento de la empresa acerca del negocio del cliente, el problema y su contexto y los beneficios esperados por el cliente. Expone claramente el valor (beneficio) para el cliente, los atributos diferenciadores mediante la exposición de valor agregado y ún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las alternativas y justifica adecuadamente la alternativa propuesta, indicando claramente el detalle de costos involucrados en la propuesta y los beneficios que el cliente obtend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90720"/>
            <a:ext cx="92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b13348"/>
                </a:solidFill>
                <a:latin typeface="Century Gothic"/>
              </a:rPr>
              <a:t>Practica de Trabajo</a:t>
            </a:r>
            <a:r>
              <a:rPr b="1" lang="en-US" sz="20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Elaborar propuesta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13348"/>
                </a:solidFill>
                <a:latin typeface="Century Gothic"/>
              </a:rPr>
              <a:t>Criterio</a:t>
            </a:r>
            <a:r>
              <a:rPr b="1" lang="en-US" sz="16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1600" spc="-1" strike="noStrike">
                <a:solidFill>
                  <a:srgbClr val="000099"/>
                </a:solidFill>
                <a:latin typeface="Century Gothic"/>
              </a:rPr>
              <a:t>Incorporando contenidos necesarios para la propuesta</a:t>
            </a:r>
            <a:r>
              <a:rPr b="0" lang="es-CL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57200"/>
            <a:ext cx="7959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Evidencias de Desempeño por Cri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1092240"/>
            <a:ext cx="8204040" cy="127080"/>
            <a:chOff x="228600" y="1092240"/>
            <a:chExt cx="8204040" cy="1270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174680" y="109224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00200" y="45720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454040"/>
            <a:ext cx="72388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efectivo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estionar la capacidad para producir, saber qué produce el desempeño superior y pote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focar en las competencias  requeridas, antes que en tareas o resultados esperados, es asumir una enfoque dinámico, que facilita el diseño proactivo y flexible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36600" y="304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roceso de evaluación y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428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0666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dentificar la(s) norma(s)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petencia en las que se des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btener el cert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90512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colectar las evidenc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empe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ñ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 y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7432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arar las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rente a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 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1981080"/>
            <a:ext cx="1904760" cy="144792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gistr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informaci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000" y="388476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Sí.  E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581280"/>
            <a:ext cx="1905120" cy="11430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¿alcanza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erid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683160"/>
            <a:ext cx="106668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Narrow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952880"/>
            <a:ext cx="3429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stablecer las necesidades de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y desarrollo para alcanzar la 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638680"/>
            <a:ext cx="3429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fectuar las acciones de formación y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648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N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o.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A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ún no es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25146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33526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724280"/>
            <a:ext cx="14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4100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140360"/>
            <a:ext cx="1943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791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162920" y="3441600"/>
            <a:ext cx="14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5280" y="4140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2235240"/>
            <a:ext cx="1440" cy="355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24784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579132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600" y="939960"/>
            <a:ext cx="8204040" cy="126720"/>
            <a:chOff x="228600" y="939960"/>
            <a:chExt cx="8204040" cy="1267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228600" y="9399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74680" y="9399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05120"/>
            <a:ext cx="32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mbi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rabajo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mplejo y Ale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343400" y="2057400"/>
            <a:ext cx="838080" cy="3124080"/>
          </a:xfrm>
          <a:custGeom>
            <a:avLst/>
            <a:gdLst>
              <a:gd name="textAreaLeft" fmla="*/ 0 w 838080"/>
              <a:gd name="textAreaRight" fmla="*/ 302760 w 8380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828800"/>
            <a:ext cx="3276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Competencias pueden convertirse e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ventajas competitivas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as organizaciones y en factor d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empleabilidad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os trabajador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1522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990720"/>
            <a:ext cx="8204040" cy="126720"/>
            <a:chOff x="228600" y="990720"/>
            <a:chExt cx="8204040" cy="126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74680" y="9907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838080"/>
            <a:ext cx="7848000" cy="5029200"/>
            <a:chOff x="762120" y="838080"/>
            <a:chExt cx="7848000" cy="5029200"/>
          </a:xfrm>
        </p:grpSpPr>
        <p:sp>
          <p:nvSpPr>
            <p:cNvPr id="80" name=""/>
            <p:cNvSpPr/>
            <p:nvPr/>
          </p:nvSpPr>
          <p:spPr>
            <a:xfrm>
              <a:off x="762120" y="838080"/>
              <a:ext cx="7848000" cy="5029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1960" y="1508040"/>
              <a:ext cx="1882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o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queremos log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0480" y="2334600"/>
              <a:ext cx="18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a forma en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hacemos las co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31360" y="3178800"/>
              <a:ext cx="4619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ESTRATEGIA INSTITU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ómo lograremos la 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(incluye objetivos para Un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y/o Gcias. Funciona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212000"/>
              <a:ext cx="776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CENTRALES Y DISTIN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tenemos que ser únicos o distintivos para alcanz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4200" y="4968360"/>
              <a:ext cx="776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TRANSVERSALES Y FUNCI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debe ser buena nuestra gente para sustentar nuest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ompetencias Centrales y lograr 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Relación entre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y Estrate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3600" y="64296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Modelo de Competencias y Gestión de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95640" y="2589120"/>
            <a:ext cx="5581800" cy="16938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8106000">
            <a:off x="3084120" y="2590920"/>
            <a:ext cx="5581800" cy="1738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6600">
            <a:off x="3474720" y="2500200"/>
            <a:ext cx="4878360" cy="19861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440" y="1468440"/>
            <a:ext cx="5304960" cy="4136040"/>
            <a:chOff x="3412440" y="1468440"/>
            <a:chExt cx="5304960" cy="4136040"/>
          </a:xfrm>
        </p:grpSpPr>
        <p:sp>
          <p:nvSpPr>
            <p:cNvPr id="96" name=""/>
            <p:cNvSpPr/>
            <p:nvPr/>
          </p:nvSpPr>
          <p:spPr>
            <a:xfrm>
              <a:off x="6892200" y="4669200"/>
              <a:ext cx="1020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REMUNER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600" y="5175720"/>
              <a:ext cx="11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FORMACIÓ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ARROL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480" y="4796280"/>
              <a:ext cx="8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UCES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2440" y="324576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LANES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ARR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8160" y="3258720"/>
              <a:ext cx="1299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ORGAN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Y RO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9000" y="1841040"/>
              <a:ext cx="1099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EMPE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1468440"/>
              <a:ext cx="131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EL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ONTRAT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2200" y="1806840"/>
              <a:ext cx="109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ISEÑO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UEST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29160" y="3060720"/>
            <a:ext cx="26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MODELO       INSTITUCIONA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181400" y="16128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911760" y="54100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23040" y="4068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614920" y="2319480"/>
            <a:ext cx="271440" cy="16344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5359320" y="4419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2997360" y="3429000"/>
            <a:ext cx="271440" cy="165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6654960" y="48006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46280" y="2418840"/>
            <a:ext cx="4878360" cy="2170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4673520" y="28954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23619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La potencia y efectividad del modelo se incrementan a medida que sus aplicaciones cruzan e interconectan los subsistemas de R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Regla de oro: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Es más importante una fuerte coherencia entre instrumentos sencillos que una coherencia débil entre instrumentos sofisticad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891800"/>
            <a:ext cx="73407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tri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gulo virtuoso del capital hum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17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81280" y="3343320"/>
            <a:ext cx="1828800" cy="1523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9520" y="46832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4520" y="2778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720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90720" y="1371600"/>
            <a:ext cx="30456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1405080"/>
            <a:ext cx="71247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integración de Saber, Querer y Po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un Contex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 Laboral específ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 producir un desempeño des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31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8:35:50Z</dcterms:created>
  <dc:creator>Esteban Rodriguez</dc:creator>
  <dc:description/>
  <dc:language>en-US</dc:language>
  <cp:lastModifiedBy>UNIVERSIDAD DE CHILE</cp:lastModifiedBy>
  <dcterms:modified xsi:type="dcterms:W3CDTF">2004-03-09T21:08:10Z</dcterms:modified>
  <cp:revision>1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2006183</vt:r8>
  </property>
  <property fmtid="{D5CDD505-2E9C-101B-9397-08002B2CF9AE}" pid="3" name="_AuthorEmail">
    <vt:lpwstr>erodriguez@sintagma.cl</vt:lpwstr>
  </property>
  <property fmtid="{D5CDD505-2E9C-101B-9397-08002B2CF9AE}" pid="4" name="_AuthorEmailDisplayName">
    <vt:lpwstr>erodriguez@sintagma.cl</vt:lpwstr>
  </property>
  <property fmtid="{D5CDD505-2E9C-101B-9397-08002B2CF9AE}" pid="5" name="_EmailSubject">
    <vt:lpwstr>archivo ppt con material de videoconferencia del martes</vt:lpwstr>
  </property>
</Properties>
</file>