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F6D-A1C2-469C-B468-06854A5E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7A8-B4F5-462C-8061-E0F9B2FE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462-8FFD-4EAA-8272-094DB676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12F-6D34-4B32-AD4C-AEFB1EF0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3632-9B7B-4F66-862C-D37EB93D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2E93-D0C8-4861-A21B-69784113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F47C-21D4-440D-8BFB-71DE00A1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318F-5B2A-43C0-B051-32568F05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11BC-5699-47D2-AD2C-8DD899DC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7523-F196-4932-97F9-F1D89937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1971-2E88-4F1C-806C-CCDB2450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9EC-345E-41AC-8B25-0D52F0EA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EA1E-0081-4944-8933-B82F651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3CFA-D502-45CB-BBD4-DDFFD5AF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8468-8DE6-47E6-8509-98135150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4FD8-0354-41AF-BDF2-C5925750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250F-B4E8-4127-8FE2-7A279347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81B-5691-4906-8131-B08DABF2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BC7-3465-45E8-825A-206A0EAA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8AE-18B6-4A50-B652-37FAE076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935-ADE2-4973-9606-DE55690B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2DA-C1F8-461D-B76D-7970F073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B71-DD89-40DD-9FF5-58B0A693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962-CC1D-41EA-9D20-44D9662C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7781-15D3-457D-87E2-A37C26FF20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56E2-5175-40A4-894F-4B87B5669B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57240" y="160020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GESTION DE RECURSOS HUMAN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fesor: Cristian Binime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14640" y="2955960"/>
            <a:ext cx="1314360" cy="799920"/>
            <a:chOff x="3914640" y="2955960"/>
            <a:chExt cx="1314360" cy="799920"/>
          </a:xfrm>
        </p:grpSpPr>
        <p:sp>
          <p:nvSpPr>
            <p:cNvPr id="165" name=""/>
            <p:cNvSpPr/>
            <p:nvPr/>
          </p:nvSpPr>
          <p:spPr>
            <a:xfrm>
              <a:off x="3914640" y="2955960"/>
              <a:ext cx="131436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14640" y="2955960"/>
              <a:ext cx="10065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0" lang="en-US" sz="43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           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04920" y="1143000"/>
            <a:ext cx="8533800" cy="5333760"/>
            <a:chOff x="304920" y="1143000"/>
            <a:chExt cx="8533800" cy="5333760"/>
          </a:xfrm>
        </p:grpSpPr>
        <p:sp>
          <p:nvSpPr>
            <p:cNvPr id="185" name=""/>
            <p:cNvSpPr/>
            <p:nvPr/>
          </p:nvSpPr>
          <p:spPr>
            <a:xfrm>
              <a:off x="779112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143000"/>
              <a:ext cx="11235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2848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1143000"/>
              <a:ext cx="112356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8480" y="1143000"/>
              <a:ext cx="104760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97000" y="1143000"/>
              <a:ext cx="194544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ac.Interperson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000" y="1143000"/>
              <a:ext cx="194544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Procesos psicológic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y psicosoci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1268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roces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644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76440" y="1143000"/>
              <a:ext cx="232020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Diseñ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76440" y="1470600"/>
              <a:ext cx="115848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5280" y="1470600"/>
              <a:ext cx="11613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uctur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9320" y="1881360"/>
              <a:ext cx="189720" cy="3692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2800" y="1143000"/>
              <a:ext cx="10479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42800" y="1143000"/>
              <a:ext cx="209592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2800" y="1470600"/>
              <a:ext cx="10497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2560" y="1470600"/>
              <a:ext cx="10461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76560" y="5820480"/>
              <a:ext cx="2021400" cy="656280"/>
            </a:xfrm>
            <a:custGeom>
              <a:avLst/>
              <a:gdLst>
                <a:gd name="textAreaLeft" fmla="*/ 353520 w 2021400"/>
                <a:gd name="textAreaRight" fmla="*/ 1465560 w 202140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2224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68040" y="5820480"/>
              <a:ext cx="2170080" cy="656280"/>
            </a:xfrm>
            <a:custGeom>
              <a:avLst/>
              <a:gdLst>
                <a:gd name="textAreaLeft" fmla="*/ 379800 w 2170080"/>
                <a:gd name="textAreaRight" fmla="*/ 1573560 w 217008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2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11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DELO A.S.H. (S. QUIJANO/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CASO CANAL 1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es son los estilos de gestión de RRHH que se identifican en el caso? ¿Cuáles son los elementos distintivos entre ell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elementos del caso responden a una nueva concepción estratégica de RRHH?, ¿Por qu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se entienden los “focos de resistencia interna” y de qué manera pueden ser gestionados desde RRH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Unidad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atégic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 Recursos Hu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 del curso los alumnos deben comprender la Gestión de Recursos Humanos como una actividad de agregación de valor a las empresas y organizaciones, disponiendo de las herramientas para diseñar, planificar y ejecutar políticas de gestión de personas y organiz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pecífic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los principales enfoques de gestión de recursos</a:t>
            </a:r>
            <a:r>
              <a:rPr b="1" lang="es-ES_tradnl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Diferenciar funciones y procesos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agregación de valor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el entorno de negocios y el rol central de la gestión de personas en la competitividad de la empresa del siglo XX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de Recursos Huma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cambios en el empleo y el desarrollo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RHH del “mando y control” al desarrollo de la confian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s Organizacionales y Gestión de Recursos Huma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foque sistémico y la Gestión de Recursos Humano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organización como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provis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irec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evaluación de perso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retribu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esarrollo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Gestión por competencias. Un nuevo enfoque para la Gestión de RRHH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compet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plica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ecursos Humanos y la agregación de Va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nuevos roles de la Gestión de RRHH (estrategia/operación y procesos/person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stores de RRHH reinventarse o mor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Gestión de Personas como agregación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desafíos de la agregación de va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metodología del curso está centrada en el rol central del alumno como sujeto del aprendizaje. Mediante un conjunto de actividades y ejercicios los alumnos irán conociendo los contenidos del curso y aportarán desde sus experiencias y lecturas a la comprensión del rol de la Gestión de Recursos Humanos en la empresa del siglo XX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izar el curso los alumnos deberán entregar un ensayo (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áx.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0 páginas de extensión) que responda creativamente a la pregunta ¿Cómo agregar valor a las empresas desde la Gestión de Recursos Humanos?. Para lo anterior los alumnos deberán leer la bibliografía obligatoria del curso y los contenidos de cl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r fecha de entrega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8:03:45Z</dcterms:created>
  <dc:creator>BertSR</dc:creator>
  <dc:description/>
  <dc:language>en-US</dc:language>
  <cp:lastModifiedBy>UNIVERSIDAD DE CHILE</cp:lastModifiedBy>
  <dcterms:modified xsi:type="dcterms:W3CDTF">2004-03-08T20:53:59Z</dcterms:modified>
  <cp:revision>40</cp:revision>
  <dc:subject/>
  <dc:title>Slide 1</dc:title>
</cp:coreProperties>
</file>