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8E6-C61F-428F-B39B-DACC7EB6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A8D-7D75-4661-8A9D-A827E746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E3B-49F2-426E-BB66-00B9DDCD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FCF-EFD5-4C53-A1CB-CFDCC68C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3835-06D6-4CE2-B1E7-FDA77206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8D39-4CDF-4F47-9AB1-4D7018B4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BDA6-0B4C-4264-A588-66F06145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5E7-8012-4277-AD2C-5D2CB7F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7B0F-474A-4FFE-AFD2-12E1BC2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1631-B835-4093-83E8-6E51AE70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4CD3-4BF5-4E1C-ACAC-3F28415F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4ED-1776-4F96-AB79-E79C33B7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CB06-5EE1-4B0E-8FCB-0F48F1E2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29C7-1C75-4C79-BE6A-73EBF02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1CCB-FC58-4860-A3C9-4F0F306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EDF5-01B5-4C8D-8670-31C0D505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8D9-62BC-4ADA-8FA3-ADD63B8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543-8B4B-43F4-832F-65B2C73E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45C-1839-45F9-8465-9E8DC83D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990-FBC9-4081-BC5E-F4EBC2A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163-BED6-439C-87EE-3168EAA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163-89B6-41A8-8345-110C635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BEC-339C-4D67-9498-72999DE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D97-8F9F-4DA5-A83F-BC9BCCD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56B4-88A5-4B92-80FA-168051653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1E31-C794-4674-9A38-31203F224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7240" y="1600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GESTION DE RECURSOS HUMAN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fesor: Cristian Binime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14640" y="2955960"/>
            <a:ext cx="1314360" cy="799920"/>
            <a:chOff x="3914640" y="2955960"/>
            <a:chExt cx="1314360" cy="799920"/>
          </a:xfrm>
        </p:grpSpPr>
        <p:sp>
          <p:nvSpPr>
            <p:cNvPr id="165" name=""/>
            <p:cNvSpPr/>
            <p:nvPr/>
          </p:nvSpPr>
          <p:spPr>
            <a:xfrm>
              <a:off x="3914640" y="2955960"/>
              <a:ext cx="131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955960"/>
              <a:ext cx="10065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1143000"/>
            <a:ext cx="8533800" cy="5333760"/>
            <a:chOff x="304920" y="1143000"/>
            <a:chExt cx="8533800" cy="5333760"/>
          </a:xfrm>
        </p:grpSpPr>
        <p:sp>
          <p:nvSpPr>
            <p:cNvPr id="185" name=""/>
            <p:cNvSpPr/>
            <p:nvPr/>
          </p:nvSpPr>
          <p:spPr>
            <a:xfrm>
              <a:off x="779112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143000"/>
              <a:ext cx="11235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848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1143000"/>
              <a:ext cx="112356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480" y="1143000"/>
              <a:ext cx="104760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7000" y="1143000"/>
              <a:ext cx="194544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ac.Interpers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000" y="1143000"/>
              <a:ext cx="194544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Procesos psicológic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y psicosoci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268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roces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644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6440" y="1143000"/>
              <a:ext cx="232020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6440" y="1470600"/>
              <a:ext cx="115848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1470600"/>
              <a:ext cx="11613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uct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9320" y="1881360"/>
              <a:ext cx="189720" cy="3692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2800" y="1143000"/>
              <a:ext cx="10479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2800" y="1143000"/>
              <a:ext cx="209592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1470600"/>
              <a:ext cx="10497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2560" y="1470600"/>
              <a:ext cx="10461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6560" y="5820480"/>
              <a:ext cx="2021400" cy="656280"/>
            </a:xfrm>
            <a:custGeom>
              <a:avLst/>
              <a:gdLst>
                <a:gd name="textAreaLeft" fmla="*/ 353520 w 2021400"/>
                <a:gd name="textAreaRight" fmla="*/ 1465560 w 202140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224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8040" y="5820480"/>
              <a:ext cx="2170080" cy="656280"/>
            </a:xfrm>
            <a:custGeom>
              <a:avLst/>
              <a:gdLst>
                <a:gd name="textAreaLeft" fmla="*/ 379800 w 2170080"/>
                <a:gd name="textAreaRight" fmla="*/ 1573560 w 217008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1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A.S.H. (S. QUIJANO/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ASO CANAL 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es son los estilos de gestión de RRHH que se identifican en el caso? ¿Cuáles son los elementos distintivos entre ell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lementos del caso responden a una nueva concepción estratégica de RRHH?,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e entienden los “focos de resistencia interna” y de qué manera pueden ser gestionados desde RRH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Unidad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Recurso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 del curso los alumnos deben comprender la Gestión de Recursos Humanos como una actividad de agregación de valor a las empresas y organizaciones, disponiendo de las herramientas para diseñar, planificar y ejecutar políticas de gestión de personas y organiz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ífic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los principales enfoques de gestión de recursos</a:t>
            </a: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r funciones y procesos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agregación de valor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el entorno de negocios y el rol central de la gestión de personas en la competitividad de la empresa del siglo XX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de Recursos Hu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ambios en el empleo y el desarrollo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RHH del “mando y control” al desarrollo de la confia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s Organizacionales y Gestión de Recursos Hum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oque sistémico y la Gestión de Recursos Humano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rganización com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provis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irec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evaluación de perso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retribu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esarrollo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por competencias. Un nuevo enfoque para la Gestión de RRH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compet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ecursos Humanos y la agregación de Va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nuevos roles de la Gestión de RRHH (estrategia/operación y procesos/perso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ores de RRHH reinventarse o mor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Gestión de Personas como agregación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desafíos de la agregación de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etodología del curso está centrada en el rol central del alumno como sujeto del aprendizaje. Mediante un conjunto de actividades y ejercicios los alumnos irán conociendo los contenidos del curso y aportarán desde sus experiencias y lecturas a la comprensión del rol de la Gestión de Recursos Humanos en la empresa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izar el curso los alumnos deberán entregar un ensayo (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áx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 páginas de extensión) que responda creativamente a la pregunta ¿Cómo agregar valor a las empresas desde la Gestión de Recursos Humanos?. Para lo anterior los alumnos deberán leer la bibliografía obligatoria del curso y los contenidos de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r fecha de entreg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03:45Z</dcterms:created>
  <dc:creator>BertSR</dc:creator>
  <dc:description/>
  <dc:language>en-US</dc:language>
  <cp:lastModifiedBy>UNIVERSIDAD DE CHILE</cp:lastModifiedBy>
  <dcterms:modified xsi:type="dcterms:W3CDTF">2004-03-08T20:53:59Z</dcterms:modified>
  <cp:revision>40</cp:revision>
  <dc:subject/>
  <dc:title>Slide 1</dc:title>
</cp:coreProperties>
</file>