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B25F-97CD-4948-9212-C96A8BCF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F7C-2050-4BE5-B463-B64FBC4A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5CC2-DC22-45F7-83E2-EA1B6919B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1D4-325F-4C36-8B80-AC370298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A1B-D940-4957-B527-AC5BAEA4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5A7B-9466-4522-8893-8224C931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C384-89CB-4D89-81F0-A5F75A2A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DF2-F20A-4A4E-9ACD-6777CF3A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9680" y="51408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960-1CED-4945-B80A-EAB7119D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EED-7C2A-4303-9D2C-35265D88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2B6-141C-4D32-9B05-6CD5400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9680" y="504360"/>
            <a:ext cx="716292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8C6-A3FE-4D7F-BE95-DF31C1A4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21C87BA-5873-411C-B013-52019AFB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99680" y="51408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458640" y="517680"/>
            <a:ext cx="7893360" cy="1440"/>
          </a:xfrm>
          <a:prstGeom prst="line">
            <a:avLst/>
          </a:prstGeom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32400" y="6226200"/>
            <a:ext cx="914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19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                        </a:t>
            </a:r>
            <a:r>
              <a:rPr b="1" lang="es-ES_tradnl" sz="2000" spc="-1" strike="noStrike">
                <a:solidFill>
                  <a:srgbClr val="081d58"/>
                </a:solidFill>
                <a:latin typeface="Arial"/>
              </a:rPr>
              <a:t>Orientación a Objeto</a:t>
            </a:r>
            <a:r>
              <a:rPr b="1" lang="es-ES" sz="2000" spc="-1" strike="noStrike">
                <a:solidFill>
                  <a:srgbClr val="081d58"/>
                </a:solidFill>
                <a:latin typeface="Arial"/>
              </a:rPr>
              <a:t> para un E-business</a:t>
            </a:r>
            <a:r>
              <a:rPr b="1" lang="en-US" sz="2000" spc="-1" strike="noStrike">
                <a:solidFill>
                  <a:srgbClr val="081d58"/>
                </a:solidFill>
                <a:latin typeface="Arial"/>
              </a:rPr>
              <a:t>                </a:t>
            </a:r>
            <a:fld id="{BB7FFBAB-B5E7-4EE4-9F54-5CCFBBCD4B58}" type="slidenum">
              <a:rPr b="1" lang="en-US" sz="2000" spc="-1" strike="noStrike">
                <a:solidFill>
                  <a:srgbClr val="081d5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Descubriendo el modelo de Clases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amos algunas metodologías clásicas para descubrir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metodologías no son la panacea, pero ayudan a ejercitar las habilidades en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cajero_basico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-76320" y="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: Clases primera aproxim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9680" y="51408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Ejercicio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ue algunas relaciones a estas clases refine un poco 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Algunas recomenda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781056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abuse de esta técnica de búsqueda de obje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lore primero los diagramas de secuencia antes de asignar operaciones mas defin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va a modelar el dominio es mejor no ver aun el tipo de agregacion (por valor o referenci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vite hacer la copia del diagrama de base de datos ER a clases. Los atributos pueden no corresponder con los que se busca y la agregación ese trata de diferente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va a usar patrones utilicelos en etapas donde el modelo tenga una madures suf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aso 4: Escriba los casos de uso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nemos mas claro el contexto, los casos de uso entonces aparecen mas fáci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so_de_uso_usuarios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43480" cy="351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920" y="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: casos de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asos_de_uso" descr=""/>
          <p:cNvPicPr/>
          <p:nvPr/>
        </p:nvPicPr>
        <p:blipFill>
          <a:blip r:embed="rId1"/>
          <a:stretch/>
        </p:blipFill>
        <p:spPr>
          <a:xfrm>
            <a:off x="1523880" y="533520"/>
            <a:ext cx="6166080" cy="6324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20" y="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: casos de u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aso 5: Obtenga los diagrama de secuencia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ne los objetos busquemos los mensaj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Recomendaciones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usque los verb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Obtener la cuenta desde transb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plegar la pantalla del lo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Validar passw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splegar password valida/invali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irar un mo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tregar din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mprimir reci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viar la transaccion (alguien la tiene que almacena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ecuencia_login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ecuencia_gir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 versión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0.1 alfa: Requerimientos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523880"/>
            <a:ext cx="466560" cy="3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466560" cy="3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200400"/>
            <a:ext cx="466920" cy="3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362320"/>
            <a:ext cx="14479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Trans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7" idx="3"/>
            <a:endCxn id="50" idx="1"/>
          </p:cNvCxnSpPr>
          <p:nvPr/>
        </p:nvCxnSpPr>
        <p:spPr>
          <a:xfrm>
            <a:off x="1393560" y="1719360"/>
            <a:ext cx="1261080" cy="948240"/>
          </a:xfrm>
          <a:prstGeom prst="curvedConnector5">
            <a:avLst>
              <a:gd name="adj1" fmla="val 50000"/>
              <a:gd name="adj2" fmla="val 49981"/>
              <a:gd name="adj3" fmla="val 50000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52" name=""/>
          <p:cNvCxnSpPr>
            <a:stCxn id="48" idx="3"/>
            <a:endCxn id="50" idx="1"/>
          </p:cNvCxnSpPr>
          <p:nvPr/>
        </p:nvCxnSpPr>
        <p:spPr>
          <a:xfrm flipV="1">
            <a:off x="708120" y="2666160"/>
            <a:ext cx="1946880" cy="19620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0" idx="1"/>
          </p:cNvCxnSpPr>
          <p:nvPr/>
        </p:nvCxnSpPr>
        <p:spPr>
          <a:xfrm flipV="1">
            <a:off x="1774440" y="2666520"/>
            <a:ext cx="880200" cy="72936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4572000" y="1143000"/>
            <a:ext cx="21337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819520"/>
            <a:ext cx="21337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B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4" idx="1"/>
            <a:endCxn id="50" idx="3"/>
          </p:cNvCxnSpPr>
          <p:nvPr/>
        </p:nvCxnSpPr>
        <p:spPr>
          <a:xfrm flipV="1" rot="10800000">
            <a:off x="4126680" y="1447560"/>
            <a:ext cx="432720" cy="1219680"/>
          </a:xfrm>
          <a:prstGeom prst="curvedConnector5">
            <a:avLst>
              <a:gd name="adj1" fmla="val 49958"/>
              <a:gd name="adj2" fmla="val 49985"/>
              <a:gd name="adj3" fmla="val 49958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5" idx="1"/>
            <a:endCxn id="50" idx="3"/>
          </p:cNvCxnSpPr>
          <p:nvPr/>
        </p:nvCxnSpPr>
        <p:spPr>
          <a:xfrm rot="10800000">
            <a:off x="4126680" y="2666160"/>
            <a:ext cx="889920" cy="457920"/>
          </a:xfrm>
          <a:prstGeom prst="curvedConnector5">
            <a:avLst>
              <a:gd name="adj1" fmla="val 49979"/>
              <a:gd name="adj2" fmla="val 49960"/>
              <a:gd name="adj3" fmla="val 49979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685800"/>
            <a:ext cx="990720" cy="3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1"/>
            <a:endCxn id="54" idx="3"/>
          </p:cNvCxnSpPr>
          <p:nvPr/>
        </p:nvCxnSpPr>
        <p:spPr>
          <a:xfrm flipV="1" rot="10800000">
            <a:off x="6717600" y="879840"/>
            <a:ext cx="508680" cy="5677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7086600" y="1600200"/>
            <a:ext cx="990720" cy="3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1"/>
            <a:endCxn id="54" idx="3"/>
          </p:cNvCxnSpPr>
          <p:nvPr/>
        </p:nvCxnSpPr>
        <p:spPr>
          <a:xfrm rot="10800000">
            <a:off x="6717600" y="1447200"/>
            <a:ext cx="356400" cy="347760"/>
          </a:xfrm>
          <a:prstGeom prst="curvedConnector5">
            <a:avLst>
              <a:gd name="adj1" fmla="val 49949"/>
              <a:gd name="adj2" fmla="val 49948"/>
              <a:gd name="adj3" fmla="val 49949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391520" y="2514600"/>
            <a:ext cx="990360" cy="3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62" idx="1"/>
            <a:endCxn id="55" idx="3"/>
          </p:cNvCxnSpPr>
          <p:nvPr/>
        </p:nvCxnSpPr>
        <p:spPr>
          <a:xfrm flipV="1" rot="10800000">
            <a:off x="7174800" y="2708640"/>
            <a:ext cx="203760" cy="415080"/>
          </a:xfrm>
          <a:prstGeom prst="curvedConnector5">
            <a:avLst>
              <a:gd name="adj1" fmla="val 49911"/>
              <a:gd name="adj2" fmla="val 50000"/>
              <a:gd name="adj3" fmla="val 49911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620120" y="3200400"/>
            <a:ext cx="990360" cy="39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Cu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1"/>
            <a:endCxn id="55" idx="3"/>
          </p:cNvCxnSpPr>
          <p:nvPr/>
        </p:nvCxnSpPr>
        <p:spPr>
          <a:xfrm rot="10800000">
            <a:off x="7174800" y="3123360"/>
            <a:ext cx="432360" cy="272160"/>
          </a:xfrm>
          <a:prstGeom prst="curvedConnector5">
            <a:avLst>
              <a:gd name="adj1" fmla="val 50000"/>
              <a:gd name="adj2" fmla="val 49933"/>
              <a:gd name="adj3" fmla="val 50000"/>
            </a:avLst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304920" y="3809880"/>
            <a:ext cx="83818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Un cliente pue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SzPct val="15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Obtener el estado de la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SzPct val="15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Gi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buClr>
                <a:srgbClr val="000000"/>
              </a:buClr>
              <a:buSzPct val="150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Deposit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Los clientes solo pueden girar dinero de su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Un cliente no puede girar más dinero del que tiene en su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Cada transacción debe reflejar el estado de la cu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aso 6: Completar las clases con sus metodos y atributos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emás fijese en los parámetros que tienen los meto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Recomendación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me los métodos de los diagramas de secuencia y agreguelos a las cl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re los argumentos de esos metodos y descubrirá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la lista inicial de clases algunas se descartaron por ser atributos, es hora que los agreg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erde los ad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cajero_para_gir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9680" y="51408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Ejercicio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orra los 4 pasos de la recomendación identificando y describa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sidere mas casos de uso depositos, chequera y pago de tarjeta visa. Vuelva a ite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serve que es un proceso iterativo he incremental en los casos de u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 versión </a:t>
            </a:r>
            <a:br>
              <a:rPr sz="4400"/>
            </a:b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0.1 alfa: Requerimientos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19320" y="1600200"/>
            <a:ext cx="7162560" cy="4191120"/>
            <a:chOff x="1219320" y="1600200"/>
            <a:chExt cx="7162560" cy="4191120"/>
          </a:xfrm>
        </p:grpSpPr>
        <p:sp>
          <p:nvSpPr>
            <p:cNvPr id="69" name=""/>
            <p:cNvSpPr/>
            <p:nvPr/>
          </p:nvSpPr>
          <p:spPr>
            <a:xfrm>
              <a:off x="1905120" y="1905120"/>
              <a:ext cx="2158920" cy="1439640"/>
            </a:xfrm>
            <a:prstGeom prst="flowChartAlternateProcess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urier New"/>
                </a:rPr>
                <a:t>Pantal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40360" y="2011320"/>
              <a:ext cx="118080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40360" y="2346480"/>
              <a:ext cx="118080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40360" y="2697120"/>
              <a:ext cx="118080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40360" y="3032280"/>
              <a:ext cx="118080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0360" y="3382920"/>
              <a:ext cx="1180800" cy="228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urier New"/>
                </a:rPr>
                <a:t>Cance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1000" y="2087640"/>
              <a:ext cx="30456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11880" y="2087640"/>
              <a:ext cx="304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92760" y="2087640"/>
              <a:ext cx="3049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31000" y="246852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11880" y="246852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92760" y="246852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31000" y="284940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11880" y="284940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92760" y="284940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31000" y="3306600"/>
              <a:ext cx="68580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92760" y="3306600"/>
              <a:ext cx="3049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63560" y="4068720"/>
              <a:ext cx="3353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urier New"/>
                </a:rPr>
                <a:t>Dispensador de bille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63560" y="4678200"/>
              <a:ext cx="3353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urier New"/>
                </a:rPr>
                <a:t>Contenedor de Deposi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3800" y="4068720"/>
              <a:ext cx="2438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urier New"/>
                </a:rPr>
                <a:t>Emisor de Reci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73800" y="4678200"/>
              <a:ext cx="2438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urier New"/>
                </a:rPr>
                <a:t>Lector de tarj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1600200"/>
              <a:ext cx="7162560" cy="4191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60020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aso 1: Análisis del documento: Busque Sustantivos, verbos y adjetivos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305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lmente siempre estos documentos son infor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emos visto variadas metodologías para expresar los requerimientos, por lo cual supongamos que vamos a tener ese respal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186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: Análisis de la Prosa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90512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urier New"/>
              </a:rPr>
              <a:t>Sustan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905120"/>
            <a:ext cx="22096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Clase 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05740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895480"/>
            <a:ext cx="167652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c0202"/>
                </a:solidFill>
                <a:latin typeface="Courier New"/>
              </a:rPr>
              <a:t>Ver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2895480"/>
            <a:ext cx="281916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Metodos, Rel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entre cl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04812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4038480"/>
            <a:ext cx="167652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37c03"/>
                </a:solidFill>
                <a:latin typeface="Courier New"/>
              </a:rPr>
              <a:t>Ad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4038480"/>
            <a:ext cx="175248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</a:rPr>
              <a:t>Atrib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4191120"/>
            <a:ext cx="1447560" cy="228600"/>
          </a:xfrm>
          <a:prstGeom prst="rightArrow">
            <a:avLst>
              <a:gd name="adj1" fmla="val 50000"/>
              <a:gd name="adj2" fmla="val 1583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95040"/>
            <a:ext cx="8458200" cy="11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: Sustantivo </a:t>
            </a:r>
            <a:r>
              <a:rPr b="1" lang="es-ES_tradnl" sz="4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 posibles Clases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2819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Tarj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epos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G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Che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447920"/>
            <a:ext cx="327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Estado de cu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S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or de tarj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isor de reci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nta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aso 2: Refine las posibles clases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odas serán serán val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Cajero automático, Criterios de selección: minimizar.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238400"/>
            <a:ext cx="7886880" cy="523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e clases vagamente definidas: Aquellas que no tienen alcance claro o son muy amplias. Tec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e nombres que son mas bien caracteristicas u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stad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otros objetos: saldo, estado de cuenta, pass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e clases redundantes: si se expresa lo mismo deje la más descriptiva. Giro y deposito para dejar a trans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ar las que tienen poco que ver con el problema: tarjeta, dinero, che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iminar a aquellas que tienen que ver con la implementación, que no estan en el mundo real: base de dato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aso 3: Buscar relaciones entre ellas. (aproximándose con el modelo de dominio)</a:t>
            </a:r>
            <a:endParaRPr b="1" lang="en-US" sz="4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Uso (que efectua una acción directa sob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Asociación (que tiene realción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Agregación (que contiene a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 Herencia (es similar a , es co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0T21:30:55Z</dcterms:created>
  <dc:creator>Pablo Roman Asenjo</dc:creator>
  <dc:description/>
  <dc:language>en-US</dc:language>
  <cp:lastModifiedBy>IN77J</cp:lastModifiedBy>
  <cp:lastPrinted>2000-06-16T21:49:07Z</cp:lastPrinted>
  <dcterms:modified xsi:type="dcterms:W3CDTF">2004-06-05T10:50:33Z</dcterms:modified>
  <cp:revision>296</cp:revision>
  <dc:subject/>
  <dc:title>Arquitectura y Interfaz web</dc:title>
</cp:coreProperties>
</file>