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D62DA-1C7E-4185-9DAB-4F5DACFF5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DC6A9-3BE8-4870-9EAB-3EED2044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2F63C-4358-4C96-8235-46582265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9E653-1F3C-4D4E-84BA-C6E5163E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789C4-4C7A-48CE-AACF-F173483C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15EEB-F639-4BC0-83CC-59FF6A7B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C10D8-8391-4739-9B39-C4C1D226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50D56-BD75-40B9-B9BA-0239245F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445502-280F-4908-A6BE-D52D49EA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A3C58-8015-4937-80E6-AACC96C9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FB048-586E-47D4-B742-C9A93E50E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7D031-2FCC-45D9-A831-916D4CEC8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280" y="6244920"/>
            <a:ext cx="799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esarrollo y Evaluación de Negocios                                Otoño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0E4A-2E50-4CA9-A7DC-7E73A27A4DD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Estructura de las Presentaciones e Inform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69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iseño y Evaluación de Negocio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imera Presentacion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y primer inform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990720"/>
            <a:ext cx="8001000" cy="50292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 de Negocio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en general, identificando variables relevan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duct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ec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lient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mpetidores, productos alternativos, proveedores, etc.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todo lo relevante de Port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nálisis interno y Externo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(FOD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nálisis de entorn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Escuc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egunda Presentacion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y segundo inform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7967520" cy="533412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 de Negocio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con datos duros para las variables relevante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duct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estándares, oportunidad, materiale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ercad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localización, participación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eci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disposición a pagar, elasticidad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liente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¿Quién(es) paga(n)?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mpetidores, productos alternativos, proveedores, etc.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todo lo relevante de Port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organización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quienes, donde, que cuesta, que aportan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Escuche y Defi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ercera Presentacion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e informe fina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763120" cy="52578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lan de Nego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Marketing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medios, inversión en marketing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Operaciones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nivel y costos de producción, abastecimiento, turnos, distribución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ructura organizacional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ganigrama, cargos, planilla de remuneracione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Financiamient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igen del capital para invertir y capital de trabajo (fondos, inversionistas, socios, ist. Financieras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valuación Financiera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igen y uso de fondos, flujo de caja, VAN,TIR y cualquier otra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Defi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ecomendaciones para las presenta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e preparado para fundamentar sus antecedentes y argumen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utilice (ni presente en forma oral o escrita) algo que no sea importante para el negocio que evalúa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dique siempre la fuente de su infor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tilizó una herramienta (encuesta, modelo, etc.) este preparado para mostrarla y defenderl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justese al tiempo de la presentación eligiendo lo importa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xplique para reforzar sólo lo crí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8T15:16:49Z</dcterms:created>
  <dc:creator>Antonio Holgado</dc:creator>
  <dc:description/>
  <dc:language>en-US</dc:language>
  <cp:lastModifiedBy>dii</cp:lastModifiedBy>
  <dcterms:modified xsi:type="dcterms:W3CDTF">2003-04-30T19:04:29Z</dcterms:modified>
  <cp:revision>4</cp:revision>
  <dc:subject/>
  <dc:title>Sin título de diapositiva</dc:title>
</cp:coreProperties>
</file>