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B82-362B-4EA2-9F09-47B7E8D5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86D-32BA-48C4-A238-464F2DFD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5CB-EA07-49C7-B218-2FA5F879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FDC-6F16-425E-AEAA-EEF70D36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0B3-C2FD-4761-92A6-5D4CE613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3E9-FFFE-4241-833A-DF6F707C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2735-B41C-44F0-876D-D49478B0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9D8-5D27-4225-A705-2F660397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5AD-9A1D-426A-B807-DFA88B12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F17D-0B08-42A4-892A-E81D28E1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517-C7BA-42D7-956D-71F28AB2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4B8D-34E1-4774-B029-E8CE85D4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BD7C-EF96-425F-90AC-DA6FDDCA4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: 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presentación tiene como objetivo entregar antecedentes e ideas generales para apoyar la preparación y realización de una presen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stos efectos, se considera que una presentación puede estructurarse en tres partes: preparación, ejecución y post-ejecución. Cada una de ellas incluye aspectos específicos que deben tenerse en cuenta y desarrollarse adecuadamente. El objetivo de esta tarea es lograr realizar presentaciones que tengan un alto impacto y logren en forma efectiva transmitir los contenidos dese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pectos pr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/ cronometr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untes de apoyo (no en las m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ta previa al l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legar antes - chequear equipos - cargar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chivos de resp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 a entre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cución de l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enario / audiencia a dis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ir reglas del juego al comienzo: participación audiencia, celular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ar convinc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verbal y no ver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pectos de cada 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e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ergía / no sobreactu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len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locidad / c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corpor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tur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pantalla / no obstaculizar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ideas princip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: incluir periferia; mante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alles, pero no ta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medios: pantalla, punter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ición entre 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estrictamente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es imprevistas. P. ej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dor de decisiones se 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y resp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ar tiempo adecu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er el interés de la aud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ejo de preguntas comple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 charla - reu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 (ev. ayuda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istrar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t -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los compromisos adqui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le distribución d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77120" y="4952880"/>
          <a:ext cx="2438280" cy="16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2438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: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: pocas, preci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y forma aprop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onerse, experi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acticar, practicar, pract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7162920" y="4343400"/>
          <a:ext cx="12952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4343400"/>
                    <a:ext cx="1295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etapas de un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ización de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jetivos de esta char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amiento de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tid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individuales / est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eriencia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ea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: instancia para transmitir contenido (ideas, informació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diencia a disposición: hacerse cargo de sus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 la comunicación: emisor - receptor - mensaje / estados de á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urrir a herramientas 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apas de un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ción (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ción (dur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st - ejecución (despu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evancia de cada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952880" y="1981080"/>
          <a:ext cx="105588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981080"/>
                    <a:ext cx="10558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715000" y="3124080"/>
          <a:ext cx="51444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124080"/>
                    <a:ext cx="514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019920" y="4572000"/>
          <a:ext cx="1600200" cy="10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572000"/>
                    <a:ext cx="16002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par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r ideas centrales y focalizarse en 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ganización / diseño de presentación: secuencia, duración, énfasi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 nivel de formalidad: vestimenta, lengu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apropi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s etapa 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cu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r a lo es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ganiz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árbol 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5486400" cy="390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s efic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úmero adecuado / tiempo adecuado para cada una (explicaci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de texto, tamaño l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colores, apoyo de gráficos, íconos, etc.: apoyo a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: concisos,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, gra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7-25T15:34:42Z</dcterms:modified>
  <cp:revision>71</cp:revision>
  <dc:subject/>
  <dc:title>Arbol lógico</dc:title>
</cp:coreProperties>
</file>