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E58-1D58-4FC4-8EAE-06CF2FF6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502-D66E-4015-B440-5EC423C7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09B8-F806-458B-A3D1-7C9285F6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ACD-CAA6-4BBD-8000-0864A417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CDFF-D57A-457F-9FE1-C9E13BA4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12A6-413A-4434-A2F6-0CEE150A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C8C8-11BD-4655-A016-2C437DD4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637D-AAA9-4670-8232-EAC2F05B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22C-4D6D-487D-A64D-53D4412D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D069-0DC9-4AB6-89FC-FFEC5354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5982-C170-4362-8EE4-0E20004C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5049-855F-4C68-B365-FCA74C1C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43FB-179B-424B-835E-DF560AE08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2637000"/>
            <a:ext cx="77724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Times New Roman"/>
              </a:rPr>
              <a:t>GUÍA PARA EL DESARROLLO DE UN PLAN DE NEG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70520"/>
            <a:ext cx="7772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Ariel Gringaus – Octu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nu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r el problema existente y la solución que se plant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resentar el bien o servicio que se va a producir o v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ñalar enfoques específicos del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Resaltar los aspectos innov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tacar los factores fundamentales de diferen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Indicar acciones a desarrollar para la protección de la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 u="sng">
                <a:solidFill>
                  <a:srgbClr val="3333cc"/>
                </a:solidFill>
                <a:uFillTx/>
                <a:latin typeface="Times New Roman"/>
              </a:rPr>
              <a:t>Check list sobre la idea del producto o servici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problema(s) soluciona su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e necesidad del cliente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é tipo de producto o servicio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se está ofreciendo exacta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es lo innovador del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Cuáles son sus características distintivas en relación a otros productos o servic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Hasta qué punto nuestro producto es ún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protegeremos su exclus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Equipo Direc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ducación y preparación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prác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ancias en el extranj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direc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bilidade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Más del equi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l equipo ha trabajado conjuntamente con ante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funciones es acorde con la experiencia ind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os fundadores conocen sus debilidades y están dispuestos a superar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stá claro la distribución de pap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xiste un objetivo com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la propiedad está defi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originó la id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iempo transcurrido desde su origen y acciones que se han llevado a ca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ómo se han integrado los diferentes miembros del equ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incipales problemas plante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ontactos e investigaciones que se han re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untos fue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aspectos más atractivos del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Una argumentación de su coherencia inte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Identificación de los riesgos que puedan surgir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simplicidad, es decir, facilidad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fiabilidad, es decir, que no fa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calidad: materiales, 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Área de producción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proceso de elaboración del producto o prestación d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tecnología apl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terminación del coste d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crpción de las actividades requeridas para producir el bien o prestar 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Organizar las actividades de manera secu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stablecer los tiempos requeridos para llevar a cabo l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Tecnología emple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Facilidad para adquirir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ndiciones especiales para hacer uso de ella: patentes, acuer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Aspectos técnicos especiales (capacitación del personal, equipo, instalacione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osibilidades de copiado y protección de la mi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locidad en que se suceden las innovaciones tecnológicas en el ámbito empresarial en que se va a desarrollar nuestr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apacidad financiera de que se disp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quipos e infraestructura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Locales y ofic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aquinaria y herrami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lement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quipos para el proces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Aplicaciones infor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obil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rechos de traspaso/ Patentes y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pósitos y fian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Gastos de constitución y puesta en 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Objetivo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Ayudar al equipo pro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Interesar a posibles invers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MERCADO</a:t>
            </a: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tamaño tiene el mercado al que vamos a dirigir nuestro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uál es nuestro cliente potenci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los clientes potenciales necesitan nuestro produ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legaremos a nuestros clientes potencia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competencia existe en la actual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nos diferenciamos de la competenc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ograr que las personas se den cuenta de que lo necesi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¿ Cómo convencer al invers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finición d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mentación del mercado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análisis de la competencia exis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ntajas competi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promoción y publ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sistema de distribu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pre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Definición del mercad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geográfico: delimitando las zonas donde se piensa ofrecer 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objetivo: definiendo los segmentos de mercado específicos a los que nos vamos a dirig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situación del mercado: describiendo el estado actual y la posible evolución o tendencia fu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ción clara del perfil de nuestro cliente potencial: identificando los futuros consumidores de nuestro producto o serv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sejos para estim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artir de una base sólida utilizando cifras fácilmente verific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uir un camino lógico y que quede cl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arar las fue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r creativo: si un valor es desconocido, busquemos un sustituto que se relacione con el que fa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robar si el resultado es coherente y tiene sen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riterios para la segmentación de cl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Geográficos: país, zonas, comu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edad, sexo, profesión, ingresos.Estilo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: uso, aplicaciones, af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: marcas, preci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tamaño empresa, situación, secto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Operativos: tecnología apl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Factores de ub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Análisis de la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ompetencia dir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iferen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cc"/>
                </a:solidFill>
                <a:latin typeface="Times New Roman"/>
              </a:rPr>
              <a:t>La diferenciación se puede conseguir a través de destacar en diversos aspectos como s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entr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ocumentación téc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post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ocimientos Escen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determinadas tecnolog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s relaciones con determinados agentes del mercado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un proc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acceso a un canal de distrib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strategia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duct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trategi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mo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l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Previsiones de v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debe hacer una estimación de los ingresos que podremos obtener en un horizonte de 3 a 5 añ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y que ser R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Partes Básica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ESARROLLO DEL PLAN DE NEGOCI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6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stribución de tareas y responsabi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Planificación del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rección y cultura de la empres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GENERALES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rocesos operativos (funciones) de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Qué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on qu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Dónd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En cuanto tiemp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MARCO LEGAL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número de socios que desean iniciar el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cuantía del capital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gastos de 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trámites a realizar para implantarla leg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fiscales que se deberá afron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laborales a las que estará suj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las responsabilidades que se adquieren frente a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e en asignar tiempos, responsables, metas y recursos a cada actividad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irá en la expresión concreta, clara y específica de lo establecido en cada una de las áreas y se concretará en el programa de realización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ara la realización del mismo deben fijarse objetivos temporales, y debe fijarse una secuencia lógica de actu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asos a seguir para el desarrollo del proyec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la idea del producto o serv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nvestigar el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el proceso de pro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ignar funciones y responsab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Ver la viabilidad global del proy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ECONÓMICO FINANCIEROS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terminar la inversión inicial neces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estados de tesorería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DERTERMINACIÓN DE LA INVERSIÓN INICIAL NECES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valuar los elementos necesarios para desarrollar nuestra actividad y cuantificación de su co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Además de los costes citados debe ser considerado en todo caso el </a:t>
            </a:r>
            <a:r>
              <a:rPr b="0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capital de trabaj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¿Cuánto dinero necesito para iniciar mi actividad?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a vez se conoce cuál es la inversión inicial necesaria, hay que determinar las fuentes económicas de las que se obtendrán los fondos necesarios para financiar el plan de inversiones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 u="sng">
                <a:solidFill>
                  <a:srgbClr val="3333cc"/>
                </a:solidFill>
                <a:uFillTx/>
                <a:latin typeface="Times New Roman"/>
              </a:rPr>
              <a:t>Fuentes de Financi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Préstamos fam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Ayudas del Es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Hipote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réditos banc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apita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aracterístic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fic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ructu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ompr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Br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ó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y que ser realista, lo cual sup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Realizar una adecuada previsión de ingresos por ve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Determinar la totalidad de costes y gastos, diferenciando los variables de l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estados de tesore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el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las ventas a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comendación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o engañarse a un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 metas alcanz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se en el lugar del inve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ar bien el mercado antes de tirarse a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mpezar a trabajar lo antes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Areas Princip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intetizar de forma breve todos aquellos aspectos claves del Plan d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recomienda hacerlo al final, cuando el Plan de Negocio ya esté acabad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ontenidos del Resúmen Ejecu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Breve present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Oportunidad (es) de mercado detec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oducto/servici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equipo humano fundador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modelo de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Mercado y el potencial de crecimiento que 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incipales ventajas competitiva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evisiones de facturación de la empresa para los 3 primeros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Si el RE es malo el proyecto queda afu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 resumen ejeútivo malo es como el comienzo de una mala película en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ubica al principio del Plan de Negocios como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“carta de presentación”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del mismo y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ha de estimular a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n posible inversor a seguir leyendo e interesarse por el Plan de Negocio que se present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 o servicio nue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esentación del equipo dire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i</cp:lastModifiedBy>
  <dcterms:modified xsi:type="dcterms:W3CDTF">2003-03-17T13:27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33759759</vt:r8>
  </property>
  <property fmtid="{D5CDD505-2E9C-101B-9397-08002B2CF9AE}" pid="3" name="_AuthorEmail">
    <vt:lpwstr>agringaus@colegium.com</vt:lpwstr>
  </property>
  <property fmtid="{D5CDD505-2E9C-101B-9397-08002B2CF9AE}" pid="4" name="_AuthorEmailDisplayName">
    <vt:lpwstr>Ariel Gringaus Higilchuk</vt:lpwstr>
  </property>
  <property fmtid="{D5CDD505-2E9C-101B-9397-08002B2CF9AE}" pid="5" name="_EmailSubject">
    <vt:lpwstr>Charla</vt:lpwstr>
  </property>
</Properties>
</file>