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9FE-BA77-4E2E-BEE1-4F6EA5AB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E8A3-E434-4A87-A435-564A94A4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A003-E17D-40DE-960F-93B5322A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5862-3E0D-4C9C-A739-FDF8017D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2D86-5743-4054-8D30-0E914F43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5725-299A-40B2-8D74-7A0BC111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1483-A35F-4B3A-A55B-FC968876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0FB0-51BC-474F-8B75-80956F5A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D42D-8432-4B8B-B930-923B7C01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80D2-0962-4746-BD2D-45A2F393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B744-4602-489B-8797-712AC32E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242F-AA59-4920-8386-CF993BC0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B0E6-40B8-4907-A74B-5C42F5D5D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2637000"/>
            <a:ext cx="77724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Times New Roman"/>
              </a:rPr>
              <a:t>GUÍA PARA EL DESARROLLO DE UN PLAN DE NEGO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70520"/>
            <a:ext cx="7772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Ariel Gringaus – Octu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nu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r el problema existente y la solución que se plant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resentar el bien o servicio que se va a producir o v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ñalar enfoques específicos del m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Resaltar los aspectos innov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tacar los factores fundamentales de diferen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Indicar acciones a desarrollar para la protección de la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 u="sng">
                <a:solidFill>
                  <a:srgbClr val="3333cc"/>
                </a:solidFill>
                <a:uFillTx/>
                <a:latin typeface="Times New Roman"/>
              </a:rPr>
              <a:t>Check list sobre la idea del producto o servici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problema(s) soluciona su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e necesidad del cliente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é tipo de producto o servicio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se está ofreciendo exactam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es lo innovador del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Cuáles son sus características distintivas en relación a otros productos o servici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Hasta qué punto nuestro producto es ún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protegeremos su exclus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Equipo Direc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ducación y preparación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prác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ancias en el extranj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direc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bilidade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Más del equi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l equipo ha trabajado conjuntamente con ante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funciones es acorde con la experiencia ind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os fundadores conocen sus debilidades y están dispuestos a superar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stá claro la distribución de pap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xiste un objetivo comú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la propiedad está defin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originó la id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iempo transcurrido desde su origen y acciones que se han llevado a ca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ómo se han integrado los diferentes miembros del equ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incipales problemas plante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ontactos e investigaciones que se han re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untos fue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aspectos más atractivos del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Una argumentación de su coherencia inte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Identificación de los riesgos que puedan surgir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simplicidad, es decir, facilidad de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fiabilidad, es decir, que no fa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calidad: materiales, d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Área de producción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proceso de elaboración del producto o prestación d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tecnología apl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terminación del coste d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crpción de las actividades requeridas para producir el bien o prestar 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Organizar las actividades de manera secu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stablecer los tiempos requeridos para llevar a cabo l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Tecnología emple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Facilidad para adquirir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ndiciones especiales para hacer uso de ella: patentes, acuer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Aspectos técnicos especiales (capacitación del personal, equipo, instalacione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osibilidades de copiado y protección de la mi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locidad en que se suceden las innovaciones tecnológicas en el ámbito empresarial en que se va a desarrollar nuestr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apacidad financiera de que se disp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quipos e infraestructura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Locales y ofic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aquinaria y herrami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lement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quipos para el proces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Aplicaciones infor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obil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rechos de traspaso/ Patentes y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pósitos y fian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Gastos de constitución y puesta en 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Objetivo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Ayudar al equipo pro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Interesar a posibles invers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MERCADO</a:t>
            </a: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tamaño tiene el mercado al que vamos a dirigir nuestro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uál es nuestro cliente potenci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los clientes potenciales necesitan nuestro produc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legaremos a nuestros clientes potencia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competencia existe en la actual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nos diferenciamos de la competenc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ograr que las personas se den cuenta de que lo necesi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¿ Cómo convencer al invers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finición d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mentación del mercado 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análisis de la competencia exis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ntajas competi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promoción y publ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sistema de distribu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previs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Definición del mercad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geográfico: delimitando las zonas donde se piensa ofrecer 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objetivo: definiendo los segmentos de mercado específicos a los que nos vamos a dirig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situación del mercado: describiendo el estado actual y la posible evolución o tendencia fu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ción clara del perfil de nuestro cliente potencial: identificando los futuros consumidores de nuestro producto o servi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sejos para estim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artir de una base sólida utilizando cifras fácilmente verific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uir un camino lógico y que quede cla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arar las fue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r creativo: si un valor es desconocido, busquemos un sustituto que se relacione con el que fa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robar si el resultado es coherente y tiene sen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riterios para la segmentación de cl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Geográficos: país, zonas, comu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edad, sexo, profesión, ingresos.Estilo de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: uso, aplicaciones, af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: marcas, preci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tamaño empresa, situación, sector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Operativos: tecnología apl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Factores de ub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Análisis de la compe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ompetencia dire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iferen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cc"/>
                </a:solidFill>
                <a:latin typeface="Times New Roman"/>
              </a:rPr>
              <a:t>La diferenciación se puede conseguir a través de destacar en diversos aspectos como s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entre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ocumentación téc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post v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ocimientos Escenci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determinadas tecnolog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s relaciones con determinados agentes del mercado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un proc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acceso a un canal de distrib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strategia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duct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trategia de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mo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l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Previsiones de v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debe hacer una estimación de los ingresos que podremos obtener en un horizonte de 3 a 5 añ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y que ser REA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Partes Básica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ESARROLLO DEL PLAN DE NEGOCI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6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stribución de tareas y responsabi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Planificación del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rección y cultura de la empres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GENERALES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rocesos operativos (funciones) de la empre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Qué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on qu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Dónd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En cuanto tiemp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MARCO LEGAL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número de socios que desean iniciar el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cuantía del capital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gastos de 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trámites a realizar para implantarla leg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fiscales que se deberá afron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laborales a las que estará suj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las responsabilidades que se adquieren frente a terc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e en asignar tiempos, responsables, metas y recursos a cada actividad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irá en la expresión concreta, clara y específica de lo establecido en cada una de las áreas y se concretará en el programa de realización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ara la realización del mismo deben fijarse objetivos temporales, y debe fijarse una secuencia lógica de actu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Pasos a seguir para el desarrollo del proyec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la idea del producto o serv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nvestigar el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el proceso de pro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ignar funciones y responsabi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Ver la viabilidad global del proy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ECONÓMICO FINANCIEROS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terminar la inversión inicial neces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estados de tesorería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DERTERMINACIÓN DE LA INVERSIÓN INICIAL NECES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valuar los elementos necesarios para desarrollar nuestra actividad y cuantificación de su co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Además de los costes citados debe ser considerado en todo caso el </a:t>
            </a:r>
            <a:r>
              <a:rPr b="0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capital de trabajo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¿Cuánto dinero necesito para iniciar mi actividad?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a vez se conoce cuál es la inversión inicial necesaria, hay que determinar las fuentes económicas de las que se obtendrán los fondos necesarios para financiar el plan de inversiones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 u="sng">
                <a:solidFill>
                  <a:srgbClr val="3333cc"/>
                </a:solidFill>
                <a:uFillTx/>
                <a:latin typeface="Times New Roman"/>
              </a:rPr>
              <a:t>Fuentes de Financi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Préstamos fam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Ayudas del Es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Hipote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réditos banc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apital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aracterístic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fic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structu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ompre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Br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ó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Hay que ser realista, lo cual sup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Realizar una adecuada previsión de ingresos por ven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Determinar la totalidad de costes y gastos, diferenciando los variables de l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estados de tesorer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el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las ventas a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comendación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o engañarse a un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 metas alcanz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se en el lugar del inver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ar bien el mercado antes de tirarse al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mpezar a trabajar lo antes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Areas Princip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intetizar de forma breve todos aquellos aspectos claves del Plan d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recomienda hacerlo al final, cuando el Plan de Negocio ya esté acabad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ontenidos del Resúmen Ejecu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Breve presentac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Oportunidad (es) de mercado detec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oducto/servici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equipo humano fundador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modelo de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Mercado y el potencial de crecimiento que 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incipales ventajas competitivas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evisiones de facturación de la empresa para los 3 primeros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Si el RE es malo el proyecto queda afu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 resumen ejeútivo malo es como el comienzo de una mala película en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ubica al principio del Plan de Negocios como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“carta de presentación”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del mismo y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ha de estimular a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n posible inversor a seguir leyendo e interesarse por el Plan de Negocio que se present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 o servicio nue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esentación del equipo dire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i</cp:lastModifiedBy>
  <dcterms:modified xsi:type="dcterms:W3CDTF">2003-03-17T13:27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33759759</vt:r8>
  </property>
  <property fmtid="{D5CDD505-2E9C-101B-9397-08002B2CF9AE}" pid="3" name="_AuthorEmail">
    <vt:lpwstr>agringaus@colegium.com</vt:lpwstr>
  </property>
  <property fmtid="{D5CDD505-2E9C-101B-9397-08002B2CF9AE}" pid="4" name="_AuthorEmailDisplayName">
    <vt:lpwstr>Ariel Gringaus Higilchuk</vt:lpwstr>
  </property>
  <property fmtid="{D5CDD505-2E9C-101B-9397-08002B2CF9AE}" pid="5" name="_EmailSubject">
    <vt:lpwstr>Charla</vt:lpwstr>
  </property>
</Properties>
</file>