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EAE3714-DDF0-44A8-ADFC-B5815201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AADB920-AC84-4B38-A766-1DCECCBD6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4CC4BD-5DD9-4C5A-880F-9B721F1D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354F3F-32A0-4DBF-9359-511570428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2DD182-96F8-4CC9-ACAA-42A32E33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CF362-F4C4-4204-8F73-965739FB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82A61D-8C54-488D-88F1-3CA3127A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BA93F9-A886-4BF5-9257-972AE3E1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861E6F1-CD4A-4C37-9328-C8E1F7B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D907D-F459-4FE0-A03B-B4A44A0E1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B8B2FA-FE2B-49C4-BA65-5EB37161A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058F9D-7B3A-4022-B033-6A90C966D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280" y="6244920"/>
            <a:ext cx="7993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69B, Desarrollo y Evaluación de Negocios                                Otoño 200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AF11-01F3-4A3D-B7F6-B3DA63DBF697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Estructura de las Presentaciones e Informe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IN69B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Diseño y Evaluación de Negocios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im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primer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66280" y="990720"/>
            <a:ext cx="8001000" cy="50292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n general, identificando variables relevan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nálisis interno y Externo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 (FODA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nálisis de entorno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gund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y segundo inform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7967520" cy="533412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 de Negocio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Verdana"/>
              </a:rPr>
              <a:t>con datos duros para las variables relevantes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duc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estándares, oportunidad, material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ercad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localización, participació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eci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disposición a pagar, elasticidad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liente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¿Quién(es) paga(n)?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mpetidores, productos alternativos, proveedores, etc.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todo lo relevante de Porter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organización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quienes, donde, que cuesta, que aportan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puest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Escuche y 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7200"/>
            <a:ext cx="8346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Tercera Presentacion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e informe final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990360"/>
            <a:ext cx="8763120" cy="5257800"/>
          </a:xfrm>
          <a:prstGeom prst="rect">
            <a:avLst/>
          </a:prstGeom>
          <a:solidFill>
            <a:srgbClr val="a3b2c1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lan de Negoc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Marketing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medios, inversión en marketing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Vent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Operaciones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nivel y costos de producción, abastecimiento, turnos, distribución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ructura organizacional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ganigrama, cargos, planilla de remuneraciones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lan de Financiamiento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del capital para invertir y capital de trabajo (fondos, inversionistas, socios, ist. Financieras, etc.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valuación Financiera 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(origen y uso de fondos, flujo de caja, VAN,TIR y cualquier otra, etc.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cc"/>
                </a:solidFill>
                <a:latin typeface="Verdana"/>
              </a:rPr>
              <a:t>Defiend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comendaciones para las presentacion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272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e preparado para fundamentar sus antecedentes y argumen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utilice (ni presente en forma oral o escrita) algo que no sea importante para el negocio que evalúa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ndique siempre la fuente de su inform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tilizó una herramienta (encuesta, modelo, etc.) este preparado para mostrarla y defenderla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justese al tiempo de la presentación eligiendo lo importa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xplique para reforzar sólo lo crí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8T15:16:49Z</dcterms:created>
  <dc:creator>Antonio Holgado</dc:creator>
  <dc:description/>
  <dc:language>en-US</dc:language>
  <cp:lastModifiedBy>dii</cp:lastModifiedBy>
  <dcterms:modified xsi:type="dcterms:W3CDTF">2003-04-30T19:04:29Z</dcterms:modified>
  <cp:revision>4</cp:revision>
  <dc:subject/>
  <dc:title>Sin título de diapositiva</dc:title>
</cp:coreProperties>
</file>