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58BBE-2444-4829-AD11-94C804FA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CF120-AEFE-4F27-A9FA-3329ECFC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99049-2510-4989-8BEA-0B70AB78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ED25A-2AEA-4A90-A047-60974D1D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38A7B-0BD1-4C12-9A16-883B4EFC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E1686-371E-4380-8CE7-8CF78FEF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9C60A-1EA4-44DD-8294-3BAF7C3B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90528-5820-457B-8950-9F61E1C7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13E6E-4C97-44FE-9031-257F198D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2FD59-2911-4957-88EC-FF4B20E2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85DEF-F79F-4E4D-9078-12605E59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03FBD-B3C1-4686-BB98-BAA0D6D5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1FB0-B9AC-46D7-8424-DADC068FD1D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 e Infor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primer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interno y Extern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(FO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segundo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 informe fi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u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dii</cp:lastModifiedBy>
  <dcterms:modified xsi:type="dcterms:W3CDTF">2003-04-30T19:04:29Z</dcterms:modified>
  <cp:revision>4</cp:revision>
  <dc:subject/>
  <dc:title>Sin título de diapositiva</dc:title>
</cp:coreProperties>
</file>