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735F0-1E9A-4EC9-B8CC-96D3B58A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2C391-46BB-413D-8242-C1985A6C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6D0FF-A742-4066-AA4D-2C18D814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C24A0-F7FC-4867-A920-F7DFD278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EA7D5-7FF2-4A77-87BD-7D8A0730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37C1D-A1C7-407E-848E-A0ED2F54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4E1E7-94B0-45F3-B4B5-F24A4376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05D8F-E446-4E8D-9385-633090EB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46291-048E-46D6-B975-11156E5F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FF793-D925-4B11-B976-9142DF5D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8BD37-E061-4A32-9D9B-831BA55A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54505-B3E2-42F3-972B-846C54D6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esarrollo y Evaluación de Negocios                                Otoñ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95F6-8D19-46CB-B95D-FEFEBABE871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structura de las Presentaciones e Inform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eño y Evaluación de Negocio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im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primer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990720"/>
            <a:ext cx="8001000" cy="5029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n general, identificando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nálisis interno y Externo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(FOD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nálisis de entorn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gund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segundo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rganización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 y 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rc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 informe fin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Marketing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medios, inversión en marketin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Operacione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nivel y costos de producción, abastecimiento, turnos, distribución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ganigrama, cargos, planilla de remuneracion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Financiamien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del capital para invertir y capital de trabajo (fondos, inversionistas, socios, ist. Financieras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Financier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y uso de fondos, flujo de caja, VAN,TIR y cualquier ot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comendaciones para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e preparado para fundamentar sus antecedentes y argum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utilice (ni presente en forma oral o escrita) algo que no sea importante para el negocio que evalú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dique siempre la fuente de su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tilizó una herramienta (encuesta, modelo, etc.) este preparado para mostrarla y defender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justese al tiempo de la presentación eligiendo l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xplique para reforzar sólo l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16:49Z</dcterms:created>
  <dc:creator>Antonio Holgado</dc:creator>
  <dc:description/>
  <dc:language>en-US</dc:language>
  <cp:lastModifiedBy>dii</cp:lastModifiedBy>
  <dcterms:modified xsi:type="dcterms:W3CDTF">2003-04-30T19:04:29Z</dcterms:modified>
  <cp:revision>4</cp:revision>
  <dc:subject/>
  <dc:title>Sin título de diapositiva</dc:title>
</cp:coreProperties>
</file>