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B4C9-F807-4BD0-B8FE-12A147C73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0819-877C-4545-8F51-63BB0444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00F9-B343-4E55-9CD8-7DE32FAD0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49C8-BCA4-4866-B551-4782F2DB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7F69-7C46-4D30-AF41-4B3AA2E5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EFB0-D828-4878-A32D-A6B316C7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31A4-CD70-4618-B35C-CEAE4496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8568-D311-4B3A-9DBD-7DF21ADA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53C6-BD72-4B27-8C67-1D2F49B2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1455-8B63-40BB-AAD7-2D14FD08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B21B-5643-4A1E-B8A5-7208A0AD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1C30-12DB-4864-99FB-F2FC9A30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741C-71B8-4907-A6B6-5FDD582E4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° de Agost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bajar desde el in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ultar a los profe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blar con su entorno sobre el proyecto en 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er el cuerpo B de El Mercu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 ambicio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 osados, esta es una oportunidad para inventar mun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lidad: Forma y Conten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tilizar los conocimientos adquiridos. NO a la pura intu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reerse el cu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quivocarse tratando, tiene más mérito que pasar desapercib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n clientes, no existe nego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n a conocer su opin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no lo están pasando bien, algo anda mal. ¡Corríjan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an capaces de asumir la pérdida, cuando correspo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bajen con un estado de resultados en 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cuesten clientes y proveedores como tarea prioritaria y tempra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0:14:23Z</dcterms:created>
  <dc:creator>dii</dc:creator>
  <dc:description/>
  <dc:language>en-US</dc:language>
  <cp:lastModifiedBy>Universidad de Chile</cp:lastModifiedBy>
  <dcterms:modified xsi:type="dcterms:W3CDTF">2003-08-07T19:37:50Z</dcterms:modified>
  <cp:revision>78</cp:revision>
  <dc:subject/>
  <dc:title>Arbol lógico</dc:title>
</cp:coreProperties>
</file>