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9A0F-B7F4-4616-85BD-6CACC6DA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863-0B7C-468E-8144-4BC80DDC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0B8-1E64-4A09-92DD-6ED0C1C1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F8C-75E5-483A-94E1-ECD1F9CC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904-0E97-4BDD-89AA-0B9A2F8E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F83-1519-42B8-926D-4DE5A174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A0E0-CEA1-4E3A-A100-31A61072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8E1-108C-42DE-9638-BDD2AB1E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6A8-BD53-4E32-AECE-53EF0092C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865-E046-48D1-9281-86FED6DE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F094-4CD4-4FF8-9280-8FB9849E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672-466B-4967-8D11-CEA47AFC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5521-4D91-46D3-9A46-9B1146D16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° de Agost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r desde el in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ultar a los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 con su entorno sobre el proyecto en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el cuerpo B de El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ambici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osados, esta es una oportunidad para inventar m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: Forma y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r los conocimientos adquiridos. NO a la pura intu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quivocarse tratando, tiene más mérito que pasar desaperci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clientes, no exist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n a conocer su opi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no lo están pasando bien, algo anda mal. ¡Corríjan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an capaces de asumir la pérdida, cuando corresp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en con un estado de resultados en 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cuesten clientes y proveedores como tarea prioritaria y tempr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8-07T19:37:50Z</dcterms:modified>
  <cp:revision>78</cp:revision>
  <dc:subject/>
  <dc:title>Arbol lógico</dc:title>
</cp:coreProperties>
</file>