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0125-27F1-4245-BDE0-86BC4BE9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E2EF-A2AA-4D5C-B39D-2C107FE0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3F55-15B7-4067-9531-AC2759C0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9620-2D30-454D-B727-EECFFB86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D1D0-DDC4-4339-A0D1-FACD03FF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3FB5-EE0B-4BD6-862A-F81707E9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37B5-84AC-4ED2-8EF2-D7E8A2FE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0C01-B9D6-42D8-97BC-0D533EE9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C7B1-4AA2-4107-8FA9-BA2768B8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D883-3FA1-41BA-AA70-6292C857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6E1-2D2F-45B9-AA8D-FD4E3F03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4DAE-9EFD-424A-AB82-146F1EF9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A723-DDD9-4679-A056-B4D09CD51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° de Agost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ar desde el in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ultar a los prof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blar con su entorno sobre el proyecto en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el cuerpo B de El 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ambici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osados, esta es una oportunidad para inventar m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idad: Forma y Conte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zar los conocimientos adquiridos. NO a la pura intu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quivocarse tratando, tiene más mérito que pasar desapercib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n clientes, no exist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n a conocer su opi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no lo están pasando bien, algo anda mal. ¡Corríjan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an capaces de asumir la pérdida, cuando correspo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en con un estado de resultados en 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cuesten clientes y proveedores como tarea prioritaria y tempr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8-07T19:37:50Z</dcterms:modified>
  <cp:revision>78</cp:revision>
  <dc:subject/>
  <dc:title>Arbol lógico</dc:title>
</cp:coreProperties>
</file>