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25E3-3FB8-4F64-8756-A22FE90E6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0331-076A-4412-9986-99B05B90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1BE7-27CD-4006-9603-618EB548B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4567-9EDC-46FD-A3FE-198E412E2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3892-385A-45C4-A3C1-0BB8D900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E5D9-481C-4FFB-9A69-069DF5BA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0E31-7B0E-4595-94F8-020D3580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E8F3-95AA-4F3B-AB9C-4D5F4713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F62D-5796-47BE-87A2-A8F5FA9B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C9CF-0F11-462F-BF08-1C19771A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1821-4779-4860-A495-32BC678C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794C-711F-450D-9EB5-16B780B1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876E-9920-4513-90CF-2F3A31B94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2637000"/>
            <a:ext cx="77724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Times New Roman"/>
              </a:rPr>
              <a:t>GUÍA PARA EL DESARROLLO DE UN PLAN DE NEGOC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70520"/>
            <a:ext cx="77724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Ariel Gringaus – Octubre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El Producto o Servicio</a:t>
            </a: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nue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finir el problema existente y la solución que se plant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Presentar el bien o servicio que se va a producir o ve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ñalar enfoques específicos del m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Resaltar los aspectos innov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stacar los factores fundamentales de diferenci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Indicar acciones a desarrollar para la protección de la 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 u="sng">
                <a:solidFill>
                  <a:srgbClr val="3333cc"/>
                </a:solidFill>
                <a:uFillTx/>
                <a:latin typeface="Times New Roman"/>
              </a:rPr>
              <a:t>Check list sobre la idea del producto o servicio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Qué problema(s) soluciona su producto o servi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A que necesidad del cliente respo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A qué tipo de producto o servicio respo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Qué se está ofreciendo exactam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Qué es lo innovador del producto o servi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Cuáles son sus características distintivas en relación a otros productos o servici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Hasta qué punto nuestro producto es ún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ómo protegeremos su exclusiv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El Equipo Direc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ducación y preparación profes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xperiencia prác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stancias en el extranj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xperiencia directiv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Habilidades espe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Más del equip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el equipo ha trabajado conjuntamente con ante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la distribución de funciones es acorde con la experiencia indic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los fundadores conocen sus debilidades y están dispuestos a superar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está claro la distribución de pape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existe un objetivo comú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la distribución de la propiedad está defin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Breve Historia del Proye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Cómo se originó la id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Tiempo transcurrido desde su origen y acciones que se han llevado a cab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ómo se han integrado los diferentes miembros del equi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incipales problemas plante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ontactos e investigaciones que se han realiz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Valoración global del proyecto y coherencia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os puntos fuer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os aspectos más atractivos del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Una argumentación de su coherencia inte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Identificación de los riesgos que puedan surgir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EL PRODUCTO O SERVICIO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u simplicidad, es decir, facilidad de u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u fiabilidad, es decir, que no fa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u calidad: materiales, du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Área de producción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proceso de elaboración del producto o prestación del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tecnología aplic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determinación del coste del producto o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scrpción de las actividades requeridas para producir el bien o prestar el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Organizar las actividades de manera secuen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stablecer los tiempos requeridos para llevar a cabo l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Tecnología emple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Facilidad para adquirir la tecn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ondiciones especiales para hacer uso de ella: patentes, acuer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Aspectos técnicos especiales (capacitación del personal, equipo, instalaciones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Posibilidades de copiado y protección de la mi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Velocidad en que se suceden las innovaciones tecnológicas en el ámbito empresarial en que se va a desarrollar nuestr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apacidad financiera de que se disp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Equipos e infraestructura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Locales y ofic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Maquinaria y herrami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Insta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lement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quipos para el proceso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Aplicaciones informá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Mobil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Derechos de traspaso/ Patentes y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Depósitos y fian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Gastos de constitución y puesta en funcio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xist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Objetivos de un B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3333cc"/>
                </a:solidFill>
                <a:latin typeface="Times New Roman"/>
              </a:rPr>
              <a:t>Ayudar al equipo promo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3333cc"/>
                </a:solidFill>
                <a:latin typeface="Times New Roman"/>
              </a:rPr>
              <a:t>Interesar a posibles invers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EL MERCADO</a:t>
            </a: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Qué tamaño tiene el mercado al que vamos a dirigir nuestro producto o servi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uál es nuestro cliente potenci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Por qué los clientes potenciales necesitan nuestro produc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ómo llegaremos a nuestros clientes potencia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Qué competencia existe en la actual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Por qué nos diferenciamos de la competenc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ómo lograr que las personas se den cuenta de que lo necesit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¿ Cómo convencer al invers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definición del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gmentación del mercado obje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análisis de la competencia exist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ventajas competi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estrategia de pre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promoción y publi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sistema de distribu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s previs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Definición del mercado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mercado geográfico: delimitando las zonas donde se piensa ofrecer el producto o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mercado objetivo: definiendo los segmentos de mercado específicos a los que nos vamos a dirig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situación del mercado: describiendo el estado actual y la posible evolución o tendencia fu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finición clara del perfil de nuestro cliente potencial: identificando los futuros consumidores de nuestro producto o servi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Consejos para estim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Partir de una base sólida utilizando cifras fácilmente verific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guir un camino lógico y que quede cla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omparar las fuen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r creativo: si un valor es desconocido, busquemos un sustituto que se relacione con el que fal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omprobar si el resultado es coherente y tiene sent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Criterios para la segmentación de clie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Para bienes de cons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Geográficos: país, zonas, comu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Demográficos: edad, sexo, profesión, ingresos.Estilo de v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Comportamiento: uso, aplicaciones, afi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Comportamiento de compra: marcas, preci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Para bienes de 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Demográficos: tamaño empresa, situación, sector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Operativos: tecnología aplic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Comportamiento de compras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Factores de ub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Análisis de la compet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competencia direc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diferenci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cc"/>
                </a:solidFill>
                <a:latin typeface="Times New Roman"/>
              </a:rPr>
              <a:t>La diferenciación se puede conseguir a través de destacar en diversos aspectos como s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5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servicio de entre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documentación técn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servicio de post ven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ca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Conocimientos Escenci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conocimiento de determinadas tecnologí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s relaciones con determinados agentes del mercado obje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conocimiento de un proce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acceso a un canal de distribu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Estrategia de Mark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strategia de product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ca-E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trategia de pre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strategia de promo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strategia de pla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Previsiones de ve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e debe hacer una estimación de los ingresos que podremos obtener en un horizonte de 3 a 5 años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Hay que ser REALI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Partes Básicas de un B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RESUMEN EJECUTIV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DESARROLLO DEL PLAN DE NEGOCI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ORGANIZACIÓN Y PLAN DE TRABAJO DE DESARROLLO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ASPECTOS ECONÓMICO-FINANCIEROS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>
                <a:solidFill>
                  <a:srgbClr val="3333cc"/>
                </a:solidFill>
                <a:latin typeface="Times New Roman"/>
              </a:rPr>
              <a:t>ORGANIZACIÓN Y PLAN DE TRABAJO DE DESARROLLO DEL PROYECTO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6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Distribución de tareas y responsabi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Planificación del pers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Dirección y cultura de la empresa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ASPECTOS GENERALES DE LA ORGANIZ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os procesos operativos (funciones) de la empres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Qué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Cómo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Con que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Dónde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En cuanto tiempo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MARCO LEGAL DE LA ORGANIZ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número de socios que desean iniciar el 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cuantía del capital 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os gastos de constit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os trámites a realizar para implantarla leg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s obligaciones fiscales que se deberá afron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s obligaciones laborales a las que estará suj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las responsabilidades que se adquieren frente a terc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PLAN DE TRABAJO PARA EL PROYEC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l plan de trabajo consiste en asignar tiempos, responsables, metas y recursos a cada actividad de la empre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l plan de trabajo consistirá en la expresión concreta, clara y específica de lo establecido en cada una de las áreas y se concretará en el programa de realización.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PLAN DE TRABAJO PARA EL PROYEC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ara la realización del mismo deben fijarse objetivos temporales, y debe fijarse una secuencia lógica de actu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PLAN DE TRABAJO PARA EL PROYECTO</a:t>
            </a:r>
            <a:r>
              <a:rPr b="1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Pasos a seguir para el desarrollo del proyec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Definir la idea del producto o servic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Investigar el merc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Definir el proceso de produ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Asignar funciones y responsabil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Ver la viabilidad global del proye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ASPECTOS ECONÓMICO FINANCIEROS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Determinar la inversión inicial necesa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studio de las fuentes de financiación disponi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oyecciones de resultados de la actividad empresarial (normalmente tres añ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oyecciones de estados de tesorería (normalmente tres añ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DERTERMINACIÓN DE LA INVERSIÓN INICIAL NECES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Evaluar los elementos necesarios para desarrollar nuestra actividad y cuantificación de su co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Además de los costes citados debe ser considerado en todo caso el </a:t>
            </a:r>
            <a:r>
              <a:rPr b="0" lang="es-ES_tradnl" sz="3200" spc="-1" strike="noStrike" u="sng">
                <a:solidFill>
                  <a:srgbClr val="3333cc"/>
                </a:solidFill>
                <a:uFillTx/>
                <a:latin typeface="Times New Roman"/>
              </a:rPr>
              <a:t>capital de trabajo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¿Cuánto dinero necesito para iniciar mi actividad?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ESTUDIO DE LAS FUENTES DE FINANCIACIÓN DISPONIBLES</a:t>
            </a:r>
            <a:r>
              <a:rPr b="1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Una vez se conoce cuál es la inversión inicial necesaria, hay que determinar las fuentes económicas de las que se obtendrán los fondos necesarios para financiar el plan de inversiones.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 u="sng">
                <a:solidFill>
                  <a:srgbClr val="3333cc"/>
                </a:solidFill>
                <a:uFillTx/>
                <a:latin typeface="Times New Roman"/>
              </a:rPr>
              <a:t>Fuentes de Financi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333cc"/>
                </a:solidFill>
                <a:latin typeface="Times New Roman"/>
              </a:rPr>
              <a:t>Préstamos famili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Ayudas del Es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Hipote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Lea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Créditos banc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Capital ries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Características Bás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Efica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Estructu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Compren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Bre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Có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Proyecciones de resultados de la actividad empresar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Tomar los apuntes de Evaluación de Proyectos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Hay que ser realista, lo cual supo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Realizar una adecuada previsión de ingresos por ven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Determinar la totalidad de costes y gastos, diferenciando los variables de los fij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Proyecciones de estados de tesorerí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Tomar los apuntes de Evaluación de Proyectos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Ojo con el 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Ojo con las ventas a pla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Recomendación F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No engañarse a uno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oner metas alcanz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onerse en el lugar del inver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studiar bien el mercado antes de tirarse al a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mpezar a trabajar lo antes po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reerse el cu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Areas Princip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Naturaleza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produ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organ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Aspectos económico-financie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RESUMEN EJECU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intetizar de forma breve todos aquellos aspectos claves del Plan de Nego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e recomienda hacerlo al final, cuando el Plan de Negocio ya esté acabad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Contenidos del Resúmen Ejecu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Breve presentación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Oportunidad (es) de mercado detec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roducto/servicio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l equipo humano fundador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l modelo de nego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Mercado y el potencial de crecimiento que t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rincipales ventajas competitivas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revisiones de facturación de la empresa para los 3 primeros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Si el RE es malo el proyecto queda afue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Un resumen ejeútivo malo es como el comienzo de una mala película en T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e ubica al principio del Plan de Negocios como </a:t>
            </a:r>
            <a:r>
              <a:rPr b="0" lang="ca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“carta de presentación”</a:t>
            </a: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 del mismo y </a:t>
            </a:r>
            <a:r>
              <a:rPr b="0" lang="ca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ha de estimular a</a:t>
            </a: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a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un posible inversor a seguir leyendo e interesarse por el Plan de Negocio que se presenta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091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NATURALEZA DEL PROYECTO</a:t>
            </a:r>
            <a:r>
              <a:rPr b="1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producto o servicio nuev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esentación del equipo dire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Breve historia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Valoración global del proyecto y coherencia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ii</cp:lastModifiedBy>
  <dcterms:modified xsi:type="dcterms:W3CDTF">2003-03-17T13:27:12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33759759</vt:r8>
  </property>
  <property fmtid="{D5CDD505-2E9C-101B-9397-08002B2CF9AE}" pid="3" name="_AuthorEmail">
    <vt:lpwstr>agringaus@colegium.com</vt:lpwstr>
  </property>
  <property fmtid="{D5CDD505-2E9C-101B-9397-08002B2CF9AE}" pid="4" name="_AuthorEmailDisplayName">
    <vt:lpwstr>Ariel Gringaus Higilchuk</vt:lpwstr>
  </property>
  <property fmtid="{D5CDD505-2E9C-101B-9397-08002B2CF9AE}" pid="5" name="_EmailSubject">
    <vt:lpwstr>Charla</vt:lpwstr>
  </property>
</Properties>
</file>