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18731-5018-41BB-89E2-77EC28E4A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FFB4F-B999-4C8D-9DBE-9E7D620D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A84C6C-737C-4622-93CF-29C1D028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7A388-CC8B-4963-BF5A-0FA19375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70335-3799-4A71-B145-387E2AA7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13B12-25C6-4B83-AEB1-9AA84259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48C71-92C0-4F10-9720-8CB1C32B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F0405-8A60-4F13-AAE4-B05957C6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3E29C-D86E-4A9E-9B4B-82830856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B9B3B-56C8-4C70-8C99-24472861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A0D85-7A3A-4431-9F7A-0EE3CCE6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973AD-002D-45B2-9F95-CCC707CB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280" y="6244920"/>
            <a:ext cx="799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esarrollo y Evaluación de Negocios                                Otoño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E76A-8457-4579-8C49-5A56B44FBAD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Estructura de las Presentaciones e Inform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69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iseño y Evaluación de Negocio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imera Presentacio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y primer inform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990720"/>
            <a:ext cx="8001000" cy="50292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en general, identificando variables relevan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duct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ec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lient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nálisis interno y Externo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(FOD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nálisis de entorn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Escuc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egunda Presentacio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y segundo inform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7967520" cy="533412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con datos duros para las variables relevante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duc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estándares, oportunidad, material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ercad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localización, participació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eci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disposición a pagar, elasticidad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liente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¿Quién(es) paga(n)?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organización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quienes, donde, que cuesta, que aporta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Escuche y 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ercera Presentacio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e informe fina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763120" cy="52578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lan de Nego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Marketing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medios, inversión en marketing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Operaciones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nivel y costos de producción, abastecimiento, turnos, distribución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ructura organizacional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ganigrama, cargos, planilla de remuneracion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Financiamien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del capital para invertir y capital de trabajo (fondos, inversionistas, socios, ist. Financieras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valuación Financiera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y uso de fondos, flujo de caja, VAN,TIR y cualquier otra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comendaciones para las presenta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e preparado para fundamentar sus antecedentes y argumen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utilice (ni presente en forma oral o escrita) algo que no sea importante para el negocio que evalúa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dique siempre la fuente de su infor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tilizó una herramienta (encuesta, modelo, etc.) este preparado para mostrarla y defenderl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justese al tiempo de la presentación eligiendo lo importa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xplique para reforzar sólo lo crí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8T15:16:49Z</dcterms:created>
  <dc:creator>Antonio Holgado</dc:creator>
  <dc:description/>
  <dc:language>en-US</dc:language>
  <cp:lastModifiedBy>dii</cp:lastModifiedBy>
  <dcterms:modified xsi:type="dcterms:W3CDTF">2003-04-30T19:04:29Z</dcterms:modified>
  <cp:revision>4</cp:revision>
  <dc:subject/>
  <dc:title>Sin título de diapositiva</dc:title>
</cp:coreProperties>
</file>