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1A13-0152-4EEE-8A94-BBF0A255B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E04B-FE56-46F2-9A9A-FDEFDE383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143A-90C3-4E36-8671-0288274C2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644D-C5F8-442F-93A4-662C8161A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FFC2-3A4B-426C-AC5B-C4F1A5C43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66865-2E3A-4AE0-A446-5E9D69EB0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1445-705A-4C0D-B0CB-AD5A770EC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5FAD-4F8A-4204-8EEC-DF5F02F89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4042-C444-417E-9A15-DF0B1A338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10F3-5272-4833-9A9C-547A16308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26A7-8C37-47F0-B86E-88A26C29A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54D59-FE00-435F-ACB6-904647B92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00632-937A-4F6B-B8CC-AC221268E5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2819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Lessons Lear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antiago - 1° de Agosto de 200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90720" y="533520"/>
            <a:ext cx="1523880" cy="14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Lessons Lear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rabajar desde el inic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nsultar a los profes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Hablar con su entorno sobre el proyecto en man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eer el cuerpo B de El Mercu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r ambicio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r osados, esta es una oportunidad para inventar mun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Lessons Lear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alidad: Forma y Conteni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Utilizar los conocimientos adquiridos. NO a la pura intui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reerse el cu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quivocarse tratando, tiene más mérito que pasar desapercibi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in clientes, no existe negoc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en a conocer su opin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Lessons Lear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i no lo están pasando bien, algo anda mal. ¡Corríjanlo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an capaces de asumir la pérdida, cuando correspon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rabajen con un estado de resultados en m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ncuesten clientes y proveedores como tarea prioritaria y tempran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1T00:14:23Z</dcterms:created>
  <dc:creator>dii</dc:creator>
  <dc:description/>
  <dc:language>en-US</dc:language>
  <cp:lastModifiedBy>Universidad de Chile</cp:lastModifiedBy>
  <dcterms:modified xsi:type="dcterms:W3CDTF">2003-08-07T19:37:50Z</dcterms:modified>
  <cp:revision>78</cp:revision>
  <dc:subject/>
  <dc:title>Arbol lógico</dc:title>
</cp:coreProperties>
</file>