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B239-0866-4D4F-845E-3963BC2CF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7DF8-7E45-49E4-A3DC-151117DD8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C7C1-72F6-42D2-8BF8-61D289002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06C1-F10B-44D6-9D09-96129ED98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6952B-1AD9-4117-BC99-95E471B2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E840-9683-4538-B841-C6CA1550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D027F-FBCE-4890-A395-2C1EA0AF8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03077-0B45-4C29-AE84-CE214ACF1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60B4-CEDB-4268-9CF2-605EABDEB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319C6-2BF3-4AA9-A50F-C0EC1083D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3892-076F-4C50-91F3-F11088716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0338-6E9F-42C9-9EDE-8550F6BD2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C6BC0-948E-4F37-9107-42AD5C483A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2819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antiago - 1° de Agosto de 200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990720" y="533520"/>
            <a:ext cx="1523880" cy="14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bajar desde el ini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onsultar a los profes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ablar con su entorno sobre el proyecto en m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Leer el cuerpo B de El Mercu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 ambicio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r osados, esta es una oportunidad para inventar mun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alidad: Forma y Conten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Utilizar los conocimientos adquiridos. NO a la pura intui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Creerse el cu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quivocarse tratando, tiene más mérito que pasar desapercib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n clientes, no existe nego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n a conocer su opin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essons Lear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i no lo están pasando bien, algo anda mal. ¡Corríjanl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ean capaces de asumir la pérdida, cuando correspo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Trabajen con un estado de resultados en men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ncuesten clientes y proveedores como tarea prioritaria y tempran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1828800"/>
            <a:ext cx="7772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467480" y="380880"/>
            <a:ext cx="12193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1T00:14:23Z</dcterms:created>
  <dc:creator>dii</dc:creator>
  <dc:description/>
  <dc:language>en-US</dc:language>
  <cp:lastModifiedBy>Universidad de Chile</cp:lastModifiedBy>
  <dcterms:modified xsi:type="dcterms:W3CDTF">2003-08-07T19:37:50Z</dcterms:modified>
  <cp:revision>78</cp:revision>
  <dc:subject/>
  <dc:title>Arbol lógico</dc:title>
</cp:coreProperties>
</file>