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37C-E170-49E4-8323-BDF178676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9CE3-D839-41FD-BBC1-E47B4EA3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5A6-7FCC-4D30-98EF-BE383F8B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885C-43C8-4518-AD79-F36F5B7C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58CD-481F-4A93-BDE8-1BC73DAF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C313-B8C8-4AE8-85F8-30ABB5FF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07EC-2185-4291-8552-48802C96D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F80A-A921-44B6-9787-F1F30AC0C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914D-9BB5-48D7-8413-0BDF4CC0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D2A-F934-4F24-8414-7CAEDD76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467F-B7A9-422B-8176-3A0486E1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FECD-86AF-4682-822E-79812AF1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6021A-5F9B-4939-8D74-AC4B5A83D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: 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presentación tiene como objetivo entregar antecedentes e ideas generales para apoyar la preparación y realización de una presen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stos efectos, se considera que una presentación puede estructurarse en tres partes: preparación, ejecución y post-ejecución. Cada una de ellas incluye aspectos específicos que deben tenerse en cuenta y desarrollarse adecuadamente. El objetivo de esta tarea es lograr realizar presentaciones que tengan un alto impacto y logren en forma efectiva transmitir los contenidos dese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pectos pr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/ cronometr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untes de apoyo (no en las ma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ta previa al lu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legar antes - chequear equipos - cargar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chivos de resp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 a entre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cución de l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enario / audiencia a dis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ir reglas del juego al comienzo: participación audiencia, celular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ar convinc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verbal y no ver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pectos de cada 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binación de e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ergía / no sobreactu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len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locidad / cla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corpor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tur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pantalla / no obstaculizar 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ideas princip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: incluir periferia; manten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alles, pero no ta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medios: pantalla, punter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ición entre pa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estrictamente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es imprevistas. P. ej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dor de decisiones se 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 y resp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jar tiempo adecu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er el interés de la aud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c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ejo de preguntas comple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 charla - reu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 (ev. ayuda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istrar compromi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t -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los compromisos adqui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le distribución d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77120" y="4952880"/>
          <a:ext cx="2438280" cy="16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952880"/>
                    <a:ext cx="2438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paración: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: pocas, preci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y forma apropi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onerse, experi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acticar, practicar, pract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7162920" y="4343400"/>
          <a:ext cx="129528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4343400"/>
                    <a:ext cx="1295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etapas de una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ización de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jetivos de esta char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amiento de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ntid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individuales / est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eriencia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dea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: instancia para transmitir contenido (ideas, información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diencia a disposición: hacerse cargo de sus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de la comunicación: emisor - receptor - mensaje / estados de á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urrir a herramientas dispon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tapas de un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ción (a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ción (dur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st - ejecución (despu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evancia de cada 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952880" y="1981080"/>
          <a:ext cx="105588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981080"/>
                    <a:ext cx="10558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715000" y="3124080"/>
          <a:ext cx="51444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124080"/>
                    <a:ext cx="514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019920" y="4572000"/>
          <a:ext cx="1600200" cy="10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572000"/>
                    <a:ext cx="16002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par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r ideas centrales y focalizarse en 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ganización / diseño de presentación: secuencia, duración, énfasi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 nivel de formalidad: vestimenta, lengu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apropi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s etapa cl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cu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r a lo es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rganiz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árbol lóg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5486400" cy="3900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s efic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úmero adecuado / tiempo adecuado para cada una (explicacio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tidad de texto, tamaño le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colores, apoyo de gráficos, íconos, etc.: apoyo a comun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: concisos,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, gra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7-25T15:34:42Z</dcterms:modified>
  <cp:revision>71</cp:revision>
  <dc:subject/>
  <dc:title>Arbol lógico</dc:title>
</cp:coreProperties>
</file>