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46FD-555D-4A58-B690-54C237D3F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8FC-5B4D-43B0-AD2E-DC24A108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FC3D-7531-44E3-A8F0-D30E948C9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AEE3-F024-4F1F-A934-F25626EAF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68F-E55F-441E-B23E-F5B69A46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503A-CEA3-423C-8E27-31B9558BD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F68-1AA4-4D88-91DB-95901B97E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6FD4-78B9-4D56-90A0-775AD3D48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8EA4-DF7B-43A9-8E46-949BD747F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098D-B0C9-4BEA-8DAD-6F535EB8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28AB-1A44-4E00-83A4-B3C27E2E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FE49-2BDB-4FD0-9BCF-9D75C37D5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1C8C-B2B3-467C-99A1-6051F7BB5F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: 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 presentación tiene como objetivo entregar antecedentes e ideas generales para apoyar la preparación y realización de una presen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estos efectos, se considera que una presentación puede estructurarse en tres partes: preparación, ejecución y post-ejecución. Cada una de ellas incluye aspectos específicos que deben tenerse en cuenta y desarrollarse adecuadamente. El objetivo de esta tarea es lograr realizar presentaciones que tengan un alto impacto y logren en forma efectiva transmitir los contenidos dese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Aspectos práct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sayar / cronometr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untes de apoyo (no en las man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isita previa al lu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legar antes - chequear equipos - cargar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chivos de respal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 a entreg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jecución de l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enario / audiencia a dispos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r reglas del juego al comienzo: participación audiencia, celulare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ar convinc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nguaje verbal y no ver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pectos de cada un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mbinación de ell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ol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fa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ergía / no sobreactua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len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elocidad / clar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corporalida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tur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pantalla / no obstaculizar v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ra ideas princip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tacto visual: incluir periferia; mantene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ov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sticul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Detalles, pero no ta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medios: pantalla, puntero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nsición entre par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hum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estrictamente tiemp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ones imprevistas. P. ej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nos tiem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omador de decisiones se 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guntas y respue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jar tiempo adecu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tener el interés de la audi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cal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nejo de preguntas complej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ferencia charla - reu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omar notas (ev. ayuda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gistrar compromis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9" name=""/>
          <p:cNvGraphicFramePr/>
          <p:nvPr/>
        </p:nvGraphicFramePr>
        <p:xfrm>
          <a:off x="8001000" y="4495680"/>
          <a:ext cx="704880" cy="1981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01000" y="4495680"/>
                    <a:ext cx="70488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ost -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mplir los compromisos adquir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sible distribución de mate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gui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5" name=""/>
          <p:cNvGraphicFramePr/>
          <p:nvPr/>
        </p:nvGraphicFramePr>
        <p:xfrm>
          <a:off x="6477120" y="4952880"/>
          <a:ext cx="2438280" cy="16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77120" y="4952880"/>
                    <a:ext cx="2438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paración: cent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as: pocas, preci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y forma apropia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onerse, experimen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acticar, practicar, practic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1" name=""/>
          <p:cNvGraphicFramePr/>
          <p:nvPr/>
        </p:nvGraphicFramePr>
        <p:xfrm>
          <a:off x="7162920" y="4343400"/>
          <a:ext cx="1295280" cy="1981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62920" y="4343400"/>
                    <a:ext cx="12952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ones: elementos para su preparación y ejec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tón H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4 de May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781680" y="533520"/>
            <a:ext cx="14288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etapas de una pres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ización de cada etap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entarios f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bjetivos de esta charl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denamiento de id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ntido comú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racterísticas individuales / esti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xperiencia individ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Ideas gener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esentación: instancia para transmitir contenido (ideas, información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udiencia a disposición: hacerse cargo de sus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oría de la comunicación: emisor - receptor - mensaje / estados de ánim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currir a herramientas disponi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tapas de una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tap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eparación (ant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cución (duran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st - ejecución (despué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levancia de cada u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952880" y="1981080"/>
          <a:ext cx="1055880" cy="129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52880" y="1981080"/>
                    <a:ext cx="105588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715000" y="3124080"/>
          <a:ext cx="514440" cy="1447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124080"/>
                    <a:ext cx="514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019920" y="4572000"/>
          <a:ext cx="1600200" cy="10620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9920" y="4572000"/>
                    <a:ext cx="160020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Prepar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generalida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dentificar ideas centrales y focalizarse en 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ganización / diseño de presentación: secuencia, duración, énfasis, etc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 nivel de formalidad: vestimenta, lengu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ecnología apropia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Arial"/>
              </a:rPr>
              <a:t>Es etapa cla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cuenc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rt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tem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arroll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quema 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r a lo es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rganización: </a:t>
            </a: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árbol lóg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38080" y="2286000"/>
            <a:ext cx="5486400" cy="3900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ransparencias eficien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úmero adecuado / tiempo adecuado para cada una (explicacion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tidad de texto, tamaño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 de colores, apoyo de gráficos, íconos, etc.: apoyo a comun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ítulos: concisos, significativ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rtografía, gramá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ogo instituc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7315200" y="4724280"/>
          <a:ext cx="1469880" cy="180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315200" y="4724280"/>
                    <a:ext cx="1469880" cy="18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7-25T15:34:42Z</dcterms:modified>
  <cp:revision>71</cp:revision>
  <dc:subject/>
  <dc:title>Arbol lógico</dc:title>
</cp:coreProperties>
</file>