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A81-4850-45F5-9FBF-42503260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AAA-5E25-4870-A257-B77AACE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9C0-AF20-46AD-9BFA-623B068B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A4B-09CA-48BA-BB49-A6E56A44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6B26-13C8-48C6-929C-5297CCB2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F38A-030C-4AE7-A28B-ED1D1C29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F8EF-075A-4E3C-95B2-0F00C9B0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E931-D64E-464A-9DDF-3CC90DCA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AE68-65CF-4C11-A9CB-C1D210F5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A889-FB86-435E-B895-E1E0E87B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B607-5A20-44B0-928D-792902DA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F63-C248-4711-9F6F-76CF574E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1774-74E2-4C1E-90DF-731BA58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23CF-B429-4633-9570-20BCEA0D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DEA1-4776-4FB8-99F3-7233E8B2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2229-26D6-48D2-9503-EB88FE90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E50D-9B78-404B-9B41-D6C402DB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DEF-FA35-40C6-A5A5-A1FFC98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7E7-8926-443E-997F-0FC26574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8AC-DAB4-4FAB-9B72-0371B8A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8FF-A206-4676-82E2-44C82C79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F6B-0F75-4327-B7A0-92191E4E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C26-330F-4B3B-B958-877C5BF1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134-01F4-4283-BA43-7D75570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67FE-3983-4533-907D-C3EB259B7F5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1EDD-B6FC-49A8-ADA7-DDF862060A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133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Verdana"/>
              </a:rPr>
              <a:t>OUTPLACEMENT</a:t>
            </a:r>
            <a:br>
              <a:rPr sz="5400"/>
            </a:br>
            <a:r>
              <a:rPr b="1" lang="es-MX" sz="5400" spc="-1" strike="noStrike">
                <a:solidFill>
                  <a:srgbClr val="ffcc66"/>
                </a:solidFill>
                <a:latin typeface="Verdana"/>
              </a:rPr>
              <a:t>Reubicación Laboral</a:t>
            </a:r>
            <a:br>
              <a:rPr sz="5400"/>
            </a:br>
            <a:br>
              <a:rPr sz="2000"/>
            </a:br>
            <a:r>
              <a:rPr b="1" lang="es-MX" sz="2000" spc="-1" strike="noStrike">
                <a:solidFill>
                  <a:srgbClr val="ffcc66"/>
                </a:solidFill>
                <a:latin typeface="Verdana"/>
              </a:rPr>
              <a:t>IN69B – Taller de Diseño y Evaluación de Negocio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343040" y="44197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7d"/>
                </a:solidFill>
                <a:latin typeface="Verdana"/>
              </a:rPr>
              <a:t>Claudio Aray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7d"/>
                </a:solidFill>
                <a:latin typeface="Verdana"/>
              </a:rPr>
              <a:t>María Jesús Guzm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7d"/>
                </a:solidFill>
                <a:latin typeface="Verdana"/>
              </a:rPr>
              <a:t>María Isabel Henríq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Servicio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7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7d"/>
                </a:solidFill>
                <a:latin typeface="Verdana"/>
              </a:rPr>
              <a:t>Servicio: Apoyo a personas cesantes de nivel técnico profes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7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7d"/>
                </a:solidFill>
                <a:latin typeface="Verdana"/>
              </a:rPr>
              <a:t>Salas con acceso a Intern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7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7d"/>
                </a:solidFill>
                <a:latin typeface="Verdana"/>
              </a:rPr>
              <a:t>Apoyo psicológico y Asesoría Leg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7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7d"/>
                </a:solidFill>
                <a:latin typeface="Verdana"/>
              </a:rPr>
              <a:t>Clases Protocolo y Confección Curriculu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7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7d"/>
                </a:solidFill>
                <a:latin typeface="Verdana"/>
              </a:rPr>
              <a:t>Ayuda a encontrar un nuevo trabaj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7d"/>
                </a:solidFill>
                <a:latin typeface="Trebuchet MS"/>
              </a:rPr>
              <a:t>	</a:t>
            </a:r>
            <a:r>
              <a:rPr b="0" lang="es-CL" sz="2800" spc="-1" strike="noStrike">
                <a:solidFill>
                  <a:srgbClr val="ffff7d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Merca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7d"/>
                </a:solidFill>
                <a:latin typeface="Trebuchet MS"/>
              </a:rPr>
              <a:t> </a:t>
            </a:r>
            <a:r>
              <a:rPr b="1" lang="es-CL" sz="3600" spc="-1" strike="noStrike">
                <a:solidFill>
                  <a:srgbClr val="ffff7d"/>
                </a:solidFill>
                <a:latin typeface="Verdana"/>
              </a:rPr>
              <a:t>Clientes Potenciales</a:t>
            </a:r>
            <a:r>
              <a:rPr b="1" lang="es-CL" sz="2800" spc="-1" strike="noStrike">
                <a:solidFill>
                  <a:srgbClr val="ffff7d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7d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7d"/>
                </a:solidFill>
                <a:latin typeface="Verdana"/>
              </a:rPr>
              <a:t>Empresas medianas y gran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7d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7d"/>
                </a:solidFill>
                <a:latin typeface="Verdana"/>
              </a:rPr>
              <a:t>Instituciones del Gobierno  Ej: Fuerzas Arm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Merca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7d"/>
                </a:solidFill>
                <a:latin typeface="Verdana"/>
              </a:rPr>
              <a:t>Desafí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7d"/>
                </a:solidFill>
                <a:latin typeface="Verdana"/>
              </a:rPr>
              <a:t>Crear la necesidad de preocuparse de los despedid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7d"/>
                </a:solidFill>
                <a:latin typeface="Verdana"/>
              </a:rPr>
              <a:t>Crear la necesidad en las personas de ser asesoradas durante el período de desocup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7d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7d"/>
                </a:solidFill>
                <a:latin typeface="Verdana"/>
              </a:rPr>
              <a:t>Posicionarnos en el segmento objetivo escogido</a:t>
            </a:r>
            <a:r>
              <a:rPr b="0" lang="es-CL" sz="2200" spc="-1" strike="noStrike">
                <a:solidFill>
                  <a:srgbClr val="ffff7d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Análisis Extern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Verdana"/>
              </a:rPr>
              <a:t>Ambiente Sociocul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Verdana"/>
              </a:rPr>
              <a:t>Ambiente Econó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Análisis Extern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7d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7d"/>
                </a:solidFill>
                <a:latin typeface="Trebuchet MS"/>
              </a:rPr>
              <a:t>Amenazas de nuevos participantes (Al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	</a:t>
            </a: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 </a:t>
            </a: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Economías de escala (med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 </a:t>
            </a: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	</a:t>
            </a: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 </a:t>
            </a: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Diferenciación de servicios (ba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 </a:t>
            </a: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	</a:t>
            </a: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 </a:t>
            </a: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Requerimientos de capital (med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Análisis Extern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Poder Negociador de compradores (Med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7d"/>
                </a:solidFill>
                <a:latin typeface="Trebuchet MS"/>
              </a:rPr>
              <a:t>Número de compradores de importancia (al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7d"/>
                </a:solidFill>
                <a:latin typeface="Trebuchet MS"/>
              </a:rPr>
              <a:t>Disponibilidad de sustitutos (baj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7d"/>
                </a:solidFill>
                <a:latin typeface="Trebuchet MS"/>
              </a:rPr>
              <a:t>Costos de cambio de los compradores (¿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7d"/>
                </a:solidFill>
                <a:latin typeface="Trebuchet MS"/>
              </a:rPr>
              <a:t>Amenaza de los compradores de integrarse hacia atrás (baj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7d"/>
                </a:solidFill>
                <a:latin typeface="Trebuchet MS"/>
              </a:rPr>
              <a:t>Contribución a la calidad o servicio por parte de los compradores (med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Análisis Extern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Productos sustitutos (baj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Poder de negociación de los proveedores (¿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Trebuchet MS"/>
              </a:rPr>
              <a:t>Rivalidad entre competidores (¿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Análisis Intern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7d"/>
                </a:solidFill>
                <a:latin typeface="Verdana"/>
              </a:rPr>
              <a:t>Competidores</a:t>
            </a:r>
            <a:r>
              <a:rPr b="1" lang="es-CL" sz="2800" spc="-1" strike="noStrike">
                <a:solidFill>
                  <a:srgbClr val="ffff7d"/>
                </a:solidFill>
                <a:latin typeface="Verdana"/>
              </a:rPr>
              <a:t> In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7d"/>
                </a:solidFill>
                <a:latin typeface="Verdana"/>
              </a:rPr>
              <a:t>¿Cuál será nuestra ventaja competitiv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Conclus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7d"/>
                </a:solidFill>
                <a:latin typeface="Verdana"/>
              </a:rPr>
              <a:t>Desafío del proye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7d"/>
                </a:solidFill>
                <a:latin typeface="Verdana"/>
              </a:rPr>
              <a:t>Contribución más allá de lo económico: relación empresario-emple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7d"/>
                </a:solidFill>
                <a:latin typeface="Verdana"/>
              </a:rPr>
              <a:t>Imagen corporativa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7d"/>
                </a:solidFill>
                <a:latin typeface="Verdana"/>
              </a:rPr>
              <a:t>Oportunidad de abarcar un nuevo seg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7d"/>
                </a:solidFill>
                <a:latin typeface="Verdana"/>
              </a:rPr>
              <a:t>Amenaza de nuevos particip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Temar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Servici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Análisis Ex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Análisis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TENDE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7d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La empresa moderna está en 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permanente camb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7d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Cambio en la relación laboral y en el     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concepto tradicional de trabaj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7d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Gestión de RRHH clave en el proceso  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laboral del trabaj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7d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TENDE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7d"/>
                </a:solidFill>
                <a:latin typeface="Verdana"/>
              </a:rPr>
              <a:t>OUTPL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7d"/>
                </a:solidFill>
                <a:latin typeface="Verdana"/>
              </a:rPr>
              <a:t>Desvinculación programada o asistida, para la búsqueda de un nuevo empleo o reorientación a nueva actividad profesional por cuenta prop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7d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7d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7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7d"/>
                </a:solidFill>
                <a:latin typeface="Verdana"/>
              </a:rPr>
              <a:t>NECES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7d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OUTPLACEMENT para profesionales simples, técnicos y administrativos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7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7d"/>
                </a:solidFill>
                <a:latin typeface="Verdana"/>
              </a:rPr>
              <a:t>JUST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7d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En Chile el OUTPLACEMENT es un beneficio al que pueden aspirar solo directivos, ejecutivos y profesionales importantes de las grandes empre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Cifras de Ocupación/Desocup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52480" y="2590920"/>
          <a:ext cx="5715000" cy="317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90920"/>
                    <a:ext cx="57150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95280" y="591336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7d"/>
                </a:solidFill>
                <a:latin typeface="Verdana"/>
              </a:rPr>
              <a:t>Fuente: INE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Cifras de Ocupación/Desocup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2666880"/>
          <a:ext cx="6477120" cy="31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6477120" cy="31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95280" y="590724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7d"/>
                </a:solidFill>
                <a:latin typeface="Verdana"/>
              </a:rPr>
              <a:t>Fuente: INE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7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7d"/>
                </a:solidFill>
                <a:latin typeface="Verdana"/>
              </a:rPr>
              <a:t>Cifras de Ocupación/Desocup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2514600"/>
          <a:ext cx="8001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8001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838080" y="61722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7d"/>
                </a:solidFill>
                <a:latin typeface="Verdana"/>
              </a:rPr>
              <a:t>Fuente: INE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2:23:56Z</dcterms:created>
  <dc:creator>mhenriqu</dc:creator>
  <dc:description/>
  <dc:language>en-US</dc:language>
  <cp:lastModifiedBy>Dii</cp:lastModifiedBy>
  <dcterms:modified xsi:type="dcterms:W3CDTF">2004-03-26T19:09:14Z</dcterms:modified>
  <cp:revision>18</cp:revision>
  <dc:subject/>
  <dc:title>Presentación de PowerPoint</dc:title>
</cp:coreProperties>
</file>