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198072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4329360"/>
            <a:ext cx="2723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458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432936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980720"/>
            <a:ext cx="4127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329360"/>
            <a:ext cx="8458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9250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4400" spc="-1" strike="noStrike">
                <a:solidFill>
                  <a:srgbClr val="3366cc"/>
                </a:solidFill>
                <a:latin typeface="Lucida Sans Unicode"/>
              </a:rPr>
              <a:t>El Plan de Marketing</a:t>
            </a:r>
            <a:br>
              <a:rPr sz="2400"/>
            </a:br>
            <a:endParaRPr b="1" lang="en-US" sz="44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39" name=""/>
          <p:cNvSpPr/>
          <p:nvPr/>
        </p:nvSpPr>
        <p:spPr>
          <a:xfrm>
            <a:off x="5029200" y="5638680"/>
            <a:ext cx="3733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Semestre Otoño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0880" y="30492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58A Gestión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tuación Geográfic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ipo de Comprado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istribución, canales, etc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ublicida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Grupos Culturales, étnicos, religiosos, raci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lases Sociales, demográficas, et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por ejemplo, el perfil sociodemográfico de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composición del centro de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iénes son el comprador, el usuario, decidor, el prescript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proceso seguido en la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móviles determinantes en la decisión de compr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principales usos del producto por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evolucionan los hábitos de compra de los compradores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l comportamiento del comprad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expectativas y las necesidades de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recuencia o la periodicidad de las compr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 qué factores de marketing son más sensibles los compra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ecio, Publicidad, Servicio, Imagen de marc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causas de satisfacción y de insatisfac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5334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Complementar con datos sobre percepciones, actitudes, intenciones y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s tendencias d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tendencias del tamaño de mercado, crecimiento, estancamiento, decli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consumo medio por habitante, hogar, client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 qué nivel se sitúa la tasa de satura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iste una estructura estacional de vent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han evolucionado los precios med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medios publicitarios más usad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ompetencia -&gt;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número de competidores dire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cuota de mercado que poseen los tres o cinco competidores directos más important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tipo de comportamiento competitiv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ienes son los  seguidores, el líder, etc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uerza de la imagen de marca de los competidores actual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fuente de la ventaja competitiva que poseen los competidores más important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 fuerza y el grado de protección e los elementos de diferenciación de los productos y marcas de los compet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origen de la ventaja en costos de los competidores principal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obstáculos que impiden la entrada de competidores nuevos al sect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valor de esta barrera de entrada para un competidor que dispone de una posición  internacional poderos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productos sustitu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amenaza presentan estos productos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Análisis de la Estructura Competi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grado de concentración de los provee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nivel de negociación tien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el grado de concentración de clientes yo distribu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poder de negociación tienen gracias a é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376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809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La información debe permitir definir el clima competitivo, la intensidad de la rivalidad y el tipo de ventaja competitiva que poseen los competidores princip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l mercado objetiv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ondi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conóm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cológ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ernacion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económ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tasa esperada de crecimiento del PIB espera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es la inflación espera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cambio económico podrá afectar negativamente a la evolución del mercado y la demanda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considerar en caso de que esos cambios se produjes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polít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ley o reglamentación que tenga incidencia sobre nuestras actividades podría adoptarse en un futuro próxim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debería hacerse en ese cas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ley o reglamentación podría afectar a nuestros mecanismos de venta, distribución o comunica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se deberían tomar en ese cas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norma financiera o fiscal es susceptible de tener un impacto en nuestra rentabilida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uestra industria está afecta a reclamos de asociaciones de defensa de consumidor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ómo reaccionar ante estas circunstanci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iste la necesidad de expresar en forma clara y sistemática los objetivos y medios para poner en marcha la estrategia para el desarrollo de la empres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=&gt; Plan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recopilación y elaboración del plan permite calcula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uánto se va a tardar en cada etap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os recursos necesari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</a:rPr>
              <a:t>Esfuerzo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tecnológ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desarrollo tecnológico podría producirse que tuviera una incidencia sobre los costos de producció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adoptar si tal hecho se produjes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evolución tecnológica podría afectar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sectores tecnológicos susceptibles de amenazar nuestro campo de actividad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medidas permitirían minimizar el impacto de tales camb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... El entorno sociodemográfico y cultur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as tendencias demográficas que podrían afectar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será el impacto previsible de estas tendencias en nuestras vent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es son los cambios socioculturales susceptibles de tener un impacto sobre la demanda de nuestros product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Qué cambios en las actitudes de los consumidores podrían tener un impacto en la demanda global del mercad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ál sería el impacto previsible de tales cambio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42720" y="8380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fuentes de información para todos los datos anteriores pueden ser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ámaras de comerc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sociaciones profesion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vistas y diarios especializad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Bases de da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udios prev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Fuentes estata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no =&gt; datos primari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Lucida Sans Unicode"/>
              </a:rPr>
              <a:t>Problemas y Oportunida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roblemas y Oportunidad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 un resumen estructurado de los puntos anteriores (análisis de la situación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Objetivos y Metas...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os objetivos responden a la pregunt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	</a:t>
            </a: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	</a:t>
            </a: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¿qué se pretende consegui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metas son una especificación de los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Objetivos y Meta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e debe ser cuidadoso en la formulación de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laros y concisos, evitando frases larg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esentados por escrito para facilitar la comunica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Definidos en el tiempo y geográficamen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xpresados en términos cuantitativos y medib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herentes con los objetivos generales de la empres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uficientemente estimulantes (motivació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alizables (disponibilidad de medios para ponerlos en práctica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Objetivos y Meta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Kotler propone comenzar por definirlos en términos financieros y de ellos deducir los objetivos de marketing necesarios para realizar el objetivo financie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l razonamiento propuesto 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pecific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resultado neto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esper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Deducir el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cifra de venta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necesa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precio medio venta, determinar el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nivel de ventas en volume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la demanda global, deducir la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necesar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siderando la PM, determinar los objetivos en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distribución y comunicació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Tipos de Objetivo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obre ven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n cifras de ven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idades físic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uotas de merc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obre consumido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Fidelidad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sicionamient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e beneficio (utilidade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Utilidades...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Una forma de mejorar la posición competitiva de partid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rve de map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Útil para el control de gest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forma a los participantes de su papel en la realización del plan y logro de objetiv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ermite obtener recursos para la realización del pl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reación indicadores ad – ho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perío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vended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punto de equilib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local, por región, por zo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ublicidad competenc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Gast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sultad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por segmen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atios financieros (liquidez, circulante, rotación de inventarios, ROE, RO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dicio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aluación so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tribut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ribu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ancia Numé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stancia en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uito númer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n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r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cu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.L.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quipo de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úmero de vend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lidad de los vende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ecuencia de vis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ublic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lan de med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1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2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dio número 3 ____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je publici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eativ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mo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presupu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ipo de promo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cio consum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cuento a distribui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tras promo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0"/>
          <a:ext cx="9144000" cy="5256360"/>
        </p:xfrm>
        <a:graphic>
          <a:graphicData uri="http://schemas.openxmlformats.org/drawingml/2006/table">
            <a:tbl>
              <a:tblPr/>
              <a:tblGrid>
                <a:gridCol w="3962520"/>
                <a:gridCol w="1752480"/>
                <a:gridCol w="2057400"/>
                <a:gridCol w="762120"/>
                <a:gridCol w="609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Variabl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estro pro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dor N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º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rv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plit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lazo de ent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rvicio post v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estigación y Desarrol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ivel de gas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úmero de investig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ndimiento en I+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formaciones d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anco de da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SzPct val="150000"/>
                        <a:buFont typeface="Lucida Sans Unicode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ber hac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cución y Control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reación indicadores ad – ho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perío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vendedo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punto de equilibri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Ventas por local, por región, por zo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ublicidad competenci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Gast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sultado publicida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ticipación de mercado por segment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atios financieros (liquidez, circulante, rotación de inventarios, ROE, ROI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 Desviacion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ndimiento Vegeta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v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ndimiento Dese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"/>
          <p:cNvSpPr/>
          <p:nvPr/>
        </p:nvSpPr>
        <p:spPr>
          <a:xfrm>
            <a:off x="7453440" y="54864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. vege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32360" y="3429000"/>
            <a:ext cx="7278120" cy="2743200"/>
            <a:chOff x="1332360" y="3429000"/>
            <a:chExt cx="7278120" cy="2743200"/>
          </a:xfrm>
        </p:grpSpPr>
        <p:grpSp>
          <p:nvGrpSpPr>
            <p:cNvPr id="106" name=""/>
            <p:cNvGrpSpPr/>
            <p:nvPr/>
          </p:nvGrpSpPr>
          <p:grpSpPr>
            <a:xfrm>
              <a:off x="4267080" y="3429000"/>
              <a:ext cx="4343400" cy="2743200"/>
              <a:chOff x="4267080" y="3429000"/>
              <a:chExt cx="4343400" cy="274320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5257800" y="3429000"/>
                <a:ext cx="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45200" y="617220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257800" y="5409720"/>
                <a:ext cx="251460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57800" y="4876920"/>
                <a:ext cx="251460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257800" y="4343400"/>
                <a:ext cx="251460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86600" y="3733920"/>
                <a:ext cx="152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Lucida Sans Unicode"/>
                  </a:rPr>
                  <a:t>r. desea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4419720" y="4876560"/>
                <a:ext cx="259056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4267080" y="5334120"/>
                <a:ext cx="28958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332360" y="4648320"/>
              <a:ext cx="286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Lucida Sans Unicode"/>
                </a:rPr>
                <a:t>Desviación estratég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1840" y="5638680"/>
              <a:ext cx="26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Lucida Sans Unicode"/>
                </a:rPr>
                <a:t>Desviación operati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55308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81280" y="62485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7040" y="38098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Lucida Sans Unicode"/>
              </a:rPr>
              <a:t>v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 riesgo y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ificación de lo imprevist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Day propone siete preguntas para ver la robustez de un plan de marketing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l plan representa realmente una ventaja competitiva </a:t>
            </a:r>
            <a:r>
              <a:rPr b="1" lang="es-ES_tradnl" sz="2800" spc="-1" strike="noStrike">
                <a:solidFill>
                  <a:srgbClr val="000000"/>
                </a:solidFill>
                <a:latin typeface="Lucida Sans Unicode"/>
              </a:rPr>
              <a:t>defendibl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as hipótesis son realistas y la información es de calidad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enemos los recursos necesarios (finanzas, rrhh)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iste coherencia en los elementos de la empresa y el entorn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 Análisis de riesgo y </a:t>
            </a:r>
            <a:br>
              <a:rPr sz="3600"/>
            </a:b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planificación de lo imprevisto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Qué determinará el éxito y fracas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iste flexibilidad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 realmente atractivo el proyect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flipV="1">
            <a:off x="4572000" y="30456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429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15228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Importancia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Ele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36576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Grado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Ele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571500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Importancia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733920"/>
            <a:ext cx="16002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Grado de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Lucida Sans Unicode"/>
              </a:rPr>
              <a:t>Déb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002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VULNER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4952880"/>
            <a:ext cx="358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BLEMAS 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0666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FACTORES DE IMPORTANCIA ESTRATÉ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191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HIPÓTESIS VEROSÍM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...Utilidades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yuda a organizar y asignar responsabilidades, tareas y plaz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Sirve para ver problemas, oportunidades, amenazas futur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crementa la agilidad en las rea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lan anticrisis o de contingenc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31082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L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71800" y="2209320"/>
            <a:ext cx="990720" cy="121932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3429000"/>
            <a:ext cx="914400" cy="10666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1120" y="1676520"/>
            <a:ext cx="4114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RODUCTOS NUE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Lucida Sans Unicode"/>
              </a:rPr>
              <a:t>PLAN MARKETING AN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Situació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nálisis del Mercado Objetiv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roblemas y Oportunidad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Introducción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uál es la misión estratégica de la empresa en 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Lugar que se ocupa en el merc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Ciclo de Vida del Produc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Productos Complementarios y Sustituto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xplicación Detallada del producto en cuest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structura del Plan de Marketing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 Ejecutiv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66cc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Lucida Sans Unicode"/>
              </a:rPr>
              <a:t>Análisis de la Situació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Objetivos y Met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strategia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Tácticas de Marke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Ejecución y Contr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énd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Análisis de la Situación</a:t>
            </a:r>
            <a:endParaRPr b="1" lang="en-US" sz="3600" spc="-1" strike="noStrike">
              <a:solidFill>
                <a:srgbClr val="3366cc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nálisis detallado de la situación en que se encuentra el producto o servic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6-23T22:05:12Z</dcterms:modified>
  <cp:revision>133</cp:revision>
  <dc:subject/>
  <dc:title>IN58B Ingeniería de Marketing</dc:title>
</cp:coreProperties>
</file>