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68E-C7D0-4C4A-B98B-4342E532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022-110D-49B9-BBCF-42CBCAE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E81-175C-4144-82BE-9041557C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FEF-E30C-4FD3-8351-C3B5CCAF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CDD-4247-4A6A-8276-A6F66DC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422-82B3-4DEA-A79F-E3A524C3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A5B-D46E-421F-9556-650146D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84C-CD05-47C7-B4AF-2EBA39A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D77-3E0C-4380-88FF-D27263DF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3E2-FF9A-4398-94A9-652EF86E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517-EC15-43A7-AA0B-AF75295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B6D-E3EA-474D-A2FA-EF8DA82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71AF-8657-4DC8-A3EE-BF4250CA3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2096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752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86000"/>
            <a:ext cx="7696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ia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res no líderes son los que desencadenan las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posible una estrategia EDLP sin ser el líder indiscut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lant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delantan compra pero no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4267080"/>
            <a:ext cx="8229600" cy="2136240"/>
            <a:chOff x="380880" y="4267080"/>
            <a:chExt cx="8229600" cy="2136240"/>
          </a:xfrm>
        </p:grpSpPr>
        <p:sp>
          <p:nvSpPr>
            <p:cNvPr id="109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9718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4290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290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943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24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28800"/>
            <a:ext cx="8229600" cy="2136240"/>
            <a:chOff x="457200" y="1828800"/>
            <a:chExt cx="8229600" cy="2136240"/>
          </a:xfrm>
        </p:grpSpPr>
        <p:sp>
          <p:nvSpPr>
            <p:cNvPr id="134" name=""/>
            <p:cNvSpPr/>
            <p:nvPr/>
          </p:nvSpPr>
          <p:spPr>
            <a:xfrm>
              <a:off x="114300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481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053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9625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053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52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259092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47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5268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657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Administrador</cp:lastModifiedBy>
  <dcterms:modified xsi:type="dcterms:W3CDTF">2004-06-23T22:09:39Z</dcterms:modified>
  <cp:revision>32</cp:revision>
  <dc:subject/>
  <dc:title>Objetivo</dc:title>
</cp:coreProperties>
</file>