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511-D429-4C95-9414-CD2262B4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969-C5EC-4D97-A0F4-2234FDE0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BD4-2832-4685-9CDC-6DBA58F7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ACE-2FAB-4F0F-B7B2-31323A96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465-2C7F-410C-BA4C-AB84237A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7F9-8A16-442F-A925-C5728B2E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732-238D-4C16-A078-B4D1AD75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23F2-F4C9-4F38-AEBE-EA734771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B8B-E7BC-4496-B1BB-6BD77BF8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E83-DA47-4389-8165-A51C18CC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172-0AD6-458B-B978-48379655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142-4ABD-4239-B714-628F572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978-D59D-4834-9128-B9C4705F3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orqué exist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-Lo es una forma de mitigar la competencia por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iv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925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witchers son el objetivo y la causa de la´mayoría de las promocion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es lo que llamamos Demanda Secund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209680"/>
            <a:ext cx="79246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dremos dos marcas A y 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50% son leales 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20% son leales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30% son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emás supondremos que hay una voluntad a pagar de $5 por cada consumid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635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048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3341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42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5    1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2    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       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4     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7524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RCA 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24080"/>
            <a:ext cx="762120" cy="27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3032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80%   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0%  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267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65% 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286000"/>
            <a:ext cx="7696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os productores se pusieran de acuerdo, no habria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productores no líderes son los que desencadenan las promo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s posible una estrategia EDLP sin ser el líder indiscut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fec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lantar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r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arse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 Los clientes sólo adelantan compra pero no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4267080"/>
            <a:ext cx="8229600" cy="2136240"/>
            <a:chOff x="380880" y="4267080"/>
            <a:chExt cx="8229600" cy="2136240"/>
          </a:xfrm>
        </p:grpSpPr>
        <p:sp>
          <p:nvSpPr>
            <p:cNvPr id="109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9718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342900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8862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42900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900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5943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24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28800"/>
            <a:ext cx="8229600" cy="2136240"/>
            <a:chOff x="457200" y="1828800"/>
            <a:chExt cx="8229600" cy="2136240"/>
          </a:xfrm>
        </p:grpSpPr>
        <p:sp>
          <p:nvSpPr>
            <p:cNvPr id="134" name=""/>
            <p:cNvSpPr/>
            <p:nvPr/>
          </p:nvSpPr>
          <p:spPr>
            <a:xfrm>
              <a:off x="114300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0481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20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505320" y="2057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9625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05320" y="28958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373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62520" y="289584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2743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1828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24440" y="3505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840" y="259092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147" name=""/>
            <p:cNvSpPr/>
            <p:nvPr/>
          </p:nvSpPr>
          <p:spPr>
            <a:xfrm>
              <a:off x="106668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9718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800" y="4800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3429000" y="48006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5334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alidad será algo entre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mpl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7180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52680" y="403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4038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36576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0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1911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iera comprado 4 en los dos meses de la marca A sin promoción, pero compró los 8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266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pasa si yo (A) no promociono y la B si lo h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80060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373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095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venta cae en el equivalente a dos meses y no uno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209680"/>
            <a:ext cx="8077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3657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die gana. Poca pro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4952880"/>
            <a:ext cx="121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a Uno Promociona hacia su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a no líder con claros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os tienen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as consider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251460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o análisis es simp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forma habitual de segmentar a los consumidor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as Promociones pueden ser úitles paradiscriminar a los más sensibles de los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0574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upones son una forma de discriminar entre sen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enos sen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no basadas en pre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28195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terías y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23623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de F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 foco    significa   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as en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muy efectiva en la Introducción de produc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5909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s para selección de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 tener valor para el públic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23623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rta cantidad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importante en categorías donde hay mucha elasticidad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efectiv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Consumo y alta Rotación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n el prec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880" y="3048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 Directas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 (Trade Promo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del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irectas a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igidas a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91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romociones del R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 EDLP, siempre hay Promociones. En al menos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i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22:50Z</dcterms:created>
  <dc:creator>.</dc:creator>
  <dc:description/>
  <dc:language>en-US</dc:language>
  <cp:lastModifiedBy>Administrador</cp:lastModifiedBy>
  <dcterms:modified xsi:type="dcterms:W3CDTF">2004-06-23T22:09:39Z</dcterms:modified>
  <cp:revision>32</cp:revision>
  <dc:subject/>
  <dc:title>Objetivo</dc:title>
</cp:coreProperties>
</file>