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5A0E-56CD-422A-9AB9-974D3C60C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2A0E-D422-497A-BC58-E5E4C7C73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29B0-6FE5-48E5-9453-4C96B2AA5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C21F-0DCE-471D-A004-600AB35BB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16F3-8FE1-46B4-8F67-A04DDFD4F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DA9D-AF55-4A72-92FF-986EAC8C7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AA49-5F9B-4CB0-B5EE-CFA077582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668B-B140-43D0-A714-1ACA10306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8D0B-6669-4B43-BACE-7D396DDFB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722B-DD37-40EB-AF92-7C837AE11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A969-4951-4650-9B99-3FE665D53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6505-0FB1-43E9-82B7-18CA80090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63D39-9AF1-4F69-A610-245EE86170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oría de Promoc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stos Indirec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23960" y="2606760"/>
            <a:ext cx="76960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. La mayoría son de precio (reducciones), sin embargo se sabe que ellas generan consumidores más elástic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3. Muchas veces desfocalizan la construcción de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Porqué existe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14400" y="320040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Hi-Lo es una forma de mitigar la competencia por prec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áli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14400" y="2209680"/>
            <a:ext cx="7467480" cy="36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ongamos que los mercados se segmentan 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LES a la marca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LES a la Marca B (y otr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TCHERS  (50% eligen A y 50% eligen 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ta: esta segmentación es una simplificación para ejemplific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Objetivo: los Switch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38080" y="2209680"/>
            <a:ext cx="792504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os Switchers son el objetivo y la causa de la´mayoría de las promociones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sto es lo que llamamos Demanda Secunda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14400" y="2209680"/>
            <a:ext cx="792468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upondremos dos marcas A y B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 50% son leales a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 20% son leales a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 30% son switc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demás supondremos que hay una voluntad a pagar de $5 por cada consumido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jemplo....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828800" y="259092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962520" y="263520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943600" y="259092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3048120"/>
            <a:ext cx="670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62120" y="4191120"/>
            <a:ext cx="670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14400" y="5334120"/>
            <a:ext cx="670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362320" y="23623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72000" y="23623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38080" y="3200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143000" y="4343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981080" y="342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,25    1,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343400" y="3429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,2     1,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81080" y="4648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,5       2,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343400" y="4648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,4      1,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828800" y="175248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ARCA  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3124080"/>
            <a:ext cx="762120" cy="27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133720" y="303228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65%   3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303228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80%   2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133720" y="426708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50%  5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191120" y="426708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65%  3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lus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14400" y="2286000"/>
            <a:ext cx="769608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i los productores se pusieran de acuerdo, no habria promo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os productores no líderes son los que desencadenan las promo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¿Es posible una estrategia EDLP sin ser el líder indiscuti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s Efecto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" y="2209680"/>
            <a:ext cx="777240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s efectos de las Promociones en los consumidores pueden ser  (caso productos compra frecuente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elantar Comp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mentar Consu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mbiarse de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álisis de los Le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09480" y="2514600"/>
            <a:ext cx="8001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s casos extrem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O 1 Los clientes sólo adelantan compra pero no aumentan consumo.  Supongamos compra 1 vez al mes 4 un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380880" y="4267080"/>
            <a:ext cx="8229600" cy="2136240"/>
            <a:chOff x="380880" y="4267080"/>
            <a:chExt cx="8229600" cy="2136240"/>
          </a:xfrm>
        </p:grpSpPr>
        <p:sp>
          <p:nvSpPr>
            <p:cNvPr id="109" name=""/>
            <p:cNvSpPr/>
            <p:nvPr/>
          </p:nvSpPr>
          <p:spPr>
            <a:xfrm>
              <a:off x="1066680" y="5334120"/>
              <a:ext cx="190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V="1">
              <a:off x="2971800" y="4495320"/>
              <a:ext cx="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971800" y="4495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V="1">
              <a:off x="3429000" y="4495320"/>
              <a:ext cx="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3886200" y="533412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3429000" y="533412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429000" y="61722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886200" y="5334120"/>
              <a:ext cx="190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80880" y="51814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286000" y="426708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048120" y="594360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248520" y="5029200"/>
              <a:ext cx="2361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Linea Base de Compr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álisis de los Le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09480" y="2514600"/>
            <a:ext cx="8001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O 2 Los clientes no adelantan compra pero  aumentan consumo.  Supongamos compra 1 vez al mes 4 un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380880" y="4648320"/>
            <a:ext cx="8229600" cy="1206360"/>
            <a:chOff x="380880" y="4648320"/>
            <a:chExt cx="8229600" cy="1206360"/>
          </a:xfrm>
        </p:grpSpPr>
        <p:sp>
          <p:nvSpPr>
            <p:cNvPr id="124" name=""/>
            <p:cNvSpPr/>
            <p:nvPr/>
          </p:nvSpPr>
          <p:spPr>
            <a:xfrm>
              <a:off x="1066680" y="5334120"/>
              <a:ext cx="190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2971800" y="48006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971800" y="4800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3429000" y="48006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429000" y="5334120"/>
              <a:ext cx="190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80880" y="51814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362320" y="46483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48520" y="5029200"/>
              <a:ext cx="2361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Linea Base de Compr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tiv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90720" y="2590920"/>
            <a:ext cx="746748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de 2 Objetiv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tenciar y Acelerar el desarrollo de una Nueva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ender, Fortalecer y Expandir una Marca Exist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álisis de los Le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457200" y="1828800"/>
            <a:ext cx="8229600" cy="2136240"/>
            <a:chOff x="457200" y="1828800"/>
            <a:chExt cx="8229600" cy="2136240"/>
          </a:xfrm>
        </p:grpSpPr>
        <p:sp>
          <p:nvSpPr>
            <p:cNvPr id="134" name=""/>
            <p:cNvSpPr/>
            <p:nvPr/>
          </p:nvSpPr>
          <p:spPr>
            <a:xfrm>
              <a:off x="1143000" y="2895840"/>
              <a:ext cx="190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3048120" y="2057040"/>
              <a:ext cx="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048120" y="20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V="1">
              <a:off x="3505320" y="2057040"/>
              <a:ext cx="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3962520" y="289584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V="1">
              <a:off x="3505320" y="289584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505320" y="373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962520" y="2895840"/>
              <a:ext cx="190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57200" y="27432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362320" y="182880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124440" y="35053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324840" y="2590920"/>
              <a:ext cx="2361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Linea Base de Compr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380880" y="4648320"/>
            <a:ext cx="8229600" cy="1206360"/>
            <a:chOff x="380880" y="4648320"/>
            <a:chExt cx="8229600" cy="1206360"/>
          </a:xfrm>
        </p:grpSpPr>
        <p:sp>
          <p:nvSpPr>
            <p:cNvPr id="147" name=""/>
            <p:cNvSpPr/>
            <p:nvPr/>
          </p:nvSpPr>
          <p:spPr>
            <a:xfrm>
              <a:off x="1066680" y="5334120"/>
              <a:ext cx="190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2971800" y="48006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971800" y="4800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V="1">
              <a:off x="3429000" y="48006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429000" y="5334120"/>
              <a:ext cx="190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80880" y="51814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362320" y="46483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248520" y="5029200"/>
              <a:ext cx="2361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Linea Base de Compr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228600" y="609588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realidad será algo entremedio de estos ca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3429000"/>
            <a:ext cx="7010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98800" y="1843200"/>
            <a:ext cx="5635440" cy="2608200"/>
          </a:xfrm>
          <a:custGeom>
            <a:avLst/>
            <a:gdLst/>
            <a:ahLst/>
            <a:rect l="l" t="t" r="r" b="b"/>
            <a:pathLst>
              <a:path w="3550" h="1643">
                <a:moveTo>
                  <a:pt x="0" y="1011"/>
                </a:moveTo>
                <a:cubicBezTo>
                  <a:pt x="67" y="966"/>
                  <a:pt x="84" y="969"/>
                  <a:pt x="160" y="945"/>
                </a:cubicBezTo>
                <a:cubicBezTo>
                  <a:pt x="168" y="930"/>
                  <a:pt x="184" y="893"/>
                  <a:pt x="198" y="879"/>
                </a:cubicBezTo>
                <a:cubicBezTo>
                  <a:pt x="227" y="851"/>
                  <a:pt x="266" y="835"/>
                  <a:pt x="293" y="803"/>
                </a:cubicBezTo>
                <a:cubicBezTo>
                  <a:pt x="300" y="794"/>
                  <a:pt x="306" y="785"/>
                  <a:pt x="312" y="775"/>
                </a:cubicBezTo>
                <a:cubicBezTo>
                  <a:pt x="319" y="763"/>
                  <a:pt x="321" y="748"/>
                  <a:pt x="330" y="737"/>
                </a:cubicBezTo>
                <a:cubicBezTo>
                  <a:pt x="337" y="728"/>
                  <a:pt x="384" y="698"/>
                  <a:pt x="397" y="690"/>
                </a:cubicBezTo>
                <a:cubicBezTo>
                  <a:pt x="424" y="649"/>
                  <a:pt x="451" y="598"/>
                  <a:pt x="491" y="567"/>
                </a:cubicBezTo>
                <a:cubicBezTo>
                  <a:pt x="509" y="553"/>
                  <a:pt x="548" y="529"/>
                  <a:pt x="548" y="529"/>
                </a:cubicBezTo>
                <a:cubicBezTo>
                  <a:pt x="575" y="489"/>
                  <a:pt x="616" y="466"/>
                  <a:pt x="652" y="435"/>
                </a:cubicBezTo>
                <a:cubicBezTo>
                  <a:pt x="709" y="386"/>
                  <a:pt x="665" y="405"/>
                  <a:pt x="718" y="388"/>
                </a:cubicBezTo>
                <a:cubicBezTo>
                  <a:pt x="721" y="378"/>
                  <a:pt x="726" y="369"/>
                  <a:pt x="727" y="359"/>
                </a:cubicBezTo>
                <a:cubicBezTo>
                  <a:pt x="732" y="322"/>
                  <a:pt x="726" y="282"/>
                  <a:pt x="736" y="246"/>
                </a:cubicBezTo>
                <a:cubicBezTo>
                  <a:pt x="754" y="181"/>
                  <a:pt x="768" y="201"/>
                  <a:pt x="803" y="170"/>
                </a:cubicBezTo>
                <a:cubicBezTo>
                  <a:pt x="835" y="142"/>
                  <a:pt x="867" y="115"/>
                  <a:pt x="897" y="85"/>
                </a:cubicBezTo>
                <a:cubicBezTo>
                  <a:pt x="930" y="52"/>
                  <a:pt x="900" y="58"/>
                  <a:pt x="944" y="29"/>
                </a:cubicBezTo>
                <a:cubicBezTo>
                  <a:pt x="953" y="23"/>
                  <a:pt x="964" y="24"/>
                  <a:pt x="973" y="19"/>
                </a:cubicBezTo>
                <a:cubicBezTo>
                  <a:pt x="983" y="14"/>
                  <a:pt x="992" y="6"/>
                  <a:pt x="1001" y="0"/>
                </a:cubicBezTo>
                <a:cubicBezTo>
                  <a:pt x="1076" y="9"/>
                  <a:pt x="1093" y="13"/>
                  <a:pt x="1152" y="48"/>
                </a:cubicBezTo>
                <a:cubicBezTo>
                  <a:pt x="1172" y="60"/>
                  <a:pt x="1209" y="85"/>
                  <a:pt x="1209" y="85"/>
                </a:cubicBezTo>
                <a:cubicBezTo>
                  <a:pt x="1227" y="113"/>
                  <a:pt x="1237" y="151"/>
                  <a:pt x="1265" y="170"/>
                </a:cubicBezTo>
                <a:cubicBezTo>
                  <a:pt x="1306" y="197"/>
                  <a:pt x="1338" y="230"/>
                  <a:pt x="1379" y="255"/>
                </a:cubicBezTo>
                <a:cubicBezTo>
                  <a:pt x="1385" y="265"/>
                  <a:pt x="1388" y="277"/>
                  <a:pt x="1397" y="284"/>
                </a:cubicBezTo>
                <a:cubicBezTo>
                  <a:pt x="1405" y="290"/>
                  <a:pt x="1419" y="286"/>
                  <a:pt x="1426" y="293"/>
                </a:cubicBezTo>
                <a:cubicBezTo>
                  <a:pt x="1433" y="300"/>
                  <a:pt x="1431" y="312"/>
                  <a:pt x="1435" y="321"/>
                </a:cubicBezTo>
                <a:cubicBezTo>
                  <a:pt x="1448" y="348"/>
                  <a:pt x="1461" y="357"/>
                  <a:pt x="1482" y="378"/>
                </a:cubicBezTo>
                <a:cubicBezTo>
                  <a:pt x="1499" y="425"/>
                  <a:pt x="1521" y="469"/>
                  <a:pt x="1549" y="510"/>
                </a:cubicBezTo>
                <a:cubicBezTo>
                  <a:pt x="1563" y="555"/>
                  <a:pt x="1600" y="574"/>
                  <a:pt x="1624" y="614"/>
                </a:cubicBezTo>
                <a:cubicBezTo>
                  <a:pt x="1674" y="698"/>
                  <a:pt x="1627" y="647"/>
                  <a:pt x="1681" y="699"/>
                </a:cubicBezTo>
                <a:cubicBezTo>
                  <a:pt x="1705" y="777"/>
                  <a:pt x="1765" y="826"/>
                  <a:pt x="1813" y="888"/>
                </a:cubicBezTo>
                <a:cubicBezTo>
                  <a:pt x="1868" y="959"/>
                  <a:pt x="1812" y="916"/>
                  <a:pt x="1870" y="954"/>
                </a:cubicBezTo>
                <a:cubicBezTo>
                  <a:pt x="1876" y="963"/>
                  <a:pt x="1883" y="972"/>
                  <a:pt x="1888" y="982"/>
                </a:cubicBezTo>
                <a:cubicBezTo>
                  <a:pt x="1893" y="991"/>
                  <a:pt x="1893" y="1002"/>
                  <a:pt x="1898" y="1011"/>
                </a:cubicBezTo>
                <a:cubicBezTo>
                  <a:pt x="1924" y="1053"/>
                  <a:pt x="1942" y="1060"/>
                  <a:pt x="1973" y="1096"/>
                </a:cubicBezTo>
                <a:cubicBezTo>
                  <a:pt x="2027" y="1158"/>
                  <a:pt x="2063" y="1211"/>
                  <a:pt x="2125" y="1266"/>
                </a:cubicBezTo>
                <a:cubicBezTo>
                  <a:pt x="2181" y="1316"/>
                  <a:pt x="2222" y="1374"/>
                  <a:pt x="2285" y="1417"/>
                </a:cubicBezTo>
                <a:cubicBezTo>
                  <a:pt x="2339" y="1492"/>
                  <a:pt x="2309" y="1468"/>
                  <a:pt x="2361" y="1502"/>
                </a:cubicBezTo>
                <a:cubicBezTo>
                  <a:pt x="2410" y="1568"/>
                  <a:pt x="2469" y="1586"/>
                  <a:pt x="2549" y="1596"/>
                </a:cubicBezTo>
                <a:cubicBezTo>
                  <a:pt x="2591" y="1610"/>
                  <a:pt x="2626" y="1620"/>
                  <a:pt x="2663" y="1643"/>
                </a:cubicBezTo>
                <a:cubicBezTo>
                  <a:pt x="2715" y="1636"/>
                  <a:pt x="2752" y="1635"/>
                  <a:pt x="2795" y="1606"/>
                </a:cubicBezTo>
                <a:cubicBezTo>
                  <a:pt x="2832" y="1550"/>
                  <a:pt x="2957" y="1484"/>
                  <a:pt x="3022" y="1464"/>
                </a:cubicBezTo>
                <a:cubicBezTo>
                  <a:pt x="3046" y="1426"/>
                  <a:pt x="3062" y="1381"/>
                  <a:pt x="3097" y="1351"/>
                </a:cubicBezTo>
                <a:cubicBezTo>
                  <a:pt x="3114" y="1336"/>
                  <a:pt x="3154" y="1313"/>
                  <a:pt x="3154" y="1313"/>
                </a:cubicBezTo>
                <a:cubicBezTo>
                  <a:pt x="3187" y="1267"/>
                  <a:pt x="3204" y="1230"/>
                  <a:pt x="3248" y="1200"/>
                </a:cubicBezTo>
                <a:cubicBezTo>
                  <a:pt x="3254" y="1190"/>
                  <a:pt x="3258" y="1178"/>
                  <a:pt x="3267" y="1171"/>
                </a:cubicBezTo>
                <a:cubicBezTo>
                  <a:pt x="3275" y="1165"/>
                  <a:pt x="3288" y="1169"/>
                  <a:pt x="3295" y="1162"/>
                </a:cubicBezTo>
                <a:cubicBezTo>
                  <a:pt x="3311" y="1146"/>
                  <a:pt x="3320" y="1124"/>
                  <a:pt x="3333" y="1105"/>
                </a:cubicBezTo>
                <a:cubicBezTo>
                  <a:pt x="3339" y="1096"/>
                  <a:pt x="3341" y="1081"/>
                  <a:pt x="3352" y="1077"/>
                </a:cubicBezTo>
                <a:cubicBezTo>
                  <a:pt x="3446" y="1043"/>
                  <a:pt x="3443" y="1001"/>
                  <a:pt x="3550" y="100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124080" y="28195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rea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486400" y="3657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rea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8080" y="4648320"/>
            <a:ext cx="66294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 área 1 será un poco mayor que el área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uánto, dependerá de las características del produc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ervilletas de papel   Coca Cola     Sahne Nu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Ejemplo: los switch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523880" y="1744560"/>
            <a:ext cx="701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% compra marca A, 50% compra marca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33520" y="251460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o 1. Sin Promoción. Compra 4 al mes, la Línea base es 2 (para A). Sin Inventar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4343400"/>
            <a:ext cx="259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2971800" y="4038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971800" y="4038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3352680" y="4038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971800" y="4343400"/>
            <a:ext cx="259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095880" y="403848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inea base e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362320" y="38098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14400" y="403848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334120" y="365760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u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jemplo...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85800" y="419112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3200400" y="34286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200400" y="34290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733920" y="34290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4724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4191120" y="419076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191120" y="4191120"/>
            <a:ext cx="2819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40384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590920" y="29718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62120" y="3886200"/>
            <a:ext cx="59436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876920" y="464832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mental  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133720" y="5334120"/>
            <a:ext cx="571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ubiera comprado 4 en los dos meses de la marca A sin promoción, pero compró los 8 durante la promo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jemplo...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90720" y="1752480"/>
            <a:ext cx="716256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 incremental está determinado p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*El límite de compra (¿es inventariable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* Por la distribución de los switc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(son 50-50, u otra proporción). Nuevamente el más beneficiado es el con menor particip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odo esto suponiendo que no hay aumento de consum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jemplo..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33520" y="266688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¿qué pasa si yo (A) no promociono y la B si lo ha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38080" y="44197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200400" y="44197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200400" y="51055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4800600" y="44193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00600" y="441972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038480" y="373392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590920" y="53341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114800" y="53341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" y="609588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 venta cae en el equivalente a dos meses y no uno.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lus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09480" y="2209680"/>
            <a:ext cx="807732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i la venta está compuesta fundamentalmente por leales lo que interesa saber es si el mayor stock aumenta o no el consum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i la venta de la categoría es fuerte debido a los switchers, el de menor participación tiene incentivos claros para promocion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752480" y="259092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52680" y="266688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410080" y="266688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38080" y="3429000"/>
            <a:ext cx="5105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990720" y="4724280"/>
            <a:ext cx="510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38862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0 +C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" y="48006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+C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133720" y="2666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886200" y="2819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905120" y="3657600"/>
            <a:ext cx="1218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Nadie gana. Poca prom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905120" y="4952880"/>
            <a:ext cx="12189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da Uno Promociona hacia sus clien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657600" y="373392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rca no líder con claros Incentiv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505320" y="5029200"/>
            <a:ext cx="175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dos tienen Incentiv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ras consideracion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09480" y="2438280"/>
            <a:ext cx="8001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os estudios demuestran que el grueso del efecto de las Promociones es en la Demanda secundaria. (brand switching) y mucho menos en la primaria (stock, aumento de consumo, cambio de categorí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" y="4952880"/>
            <a:ext cx="7238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Gupta (1988)        84%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6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Bell et al (1999)    75%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o...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33520" y="2514600"/>
            <a:ext cx="761976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uestro análisis es simpli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na forma habitual de segmentar a los consumidores 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ENSIBILIDAD AL PRE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lgunas Promociones pueden ser úitles paradiscriminar a los más sensibles de los men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7924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 la componente de Marketing Mix que usa MATERIALES Y TECNICAS diseñadas para acelerar las funciones de VENTA y COMPRA a lo largo de la Cadena, con los dos objetivos anteri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UP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85800" y="2057400"/>
            <a:ext cx="7238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s cupones son una forma de discriminar entre sensi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menos sensi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mociones no basadas en prec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2819520"/>
            <a:ext cx="77724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uest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rem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Bonus p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oterías y Concur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upones de Descu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es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2362320"/>
            <a:ext cx="83059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a de Fo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l foco    significa   Alto Co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estras en la Tien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rategia muy efectiva en la Introducción de productos nue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m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295280" y="2590920"/>
            <a:ext cx="6553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iterios para selección de Prem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be tener valor para el público obje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Bonus pac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85800" y="2362320"/>
            <a:ext cx="830592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erta cantidad Grat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y importante en categorías donde hay mucha elasticidad pre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y efectiva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mento de Consumo y alta Rotación de Invent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ioran el preci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fecto de la Frecuenc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85800" y="2438280"/>
            <a:ext cx="762012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i la frecuencia es baja , los consumidores tienden a acumular stock. (Krishna 1994), per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i la frecuencia es alta, aumenta la notoriedad del pre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i la frecuencia es alta parte importante de las ventas tenderá a realizarse en períodos de promociones. (Mela, gupta  y Lehmann199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pos de Promoc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028880" y="3048120"/>
            <a:ext cx="70866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romociones  Directas al Consumi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romociones al Canal (Trade Promotio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romociones del Reta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mociones Directas al Consumid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2209680"/>
            <a:ext cx="792468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Basadas en el Produ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Generar Conciencia (Prueba Grati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Generar Volumen (Compre 2, lleve 1 grati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Basadas en el Pre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ebajas en el pre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upones de Descu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remios, Concur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Basadas en el lugar o el Merchandising (Displa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rigidas al Ca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14400" y="2209680"/>
            <a:ext cx="73915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os grat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ducciones de Pre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 Ub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idad Compartida (Catálog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adas en el Nivel de Ventas (Bonos e incentiv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Promociones del Retai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143000" y="2362320"/>
            <a:ext cx="67816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scuentos del ret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ispl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atálog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up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rogramas de Lealt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ndenci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62120" y="2133720"/>
            <a:ext cx="739116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romociones más de un 20% mayor que gasto en publicidad . Tendencia crec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romociones al Canal. Tendencia crec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Incluso en Retailers EDLP, siempre hay Promociones. En al menos algunas categorí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stos Indirec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33520" y="1905120"/>
            <a:ext cx="80769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s promociones tienen costos indirectos que pueden ser gran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 Pro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38080" y="373392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38080" y="571500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39880" y="4430880"/>
            <a:ext cx="2982960" cy="215640"/>
          </a:xfrm>
          <a:custGeom>
            <a:avLst/>
            <a:gdLst/>
            <a:ahLst/>
            <a:rect l="l" t="t" r="r" b="b"/>
            <a:pathLst>
              <a:path w="1879" h="136">
                <a:moveTo>
                  <a:pt x="0" y="136"/>
                </a:moveTo>
                <a:cubicBezTo>
                  <a:pt x="60" y="117"/>
                  <a:pt x="103" y="114"/>
                  <a:pt x="170" y="108"/>
                </a:cubicBezTo>
                <a:cubicBezTo>
                  <a:pt x="204" y="85"/>
                  <a:pt x="215" y="77"/>
                  <a:pt x="255" y="89"/>
                </a:cubicBezTo>
                <a:cubicBezTo>
                  <a:pt x="309" y="126"/>
                  <a:pt x="344" y="111"/>
                  <a:pt x="406" y="98"/>
                </a:cubicBezTo>
                <a:cubicBezTo>
                  <a:pt x="476" y="123"/>
                  <a:pt x="552" y="106"/>
                  <a:pt x="623" y="89"/>
                </a:cubicBezTo>
                <a:cubicBezTo>
                  <a:pt x="632" y="83"/>
                  <a:pt x="641" y="64"/>
                  <a:pt x="651" y="70"/>
                </a:cubicBezTo>
                <a:cubicBezTo>
                  <a:pt x="671" y="81"/>
                  <a:pt x="689" y="127"/>
                  <a:pt x="689" y="127"/>
                </a:cubicBezTo>
                <a:cubicBezTo>
                  <a:pt x="739" y="93"/>
                  <a:pt x="802" y="90"/>
                  <a:pt x="859" y="70"/>
                </a:cubicBezTo>
                <a:cubicBezTo>
                  <a:pt x="899" y="84"/>
                  <a:pt x="932" y="74"/>
                  <a:pt x="972" y="61"/>
                </a:cubicBezTo>
                <a:cubicBezTo>
                  <a:pt x="1038" y="64"/>
                  <a:pt x="1106" y="59"/>
                  <a:pt x="1171" y="70"/>
                </a:cubicBezTo>
                <a:cubicBezTo>
                  <a:pt x="1261" y="85"/>
                  <a:pt x="1123" y="120"/>
                  <a:pt x="1218" y="89"/>
                </a:cubicBezTo>
                <a:cubicBezTo>
                  <a:pt x="1283" y="104"/>
                  <a:pt x="1341" y="110"/>
                  <a:pt x="1407" y="98"/>
                </a:cubicBezTo>
                <a:cubicBezTo>
                  <a:pt x="1503" y="35"/>
                  <a:pt x="1441" y="63"/>
                  <a:pt x="1605" y="51"/>
                </a:cubicBezTo>
                <a:cubicBezTo>
                  <a:pt x="1680" y="0"/>
                  <a:pt x="1701" y="66"/>
                  <a:pt x="1766" y="70"/>
                </a:cubicBezTo>
                <a:cubicBezTo>
                  <a:pt x="1804" y="72"/>
                  <a:pt x="1841" y="70"/>
                  <a:pt x="1879" y="7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952880" y="373392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952880" y="571500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946760" y="3747960"/>
            <a:ext cx="3913200" cy="1438560"/>
          </a:xfrm>
          <a:custGeom>
            <a:avLst/>
            <a:gdLst/>
            <a:ahLst/>
            <a:rect l="l" t="t" r="r" b="b"/>
            <a:pathLst>
              <a:path w="2465" h="906">
                <a:moveTo>
                  <a:pt x="0" y="604"/>
                </a:moveTo>
                <a:cubicBezTo>
                  <a:pt x="149" y="569"/>
                  <a:pt x="307" y="618"/>
                  <a:pt x="453" y="566"/>
                </a:cubicBezTo>
                <a:cubicBezTo>
                  <a:pt x="466" y="569"/>
                  <a:pt x="478" y="577"/>
                  <a:pt x="491" y="576"/>
                </a:cubicBezTo>
                <a:cubicBezTo>
                  <a:pt x="514" y="574"/>
                  <a:pt x="540" y="572"/>
                  <a:pt x="557" y="557"/>
                </a:cubicBezTo>
                <a:cubicBezTo>
                  <a:pt x="560" y="555"/>
                  <a:pt x="572" y="479"/>
                  <a:pt x="576" y="472"/>
                </a:cubicBezTo>
                <a:cubicBezTo>
                  <a:pt x="582" y="463"/>
                  <a:pt x="595" y="459"/>
                  <a:pt x="604" y="453"/>
                </a:cubicBezTo>
                <a:cubicBezTo>
                  <a:pt x="625" y="422"/>
                  <a:pt x="653" y="411"/>
                  <a:pt x="670" y="377"/>
                </a:cubicBezTo>
                <a:cubicBezTo>
                  <a:pt x="695" y="327"/>
                  <a:pt x="696" y="270"/>
                  <a:pt x="708" y="217"/>
                </a:cubicBezTo>
                <a:cubicBezTo>
                  <a:pt x="721" y="159"/>
                  <a:pt x="741" y="116"/>
                  <a:pt x="774" y="66"/>
                </a:cubicBezTo>
                <a:cubicBezTo>
                  <a:pt x="780" y="56"/>
                  <a:pt x="789" y="48"/>
                  <a:pt x="793" y="37"/>
                </a:cubicBezTo>
                <a:cubicBezTo>
                  <a:pt x="796" y="28"/>
                  <a:pt x="794" y="14"/>
                  <a:pt x="803" y="9"/>
                </a:cubicBezTo>
                <a:cubicBezTo>
                  <a:pt x="819" y="0"/>
                  <a:pt x="840" y="3"/>
                  <a:pt x="859" y="0"/>
                </a:cubicBezTo>
                <a:cubicBezTo>
                  <a:pt x="905" y="14"/>
                  <a:pt x="920" y="52"/>
                  <a:pt x="935" y="94"/>
                </a:cubicBezTo>
                <a:cubicBezTo>
                  <a:pt x="920" y="153"/>
                  <a:pt x="920" y="113"/>
                  <a:pt x="944" y="160"/>
                </a:cubicBezTo>
                <a:cubicBezTo>
                  <a:pt x="949" y="169"/>
                  <a:pt x="949" y="180"/>
                  <a:pt x="954" y="189"/>
                </a:cubicBezTo>
                <a:cubicBezTo>
                  <a:pt x="965" y="209"/>
                  <a:pt x="992" y="245"/>
                  <a:pt x="992" y="245"/>
                </a:cubicBezTo>
                <a:cubicBezTo>
                  <a:pt x="1005" y="285"/>
                  <a:pt x="1025" y="297"/>
                  <a:pt x="1048" y="330"/>
                </a:cubicBezTo>
                <a:cubicBezTo>
                  <a:pt x="1063" y="351"/>
                  <a:pt x="1072" y="375"/>
                  <a:pt x="1086" y="396"/>
                </a:cubicBezTo>
                <a:cubicBezTo>
                  <a:pt x="1106" y="461"/>
                  <a:pt x="1077" y="391"/>
                  <a:pt x="1124" y="443"/>
                </a:cubicBezTo>
                <a:cubicBezTo>
                  <a:pt x="1147" y="468"/>
                  <a:pt x="1156" y="504"/>
                  <a:pt x="1180" y="528"/>
                </a:cubicBezTo>
                <a:cubicBezTo>
                  <a:pt x="1211" y="559"/>
                  <a:pt x="1247" y="607"/>
                  <a:pt x="1284" y="632"/>
                </a:cubicBezTo>
                <a:cubicBezTo>
                  <a:pt x="1287" y="645"/>
                  <a:pt x="1288" y="658"/>
                  <a:pt x="1294" y="670"/>
                </a:cubicBezTo>
                <a:cubicBezTo>
                  <a:pt x="1329" y="741"/>
                  <a:pt x="1357" y="740"/>
                  <a:pt x="1426" y="765"/>
                </a:cubicBezTo>
                <a:cubicBezTo>
                  <a:pt x="1437" y="810"/>
                  <a:pt x="1428" y="825"/>
                  <a:pt x="1473" y="840"/>
                </a:cubicBezTo>
                <a:cubicBezTo>
                  <a:pt x="1534" y="881"/>
                  <a:pt x="1570" y="894"/>
                  <a:pt x="1643" y="906"/>
                </a:cubicBezTo>
                <a:cubicBezTo>
                  <a:pt x="1703" y="900"/>
                  <a:pt x="1765" y="904"/>
                  <a:pt x="1822" y="887"/>
                </a:cubicBezTo>
                <a:cubicBezTo>
                  <a:pt x="1835" y="883"/>
                  <a:pt x="1825" y="860"/>
                  <a:pt x="1832" y="849"/>
                </a:cubicBezTo>
                <a:cubicBezTo>
                  <a:pt x="1839" y="838"/>
                  <a:pt x="1850" y="829"/>
                  <a:pt x="1860" y="821"/>
                </a:cubicBezTo>
                <a:cubicBezTo>
                  <a:pt x="1878" y="807"/>
                  <a:pt x="1917" y="783"/>
                  <a:pt x="1917" y="783"/>
                </a:cubicBezTo>
                <a:cubicBezTo>
                  <a:pt x="1968" y="708"/>
                  <a:pt x="1901" y="799"/>
                  <a:pt x="1964" y="736"/>
                </a:cubicBezTo>
                <a:cubicBezTo>
                  <a:pt x="1996" y="704"/>
                  <a:pt x="1992" y="695"/>
                  <a:pt x="2040" y="680"/>
                </a:cubicBezTo>
                <a:cubicBezTo>
                  <a:pt x="2055" y="631"/>
                  <a:pt x="2076" y="610"/>
                  <a:pt x="2125" y="595"/>
                </a:cubicBezTo>
                <a:cubicBezTo>
                  <a:pt x="2166" y="567"/>
                  <a:pt x="2177" y="515"/>
                  <a:pt x="2219" y="491"/>
                </a:cubicBezTo>
                <a:cubicBezTo>
                  <a:pt x="2270" y="462"/>
                  <a:pt x="2416" y="443"/>
                  <a:pt x="2465" y="44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8600" y="5867280"/>
            <a:ext cx="41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manda Ideal para una linea de pro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6019920"/>
            <a:ext cx="396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manda típica producto de una Promo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41360" y="396252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0" y="4114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733920" y="53341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543800" y="53341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4T17:22:50Z</dcterms:created>
  <dc:creator>.</dc:creator>
  <dc:description/>
  <dc:language>en-US</dc:language>
  <cp:lastModifiedBy>Administrador</cp:lastModifiedBy>
  <dcterms:modified xsi:type="dcterms:W3CDTF">2004-06-23T22:09:39Z</dcterms:modified>
  <cp:revision>32</cp:revision>
  <dc:subject/>
  <dc:title>Objetivo</dc:title>
</cp:coreProperties>
</file>