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         Estrategia de Retail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58840" y="3106800"/>
            <a:ext cx="681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ION DE RETAIL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685800"/>
            <a:ext cx="822960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RVICIOS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Retailers pueden ofrecer distintos NIVELES DE SERVICIO a su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rvicio que ofrece McDonald`s no es el mismo que ofrece Lomi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estacionamiento puede hacer gran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servicios pueden entregar un SERVICIO DIFERENCIADO a su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Aerolíneas, Banco Santiago, Fal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685800"/>
            <a:ext cx="82296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Retailers pueden ofrecer precios más baratos que su Competencia. Esto , en un mundo competitivo se puede debe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 Eficiencia en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o es cada vez más difícil pues estas capacidades son cop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más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 Variedad o Menor 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 es la diferencia entre Líder y 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ha definido una categoría com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s Lead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ecio vs. Experienc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s Fotos son de The Economist, Nov.20th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89" name="discounters" descr=""/>
          <p:cNvPicPr/>
          <p:nvPr/>
        </p:nvPicPr>
        <p:blipFill>
          <a:blip r:embed="rId1"/>
          <a:stretch/>
        </p:blipFill>
        <p:spPr>
          <a:xfrm>
            <a:off x="0" y="453960"/>
            <a:ext cx="89917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xperience" descr=""/>
          <p:cNvPicPr/>
          <p:nvPr/>
        </p:nvPicPr>
        <p:blipFill>
          <a:blip r:embed="rId1"/>
          <a:stretch/>
        </p:blipFill>
        <p:spPr>
          <a:xfrm>
            <a:off x="198108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92" name="edificio%20selfridge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dificio de la tienda de deptos. Selfridge´s in Birmigham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ecio vs. Surtid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200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iguiente es una clasificación típica de la industria de los super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19720" y="10666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7339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2514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51814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9907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0292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5238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828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per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5562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895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mercado Tra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95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85800"/>
            <a:ext cx="7543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adicional de los Grandes Retailers, según los mercados que atiend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s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nd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533520"/>
            <a:ext cx="784836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BRAND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ON A SEGMENTO E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 la MAR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CANCE se logra con la expans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l Franchising como herramienta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a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cDonald´s, Gucci, Benetton, Laura As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219320"/>
            <a:ext cx="6248520" cy="43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finición de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n Retailer es un Negocio que vende Productos y/o Servicios a consumidores para su uso personal o de su fam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empre que existe un Consumidor existe un 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93680"/>
            <a:ext cx="8305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MASS RET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ON A TODOS LOS 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CANCE se logra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erta Imagen de Precio (nunca 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ASS RETAILERS en el área de Supermercados están tratando de crear MAR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Podrán llegar a hacer Franchis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ifícil crear una MARCA SIGNIFICATIVA sin SEGMEN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Carrefour, Líder,  Home Depot, Falabella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397240" y="278280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VOLUCION DEL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AI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990720"/>
            <a:ext cx="6858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BRAND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Principalmente  para Productos de Presti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cci, pero no olvidar Mr.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Explosión del Brand Retailer. La Marca el principal Activo. Franchi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ne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Las TI permiten la Integración VERTICAL. ¿Fin del Franchi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         Estrategia de Retail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MASS RET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438280"/>
            <a:ext cx="350532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iend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(Dis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809880"/>
            <a:ext cx="350496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Orientación a l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10080"/>
            <a:ext cx="3505320" cy="8384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Orientación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286000"/>
            <a:ext cx="3048120" cy="9907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Preocup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con Operación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3733920"/>
            <a:ext cx="3048120" cy="990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Presió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Competencia de Pre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5334120"/>
            <a:ext cx="3048120" cy="990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Fide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76560" y="28195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952520" y="4267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9200" y="5867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iend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Dis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819520"/>
            <a:ext cx="63248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Grandes aumentaron enormemente la efic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veedores estaban felices. Vendían más a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ompetencia se daba entre las tiendas Grandes (Discounters) y las tiend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rientación a l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057400"/>
            <a:ext cx="63248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Grandes derrotaron totalmente a l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emanda por tiendas Grandes se satur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ieza la guerra entre e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uerra es por Precio, o IMAGEN DE PRECIO, fundament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endas presionan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rca Propia es un elemento de esta nueva Gu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762120"/>
            <a:ext cx="3505320" cy="8380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rientación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209680"/>
            <a:ext cx="6324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única forma de salirse de la Competencia por precios es FIDE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to elementos efectivos NO COPIABLES para fidelizar a mi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Juegan un Nuevo 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emos declinar la Administración por Categorías para pasar a la Administración de Clientes (o Neg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30360" y="2666880"/>
            <a:ext cx="8132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ENDO EL NEGOCI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L RETAIL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914400"/>
            <a:ext cx="6781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emos simplificar nuestro Gráfico de tres a dos dimensiones si hablam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CADOS y TECNOLOGÏ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457200"/>
            <a:ext cx="7543800" cy="47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RETAILING la Tecnología se l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ormato es el tipo de Local con que la empresa se va a instalar en una localización determi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n el caso de POUPARIÑA, la tienda de Flores con Arreglos prehech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30360" y="2666880"/>
            <a:ext cx="8132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ASIFICACION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RETAIL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38280" y="10666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181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olvidar que MERCADO es un conjunto de personas con una necesidad comú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838080"/>
            <a:ext cx="7162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efinición del Negocio en un Retailer consiste entonces en  defin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Mercado (s) vamos at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Formato vamos a us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67652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Brand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rcado= Segmentación de Estilos de Vida +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crosegmento +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609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094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ótese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1148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Mass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rcado= Fundamentalmente Loc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14240" y="3162240"/>
            <a:ext cx="771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¿ Qué es la ESTRATEGIA de un Retailer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9144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se compone de dos partes princip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trategia General o Definición del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   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trategia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onentes de la Estrateg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rategia Gen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crosegmento/Localización/For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rategia Comer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rgeting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Def. de  Mercado(s) Objetivo(s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219320"/>
            <a:ext cx="72388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finición de Formato incluye una dimensión cada vez más import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ructura de la Cadena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to no es sólo como se ve mi tienda, sino también de quién obtengo los productos, como los llevo a  disposición del comprador (la góndola o escaparate). Otra vez , piense en Z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1371600"/>
            <a:ext cx="60199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mbientación del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astecimiento (Logís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cios Comple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mociones al 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l de la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Instrumentos para la 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Localiz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menudo decisión más importante para un retail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supermercados: La ubicación es típicamente la variable más importante en la selección de tienda para el consumidor (ver ACNielse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se pueden clasificar , en forma bastante amplia, segú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733920"/>
            <a:ext cx="53337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685800" y="1992240"/>
          <a:ext cx="7543800" cy="44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92240"/>
                    <a:ext cx="75438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791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ACNiel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ervicio al cliente, el surtido, los precios pueden ajustarse en el corto/mediano plaz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ocalización de la tienda es mucho más difícil de modific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buena ubicación es una fuente de ventaja competitiva difícil de copiar.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para la selección de un sit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ntender posición de merc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udiar clientes de la competenc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tendenci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finir el segmento de clientes meta(demografía, comportamiento compra, psicografía).ficha p.1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tos INE (Censo), CASE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imar dda. Potencial y restar la exist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nalizar competencia: visibilidad, acceso, densidad poblacional,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ocalización de Tiend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s de Ubica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s y desventajas de cada uno de el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Área de Comerc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es críticos para la selección de un sit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Tipo de Ubica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ásicamente existen 3 tipos de ubicacion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Zonas comerciales (centr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Ubicaciones independien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211464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Área alrededor de la tienda en la cual se mueven el 75-80% de los clien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ntro de ella se identifican 3 zon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866960" y="4152960"/>
            <a:ext cx="5473800" cy="2489040"/>
          </a:xfrm>
          <a:custGeom>
            <a:avLst/>
            <a:gdLst/>
            <a:ahLst/>
            <a:rect l="l" t="t" r="r" b="b"/>
            <a:pathLst>
              <a:path w="3448" h="1568">
                <a:moveTo>
                  <a:pt x="1080" y="1560"/>
                </a:moveTo>
                <a:cubicBezTo>
                  <a:pt x="848" y="1568"/>
                  <a:pt x="528" y="1488"/>
                  <a:pt x="360" y="1368"/>
                </a:cubicBezTo>
                <a:cubicBezTo>
                  <a:pt x="192" y="1248"/>
                  <a:pt x="0" y="1000"/>
                  <a:pt x="72" y="840"/>
                </a:cubicBezTo>
                <a:cubicBezTo>
                  <a:pt x="144" y="680"/>
                  <a:pt x="640" y="544"/>
                  <a:pt x="792" y="408"/>
                </a:cubicBezTo>
                <a:cubicBezTo>
                  <a:pt x="944" y="272"/>
                  <a:pt x="760" y="48"/>
                  <a:pt x="984" y="24"/>
                </a:cubicBezTo>
                <a:cubicBezTo>
                  <a:pt x="1208" y="0"/>
                  <a:pt x="1776" y="240"/>
                  <a:pt x="2136" y="264"/>
                </a:cubicBezTo>
                <a:cubicBezTo>
                  <a:pt x="2496" y="288"/>
                  <a:pt x="2936" y="56"/>
                  <a:pt x="3144" y="168"/>
                </a:cubicBezTo>
                <a:cubicBezTo>
                  <a:pt x="3352" y="280"/>
                  <a:pt x="3448" y="752"/>
                  <a:pt x="3384" y="936"/>
                </a:cubicBezTo>
                <a:cubicBezTo>
                  <a:pt x="3320" y="1120"/>
                  <a:pt x="3032" y="1208"/>
                  <a:pt x="2760" y="1272"/>
                </a:cubicBezTo>
                <a:cubicBezTo>
                  <a:pt x="2488" y="1336"/>
                  <a:pt x="2024" y="1272"/>
                  <a:pt x="1752" y="1320"/>
                </a:cubicBezTo>
                <a:cubicBezTo>
                  <a:pt x="1480" y="1368"/>
                  <a:pt x="1312" y="1552"/>
                  <a:pt x="1080" y="156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52760" y="4572000"/>
            <a:ext cx="4228920" cy="1689120"/>
          </a:xfrm>
          <a:custGeom>
            <a:avLst/>
            <a:gdLst/>
            <a:ahLst/>
            <a:rect l="l" t="t" r="r" b="b"/>
            <a:pathLst>
              <a:path w="3448" h="1568">
                <a:moveTo>
                  <a:pt x="1080" y="1560"/>
                </a:moveTo>
                <a:cubicBezTo>
                  <a:pt x="848" y="1568"/>
                  <a:pt x="528" y="1488"/>
                  <a:pt x="360" y="1368"/>
                </a:cubicBezTo>
                <a:cubicBezTo>
                  <a:pt x="192" y="1248"/>
                  <a:pt x="0" y="1000"/>
                  <a:pt x="72" y="840"/>
                </a:cubicBezTo>
                <a:cubicBezTo>
                  <a:pt x="144" y="680"/>
                  <a:pt x="640" y="544"/>
                  <a:pt x="792" y="408"/>
                </a:cubicBezTo>
                <a:cubicBezTo>
                  <a:pt x="944" y="272"/>
                  <a:pt x="760" y="48"/>
                  <a:pt x="984" y="24"/>
                </a:cubicBezTo>
                <a:cubicBezTo>
                  <a:pt x="1208" y="0"/>
                  <a:pt x="1776" y="240"/>
                  <a:pt x="2136" y="264"/>
                </a:cubicBezTo>
                <a:cubicBezTo>
                  <a:pt x="2496" y="288"/>
                  <a:pt x="2936" y="56"/>
                  <a:pt x="3144" y="168"/>
                </a:cubicBezTo>
                <a:cubicBezTo>
                  <a:pt x="3352" y="280"/>
                  <a:pt x="3448" y="752"/>
                  <a:pt x="3384" y="936"/>
                </a:cubicBezTo>
                <a:cubicBezTo>
                  <a:pt x="3320" y="1120"/>
                  <a:pt x="3032" y="1208"/>
                  <a:pt x="2760" y="1272"/>
                </a:cubicBezTo>
                <a:cubicBezTo>
                  <a:pt x="2488" y="1336"/>
                  <a:pt x="2024" y="1272"/>
                  <a:pt x="1752" y="1320"/>
                </a:cubicBezTo>
                <a:cubicBezTo>
                  <a:pt x="1480" y="1368"/>
                  <a:pt x="1312" y="1552"/>
                  <a:pt x="1080" y="1560"/>
                </a:cubicBez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14880" y="4876920"/>
            <a:ext cx="2705040" cy="990360"/>
          </a:xfrm>
          <a:custGeom>
            <a:avLst/>
            <a:gdLst/>
            <a:ahLst/>
            <a:rect l="l" t="t" r="r" b="b"/>
            <a:pathLst>
              <a:path w="3448" h="1568">
                <a:moveTo>
                  <a:pt x="1080" y="1560"/>
                </a:moveTo>
                <a:cubicBezTo>
                  <a:pt x="848" y="1568"/>
                  <a:pt x="528" y="1488"/>
                  <a:pt x="360" y="1368"/>
                </a:cubicBezTo>
                <a:cubicBezTo>
                  <a:pt x="192" y="1248"/>
                  <a:pt x="0" y="1000"/>
                  <a:pt x="72" y="840"/>
                </a:cubicBezTo>
                <a:cubicBezTo>
                  <a:pt x="144" y="680"/>
                  <a:pt x="640" y="544"/>
                  <a:pt x="792" y="408"/>
                </a:cubicBezTo>
                <a:cubicBezTo>
                  <a:pt x="944" y="272"/>
                  <a:pt x="760" y="48"/>
                  <a:pt x="984" y="24"/>
                </a:cubicBezTo>
                <a:cubicBezTo>
                  <a:pt x="1208" y="0"/>
                  <a:pt x="1776" y="240"/>
                  <a:pt x="2136" y="264"/>
                </a:cubicBezTo>
                <a:cubicBezTo>
                  <a:pt x="2496" y="288"/>
                  <a:pt x="2936" y="56"/>
                  <a:pt x="3144" y="168"/>
                </a:cubicBezTo>
                <a:cubicBezTo>
                  <a:pt x="3352" y="280"/>
                  <a:pt x="3448" y="752"/>
                  <a:pt x="3384" y="936"/>
                </a:cubicBezTo>
                <a:cubicBezTo>
                  <a:pt x="3320" y="1120"/>
                  <a:pt x="3032" y="1208"/>
                  <a:pt x="2760" y="1272"/>
                </a:cubicBezTo>
                <a:cubicBezTo>
                  <a:pt x="2488" y="1336"/>
                  <a:pt x="2024" y="1272"/>
                  <a:pt x="1752" y="1320"/>
                </a:cubicBezTo>
                <a:cubicBezTo>
                  <a:pt x="1480" y="1368"/>
                  <a:pt x="1312" y="1552"/>
                  <a:pt x="1080" y="1560"/>
                </a:cubicBez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50% - 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5410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5486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5775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6156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erc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Área de Comercio según acces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2200" y="211464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imaria: 10 minutos o me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undaria: 15-20 minu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rciaria: 20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ncuesta en Economax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75% de los clientes viven a 10 o menos cuadr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65% de los clientes trabaja a 10 o menos cuadr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ímites están determinados p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Barreras físicas (autopista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Barreras naturales (ríos, cerros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 de tienda (Home Store vs. Alma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jor Zon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quella que generaría la mayor demanda y ventas del retaile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ay que evaluar 3 aspect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otencial de la zon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14300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er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9810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4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s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0492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65760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4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nd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Miscelá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81952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asolin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tas. D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657600"/>
            <a:ext cx="205740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acceso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4956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7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410080"/>
            <a:ext cx="2057400" cy="6098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8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aurant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es comer/b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8195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er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205740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till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2193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1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rma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6248520"/>
            <a:ext cx="2057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scel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44956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nor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n T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 Dir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6576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qui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V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81952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961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8" idx="3"/>
            <a:endCxn id="64" idx="0"/>
          </p:cNvCxnSpPr>
          <p:nvPr/>
        </p:nvCxnSpPr>
        <p:spPr>
          <a:xfrm>
            <a:off x="2895120" y="6552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 flipV="1">
            <a:off x="3124080" y="14475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867280" y="3048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5715000"/>
            <a:ext cx="4647960" cy="825480"/>
          </a:xfrm>
          <a:prstGeom prst="rect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050"/>
                </a:solidFill>
                <a:latin typeface="Times New Roman"/>
              </a:rPr>
              <a:t>CLASIFICACION SIC del Ret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380880"/>
            <a:ext cx="5257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asificación por Tipo de 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tos Demográfic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recimiento población, tamaño hogar, ed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ocioeconómic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ngreso, bie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ilos de vi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Actividades de negoci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mpleos en la zona, industrias en la zo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1600" y="990720"/>
            <a:ext cx="7162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: Datos 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876320"/>
          <a:ext cx="662940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76320"/>
                    <a:ext cx="66294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990720"/>
            <a:ext cx="7162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...Datos 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028880" y="1676520"/>
          <a:ext cx="7086600" cy="45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676520"/>
                    <a:ext cx="708660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7162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...Datos 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04840" y="1447920"/>
          <a:ext cx="693432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47920"/>
                    <a:ext cx="69343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...Área de Comerci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etencia: Tres tipos de zo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aturadas: consumidores tienen más donde elegir, competencia se puede seguir de cerc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obresaturadas: competencia está demasiado cerc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Baja saturación: ventajas y desventaj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Índice de Metros cuadrados destinados al comercio/NºHog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onentes de la Estrateg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calización/For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rgeting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Def. de  Mercado(s) Objetivo(s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¿qué es Formato?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05740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rmacias: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rugsto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rmacia con Góndo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ólo farma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taurants Comida Rápi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servicio Cafeterí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servicio en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tención en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f011e"/>
                </a:solidFill>
                <a:latin typeface="Comic Sans MS"/>
              </a:rPr>
              <a:t>Formatos de Supermercado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99880" y="2590920"/>
          <a:ext cx="8572680" cy="253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590920"/>
                    <a:ext cx="85726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38280" y="106668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5181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olvidar que MERCADO es un conjunto de personas con una necesidad comú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8080" y="685800"/>
            <a:ext cx="7391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estudio reciente en USA, de Fox, Motgomery y Lodish (abril,2000) en lo que es un primer estudio de hábitos de compra entre diferentes formatos, encontrar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bilidad del Gasto de las personas entre un tipo de tienda y otra, es mayoritariamente explicado por el TIPO de FORMA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0"/>
            <a:ext cx="6934320" cy="675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IN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Situación Difí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das de Especialidades y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CORPORAT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one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dencia a la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en Supermercad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rm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FRANQUI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 de Expandirse Rá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de la Marca co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orte Distin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en Restaurantes y Vest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57200"/>
            <a:ext cx="213372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LASIF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91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significa que la competencia entre formatos no es muy fuerte, la competencia es fuerte dentro de tiendas de un mismo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960" y="266688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realidad la demanda está determinada por la oferta de las tien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í, una tienda que dice ser la más barata, lleva a la gente que quiere comprar más barato, la que ofrece variedad, a la que quiere varieda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se llama efect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IEN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38280" y="4572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105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recimiento, especialmente cuando un negocio específico se pone muy competitivo nos lleva a buscar cambio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438280" y="4572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1219320"/>
            <a:ext cx="838080" cy="6094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4876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quiero crecer, pudo hacerlo hacia otro mercado (una tienda en otra locació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15238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438280" y="4572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11480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1295280"/>
            <a:ext cx="12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28800"/>
            <a:ext cx="838080" cy="83808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1828800"/>
            <a:ext cx="685800" cy="8380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50292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puedo cambiar o agregar otro form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pecialmente cierto cuando ya no quedan mercados interesantes sin explotar, y cuando la competencia es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23960" y="1752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medida que un FORMATO madura, los retailers necesitan innovar en Formato. Si no lo hace uno, lo hará el compet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520" y="3429000"/>
            <a:ext cx="7924680" cy="825480"/>
            <a:chOff x="533520" y="3429000"/>
            <a:chExt cx="7924680" cy="825480"/>
          </a:xfrm>
        </p:grpSpPr>
        <p:sp>
          <p:nvSpPr>
            <p:cNvPr id="241" name=""/>
            <p:cNvSpPr/>
            <p:nvPr/>
          </p:nvSpPr>
          <p:spPr>
            <a:xfrm>
              <a:off x="533520" y="3429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sta diná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3657600"/>
              <a:ext cx="1905120" cy="152280"/>
            </a:xfrm>
            <a:prstGeom prst="rightArrow">
              <a:avLst>
                <a:gd name="adj1" fmla="val 50000"/>
                <a:gd name="adj2" fmla="val 312766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0" y="342900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Necesidad de renovar el FORM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3429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0384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3434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2438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37339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40384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3429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343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733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3733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27432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4280" y="4548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8320" y="4191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3886200"/>
            <a:ext cx="41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3618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373392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297180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2666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23676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4114800"/>
            <a:ext cx="1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588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236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1168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480060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9680" y="480060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48006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9608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48006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48006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67480" y="4800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2870280"/>
            <a:ext cx="2514600" cy="1473120"/>
          </a:xfrm>
          <a:custGeom>
            <a:avLst/>
            <a:gdLst/>
            <a:ahLst/>
            <a:rect l="l" t="t" r="r" b="b"/>
            <a:pathLst>
              <a:path w="1584" h="928">
                <a:moveTo>
                  <a:pt x="0" y="544"/>
                </a:moveTo>
                <a:cubicBezTo>
                  <a:pt x="276" y="272"/>
                  <a:pt x="552" y="0"/>
                  <a:pt x="816" y="64"/>
                </a:cubicBezTo>
                <a:cubicBezTo>
                  <a:pt x="1080" y="128"/>
                  <a:pt x="1456" y="784"/>
                  <a:pt x="1584" y="9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137040"/>
            <a:ext cx="3200400" cy="1206360"/>
          </a:xfrm>
          <a:custGeom>
            <a:avLst/>
            <a:gdLst/>
            <a:ahLst/>
            <a:rect l="l" t="t" r="r" b="b"/>
            <a:pathLst>
              <a:path w="2016" h="760">
                <a:moveTo>
                  <a:pt x="0" y="520"/>
                </a:moveTo>
                <a:cubicBezTo>
                  <a:pt x="480" y="260"/>
                  <a:pt x="960" y="0"/>
                  <a:pt x="1296" y="40"/>
                </a:cubicBezTo>
                <a:cubicBezTo>
                  <a:pt x="1632" y="80"/>
                  <a:pt x="1896" y="640"/>
                  <a:pt x="2016" y="7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3454560"/>
            <a:ext cx="5257800" cy="888840"/>
          </a:xfrm>
          <a:custGeom>
            <a:avLst/>
            <a:gdLst/>
            <a:ahLst/>
            <a:rect l="l" t="t" r="r" b="b"/>
            <a:pathLst>
              <a:path w="3312" h="560">
                <a:moveTo>
                  <a:pt x="0" y="368"/>
                </a:moveTo>
                <a:cubicBezTo>
                  <a:pt x="1020" y="184"/>
                  <a:pt x="2040" y="0"/>
                  <a:pt x="2592" y="32"/>
                </a:cubicBezTo>
                <a:cubicBezTo>
                  <a:pt x="3144" y="64"/>
                  <a:pt x="3192" y="472"/>
                  <a:pt x="3312" y="5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2666880"/>
            <a:ext cx="2362320" cy="167652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480"/>
                </a:moveTo>
                <a:cubicBezTo>
                  <a:pt x="164" y="240"/>
                  <a:pt x="328" y="0"/>
                  <a:pt x="576" y="96"/>
                </a:cubicBezTo>
                <a:cubicBezTo>
                  <a:pt x="824" y="192"/>
                  <a:pt x="1336" y="896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6483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4724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6858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5238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82680" y="80028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ICLOS DE VIDA CADA VEZ MAS CO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1600200"/>
            <a:ext cx="44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s representativas del ciclo de vida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5067360"/>
            <a:ext cx="67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úmero de años después de alcanzar los 100 millones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00" y="5410080"/>
            <a:ext cx="62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Basado en el análisis de los 15 mayores retails con un solo formato de ventas sob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00 millones en el perío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Compust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27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61722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034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523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900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14479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00560" y="24750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88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67240" y="27795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81-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81640" y="32367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75-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72560" y="34653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965-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65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3124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rot="10826400">
            <a:off x="1293840" y="1904760"/>
            <a:ext cx="33264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TASA ACUMULADA DE CRECIMIENTO DE LAS GANANC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onentes de la Estrategia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calización/Form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rgeting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Def. de  Mercado(s) Objetivo(s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23623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Segmentación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62120" y="1143000"/>
            <a:ext cx="784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Segmentación de Mercados es el equilibrio entre dos fuerzas en mark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lientes son todos disti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a incapacidad de diferenciar nuestras acciones de marketing tanto como nuestros clientes quisie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1295280"/>
            <a:ext cx="7772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a práctica, rara vez las empresas pueden trabajar con más de 4 o 5 seg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alidad no existe el “Marketing 1 to 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ueden clasificar también  según CINCO característica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438280"/>
            <a:ext cx="3276360" cy="324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Brand Retailer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 fuera de la Tie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ndamentalmente a través de variables psicográficas =&gt; Estilos de Vid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ass Retailer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ción dentro de la Tie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.O.S. Proporciona información respecto del comportamiento de client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portunidad de segmentar de acuerdo a tipo de canastas, frecuencia de compra, et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99072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r requiere definir variables que discriminen significativamente entre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s variables o atributos son los llamados “Bases de la Segment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457200" y="900000"/>
            <a:ext cx="6625800" cy="4661640"/>
            <a:chOff x="457200" y="900000"/>
            <a:chExt cx="6625800" cy="4661640"/>
          </a:xfrm>
        </p:grpSpPr>
        <p:sp>
          <p:nvSpPr>
            <p:cNvPr id="325" name=""/>
            <p:cNvSpPr/>
            <p:nvPr/>
          </p:nvSpPr>
          <p:spPr>
            <a:xfrm>
              <a:off x="1403640" y="1631160"/>
              <a:ext cx="2298240" cy="10717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egmen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19040" y="1810080"/>
              <a:ext cx="1757880" cy="892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egment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07960" y="2882160"/>
              <a:ext cx="1622520" cy="8038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egmento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200" y="3507480"/>
              <a:ext cx="66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566880" y="1452240"/>
              <a:ext cx="0" cy="41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8280" y="3775320"/>
              <a:ext cx="1622520" cy="1429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egmento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49040" y="4043520"/>
              <a:ext cx="1622520" cy="7149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egmento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5240" y="90000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Times New Roman"/>
                </a:rPr>
                <a:t>Atributo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58320" y="350748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tribut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1905120"/>
            <a:ext cx="716256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na segmentación significativa es la que nos ayuda a descubrir comportamientos distintos, que se transforman en negocios disti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23880" y="533520"/>
            <a:ext cx="2819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logía amplia de los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os de 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os de Vida Relacionados con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lidades 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isione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276960"/>
            <a:ext cx="3429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Retail Strateg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Walters &amp;Hanrahan,p.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685800"/>
            <a:ext cx="0" cy="480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1120" y="4572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mográficas, Geo,Socio Económicas, Tipo de Fami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12952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ctividades:trabajo,familia, ocio;Intereses: Hogar, moda, comida; Opiniones: Sí mismo, Tiendas,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666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ctividades: Frecuencia de Compra, Lealtad; Intereses: Importancia de la compra, Conoc. de alternativas; Opiniones:Expectativas de Valor, Percep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4267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ocimiento; Interés, Confianza, Readiness to 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105520"/>
            <a:ext cx="4419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pra de Destino; Compra Regular Planificada; Visita Comparativa Planeada; Visita planeada de vitrineo; Compra Impulsiva;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Posicionamient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10666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efinición de Posicion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oncepción de un producto/servicio y su imagen con el objetivo de imprimir en la mente del comprador, </a:t>
            </a:r>
            <a:r>
              <a:rPr b="0" lang="es-ES_tradnl" sz="2800" spc="-1" strike="noStrike">
                <a:solidFill>
                  <a:srgbClr val="0099cc"/>
                </a:solidFill>
                <a:latin typeface="Tahoma"/>
              </a:rPr>
              <a:t>un lugar apreciad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_tradnl" sz="2800" spc="-1" strike="noStrike">
                <a:solidFill>
                  <a:srgbClr val="0099cc"/>
                </a:solidFill>
                <a:latin typeface="Tahoma"/>
              </a:rPr>
              <a:t>difer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el que ocupa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10666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efinición de Posicion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7524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osicionamiento comienza en un “producto o servicio”.  Pero el posicionamiento </a:t>
            </a:r>
            <a:r>
              <a:rPr b="0" lang="es-ES_tradnl" sz="2800" spc="-1" strike="noStrike">
                <a:solidFill>
                  <a:srgbClr val="00cc99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se refiere al producto, sino a como se </a:t>
            </a:r>
            <a:r>
              <a:rPr b="0" lang="es-ES_tradnl" sz="2800" spc="-1" strike="noStrike">
                <a:solidFill>
                  <a:srgbClr val="0099cc"/>
                </a:solidFill>
                <a:latin typeface="Tahoma"/>
              </a:rPr>
              <a:t>ubic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el producto </a:t>
            </a:r>
            <a:r>
              <a:rPr b="0" lang="es-ES_tradnl" sz="2800" spc="-1" strike="noStrike">
                <a:solidFill>
                  <a:srgbClr val="0099cc"/>
                </a:solidFill>
                <a:latin typeface="Tahoma"/>
              </a:rPr>
              <a:t>en l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99cc"/>
                </a:solidFill>
                <a:latin typeface="Tahoma"/>
              </a:rPr>
              <a:t>mente de los compradore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f011e"/>
                </a:solidFill>
                <a:latin typeface="Comic Sans MS"/>
              </a:rPr>
              <a:t>Posicionamiento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Ubicarse en la mente de los consumidores signific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Ser reconoci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Ser distinguido en alguna dimensión perceptual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j Retail: Precios, Surtido, Variedad, Calidad de Servicio, Cercaní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685800"/>
            <a:ext cx="82296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RIE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Número de CATEGORI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ofrece un R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EDAD  =  ANCHO DE LA GAM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con más Variedad son los HIPERMERCADOS y las TIENDAS POR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47920" y="144792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Times New Roman"/>
              </a:rPr>
              <a:t>¿ Qué es la Proposición de Valor (PdeV) de un Retail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La Proposición de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002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roposición de Valor es una Declaración Explícita de los resultados palpables (tangibles) que recibirán los consumidores/clientes cuando compran en nuestro local/c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733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roposición de Valor se basa en una mezcla específica de: Variedad, Surtido, Servicios, Precio, Entret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181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embargo se refiere  los efectos de esa mezcla en el consumidor/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¿qué es la Proposición de Valor?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1981080"/>
            <a:ext cx="2133360" cy="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648320"/>
            <a:ext cx="2133720" cy="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4419720"/>
            <a:ext cx="49532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onsumidor satisface actualmente su necesidad, por lo que obtiene este “V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1219320"/>
            <a:ext cx="53337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va tienda mejora el nivel de satisfacción de la necesidad. Nueva “Proposición de V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198108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LTA VAL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304920" y="50292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8066" y="0"/>
                </a:lnTo>
                <a:lnTo>
                  <a:pt x="0" y="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8066" y="21600"/>
                </a:lnTo>
                <a:lnTo>
                  <a:pt x="28066" y="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066" y="216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8066" h="21600">
                <a:moveTo>
                  <a:pt x="5983" y="10800"/>
                </a:moveTo>
                <a:lnTo>
                  <a:pt x="22083" y="2750"/>
                </a:lnTo>
                <a:lnTo>
                  <a:pt x="22083" y="188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1371600" y="502920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1676520"/>
            <a:ext cx="815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1676520"/>
            <a:ext cx="76197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la actual PdeV claramente reconocible por el cl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LEV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la PdeV relevante para el cl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IN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la PdeV distinta a la de los competidores del nego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ntabilidad del Formato es claramente demost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ff"/>
                </a:solidFill>
                <a:latin typeface="Times New Roman"/>
              </a:rPr>
              <a:t>A. Evaluación de la   PdeV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71800" y="2285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Fi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685800"/>
            <a:ext cx="8229600" cy="5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RTI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Número de  SKU (Store Keeping Units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ofrece en una Categoría un R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RTIDO  =  PROFUNDIDAD de Product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Retailers con más SURTIDO en una Categoría son los ESPECIALISTAS (Casa ROYAL, Tienda de Calcet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permercado JUMBO tiene más SURTIDO que el Lí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8:26:10Z</dcterms:created>
  <dc:creator>Dii</dc:creator>
  <dc:description/>
  <dc:language>en-US</dc:language>
  <cp:lastModifiedBy>Administrador</cp:lastModifiedBy>
  <dcterms:modified xsi:type="dcterms:W3CDTF">2004-06-15T16:08:05Z</dcterms:modified>
  <cp:revision>111</cp:revision>
  <dc:subject/>
  <dc:title>FASA</dc:title>
</cp:coreProperties>
</file>