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A1AE5-112C-48BC-92D9-CD92541BA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CB821-A41B-4831-A3ED-294D152E6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8D31-EB88-40C4-9CAC-C0E206C60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6DCCC-2D1F-45C4-B41D-C4AACAE71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1C85-81B1-42D4-A3EC-2E5A1D808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A67A1-0CAB-4080-9BC1-7AC200D93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E290-5339-4CC0-B5CC-9C7B7EDFB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DA54D-7BE4-4EF8-A3FB-BA0C3AB1E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3313A-91E8-495C-B7AD-6BE82818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67959-0483-44F9-8725-A63788CAD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72BD-E41F-459F-965D-9E48D1D69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D8856-2495-4283-B97E-F21A68ED8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5C976-EB0E-4B28-BEF5-B3CE46C36EC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05-24T22:15:13Z</dcterms:modified>
  <cp:revision>25</cp:revision>
  <dc:subject/>
  <dc:title>PRICING</dc:title>
</cp:coreProperties>
</file>