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2A22D-BEB1-432E-9A0C-62C62682E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D6F1-D1F9-4F84-96FA-91093C1B6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1A030-247B-4F16-A087-DBBC8C310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78D40-EB2E-4E9D-BA96-FFCF868D0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26D45-B24C-4F94-859E-B8BA3DC40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FF5A-7AC4-450F-A9EB-5028D52E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EE00-3449-417B-9690-46D22E44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176A-32F4-4490-9CA8-65DD2724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9FD11-A8A0-44C9-93A7-C405754C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0EEF-E446-469D-A669-78948580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1250-6995-4BD4-B594-20DD0EFC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37D1-CA35-4A95-A85A-BE4E8F8E1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96CC-7616-43E0-96BF-99F53AE488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5-24T22:15:13Z</dcterms:modified>
  <cp:revision>25</cp:revision>
  <dc:subject/>
  <dc:title>PRICING</dc:title>
</cp:coreProperties>
</file>