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wmf" ContentType="image/x-wmf"/>
  <Override PartName="/ppt/media/image5.jpeg" ContentType="image/jpeg"/>
  <Override PartName="/ppt/media/image9.wmf" ContentType="image/x-wmf"/>
  <Override PartName="/ppt/media/image1.png" ContentType="image/png"/>
  <Override PartName="/ppt/media/image3.jpeg" ContentType="image/jpeg"/>
  <Override PartName="/ppt/media/image2.jpeg" ContentType="image/jpeg"/>
  <Override PartName="/ppt/media/image6.wmf" ContentType="image/x-wmf"/>
  <Override PartName="/ppt/media/image11.wmf" ContentType="image/x-wmf"/>
  <Override PartName="/ppt/media/image7.jpeg" ContentType="image/jpeg"/>
  <Override PartName="/ppt/media/image10.wmf" ContentType="image/x-wmf"/>
  <Override PartName="/ppt/media/image4.jpeg" ContentType="image/jpeg"/>
  <Override PartName="/ppt/media/image12.wmf" ContentType="image/x-wmf"/>
  <Override PartName="/ppt/media/image13.wmf" ContentType="image/x-wmf"/>
  <Override PartName="/ppt/media/image8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CA7BB-B5CF-4262-9C43-7D305349E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3F356-8754-4BA2-AC73-E35FD4051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6D1F8-78F0-4A4C-9ECB-0BF361C10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23D66-4633-4AC2-8EC8-E0FA99A09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93533-39AC-43FF-A72E-B8E68030F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29129-12CE-492D-89FA-515CEA238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B8293-4BB4-483D-9D5D-67C91227B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30608-125E-403C-95E7-A36D56EF9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D7B14-D068-4E27-A9FE-25FBB46AE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0B52C-7ADE-4C7A-8A20-F62A62839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E5285-5947-4923-A50D-47AF3DF3C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2EC1B-F5D5-4EA7-910A-723404240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05D6F-82D6-4EAB-A3CF-21D8EDBDDB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0033cc"/>
                </a:solidFill>
                <a:latin typeface="Times New Roman"/>
              </a:rPr>
              <a:t>MARCA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IN58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Otoño 200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3049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04920" y="380880"/>
            <a:ext cx="2819160" cy="8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914400" y="228600"/>
            <a:ext cx="7315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33cc"/>
                </a:solidFill>
                <a:latin typeface="Comic Sans MS"/>
              </a:rPr>
              <a:t>RECONOCIMIENTO Vs. RECORD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DIB4" descr=""/>
          <p:cNvPicPr/>
          <p:nvPr/>
        </p:nvPicPr>
        <p:blipFill>
          <a:blip r:embed="rId1"/>
          <a:stretch/>
        </p:blipFill>
        <p:spPr>
          <a:xfrm>
            <a:off x="914400" y="1447920"/>
            <a:ext cx="7315200" cy="46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228600"/>
            <a:ext cx="9144000" cy="62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33cc"/>
                </a:solidFill>
                <a:latin typeface="Comic Sans MS"/>
              </a:rPr>
              <a:t>LA CREACIÓN DE CONCIENCIA DE MAR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l impedimento es la gran cantidad de información recibida por los consumidores                                                               (La sociedad sobre informad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e requiere una base de ventas altas. Por eso muchas empresas prefieren usar un nombre en muchos mercado-productos.                                                                          (General Electric, Honda, Luchett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Uso de canales alternativos.                                      (promociones, patrocinios, etc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44520" y="0"/>
            <a:ext cx="8454960" cy="29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33cc"/>
                </a:solidFill>
                <a:latin typeface="Comic Sans MS"/>
              </a:rPr>
              <a:t>CALIDAD PERCIBI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a Calidad Percibida es un Driver de la Performance Financie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a calidad Percibida es un Driver de las Otras Dimensiones Perceptu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mo se crea la Percepción de Calid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2819520"/>
            <a:ext cx="8381880" cy="381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Debe existir Calidad de verd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Los errores se pag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Calidad en  dimensión importante para los 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consumi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Es importante entender que los consumidores 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usan pequeños trucos para evaluar la calid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En algunos casos se puede “capacitar” a los 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consumi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223920" y="228600"/>
          <a:ext cx="8696160" cy="5925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3920" y="228600"/>
                    <a:ext cx="8696160" cy="592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" name=""/>
          <p:cNvSpPr/>
          <p:nvPr/>
        </p:nvSpPr>
        <p:spPr>
          <a:xfrm>
            <a:off x="2057400" y="495288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High Loss          Loss               Gain         High G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80880" y="5791320"/>
            <a:ext cx="838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Aaker y Jacobson, Journal of Marketing Research, May 1994, pp191-201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066680" y="5486400"/>
            <a:ext cx="1143000" cy="2286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581280" y="5486400"/>
            <a:ext cx="1371600" cy="22860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86000" y="53341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O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952880" y="533412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alidad Percib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06360" y="611280"/>
            <a:ext cx="8454960" cy="38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33cc"/>
                </a:solidFill>
                <a:latin typeface="Comic Sans MS"/>
              </a:rPr>
              <a:t>LEALT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La Lealtad es Ren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Como aumentar la Lealtad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lubes, Programas de Frecuentes, Database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arket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382680" y="108000"/>
            <a:ext cx="8378640" cy="60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33cc"/>
                </a:solidFill>
                <a:latin typeface="Comic Sans MS"/>
              </a:rPr>
              <a:t>ASOCIACIONES DE LA MAR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-Es el elemento más importante del valor de marc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7146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rresponde a las distintas asociaciones que hace el consumidor al oir o ver el nombre de la marca. El conjunto de esas Asociaciones es la IMAGEN de la marc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-Estas asociaciones pueden incluir entre otros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atributos del Produc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una celebr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un símbo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-Lo importante es la </a:t>
            </a:r>
            <a:r>
              <a:rPr b="1" i="1" lang="es-ES_tradnl" sz="2400" spc="-1" strike="noStrike">
                <a:solidFill>
                  <a:srgbClr val="000000"/>
                </a:solidFill>
                <a:latin typeface="Comic Sans MS"/>
              </a:rPr>
              <a:t>IDENTIDAD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. La Identidad gobierna las Asociac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DIB6" descr=""/>
          <p:cNvPicPr/>
          <p:nvPr/>
        </p:nvPicPr>
        <p:blipFill>
          <a:blip r:embed="rId1"/>
          <a:stretch/>
        </p:blipFill>
        <p:spPr>
          <a:xfrm>
            <a:off x="1219320" y="1066680"/>
            <a:ext cx="6705360" cy="518004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33cc"/>
                </a:solidFill>
                <a:latin typeface="Comic Sans MS"/>
              </a:rPr>
              <a:t>¿POR QUÉ ES DIFICIL CONSTRUIR MARCA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06360" y="458640"/>
            <a:ext cx="8531280" cy="510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0033cc"/>
                </a:solidFill>
                <a:latin typeface="Comic Sans MS"/>
              </a:rPr>
              <a:t>¿QUE ES IDENTIDAD DE MARC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Identidad de Marca es un conjunto UNICO  de asociaciones de marca que la estrategia aspira a crear o mantener. Estas Asociaciones representan lo que la marca significa y representa una promesa a los clientes de parte de los miembros de la organiz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1028880" y="609480"/>
            <a:ext cx="7086600" cy="47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IMAGEN DE MAR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Cómo es la Marca percibida actualm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IDENTIDAD DE MAR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Cómo quiere la empresa que la Marca sea percibida por sus clien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685800"/>
            <a:ext cx="9144000" cy="52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33cc"/>
                </a:solidFill>
                <a:latin typeface="Comic Sans MS"/>
              </a:rPr>
              <a:t>TRAMPAS EN LA IDENTIDAD DE MARC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La Trampa de la Imagen de Marc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curre cuando existe una imagen positiv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Uno tiende a ser lo que el cliente dice que 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Imagen de Marca Tác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Identidad de Marca Estratégic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33cc"/>
                </a:solidFill>
                <a:latin typeface="Times New Roman"/>
              </a:rPr>
              <a:t>COMO AYUDAN LAS MARCAS A LOS CONSUMIDOR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33520" y="1143000"/>
            <a:ext cx="8076960" cy="560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Simplifican la elección rutinari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. (si todas las semanas compro jabón, no tengo que tomar una decisión cada vez, simplemente “echo” Le Sancy en el carr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Reducen el riesgo en decisiones más complejas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. (Cuando compro un equipo de audio la marca Sony me indica que ciertas cosas estoy seguro que NO me van a pasar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Una marca me puede producir beneficios emocionales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(Por algo la gente compra Gucci, o anda mostrando la Marca de algunos de sus compra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Generan algún sentido de “pertenenci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”. (La gente que tiene un computador Apple siente cierto grado de identificación con otros que usan la misma marca, y eso les hace sentirse bi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380880" y="533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11280" y="458640"/>
            <a:ext cx="7997760" cy="78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. 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La Trampa de la Fijación en los Atributos del Produc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Una Marca es más que un Produc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imitaciones de Identidades basadas en Atribut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No permiten la diferenci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on fáciles de copi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sumen un comportamiento racion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imitan las estrategias de Extensión de Marc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Reducen Flexibilidad Estratégica en mercados cambian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68200" y="304920"/>
            <a:ext cx="8607600" cy="56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33cc"/>
                </a:solidFill>
                <a:latin typeface="Comic Sans MS"/>
              </a:rPr>
              <a:t>CUATRO PERSPECTIVAS DE LA IDENTIDAD DE MAR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PRODU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- ORGANIZA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- PERSO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- SIMBO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2362320"/>
            <a:ext cx="358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MODELO DE PLANEACIÓN DE LA IDENTIDAD DE 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DIB7" descr=""/>
          <p:cNvPicPr/>
          <p:nvPr/>
        </p:nvPicPr>
        <p:blipFill>
          <a:blip r:embed="rId1"/>
          <a:stretch/>
        </p:blipFill>
        <p:spPr>
          <a:xfrm>
            <a:off x="3733920" y="0"/>
            <a:ext cx="3997080" cy="627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458640" y="534960"/>
            <a:ext cx="8150400" cy="63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33cc"/>
                </a:solidFill>
                <a:latin typeface="Comic Sans MS"/>
              </a:rPr>
              <a:t>LA MARCA COMO PRODUCT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sociación con la Clase Producto. (Nestlé Lácte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problema con las Extension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 Asociación con Atributos del producto (Peligros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Calidad/Va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Us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Usu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País o Reg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306360" y="228600"/>
            <a:ext cx="8531280" cy="58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33cc"/>
                </a:solidFill>
                <a:latin typeface="Comic Sans MS"/>
              </a:rPr>
              <a:t>La marca como Organización</a:t>
            </a:r>
            <a:r>
              <a:rPr b="1" lang="es-ES_tradnl" sz="2400" spc="-1" strike="noStrike">
                <a:solidFill>
                  <a:srgbClr val="0033cc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Focalizada en atributos de la organización y no del producto.(Caso Saturn, Banco de Chi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33cc"/>
                </a:solidFill>
                <a:latin typeface="Comic Sans MS"/>
              </a:rPr>
              <a:t>La Marca como Persona</a:t>
            </a:r>
            <a:r>
              <a:rPr b="1" lang="es-ES_tradnl" sz="2400" spc="-1" strike="noStrike">
                <a:solidFill>
                  <a:srgbClr val="0033cc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a personalidad de una marca puede ser la base para una relación con los consumido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33cc"/>
                </a:solidFill>
                <a:latin typeface="Comic Sans MS"/>
              </a:rPr>
              <a:t>La Marca como Símbol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Un símbolo puede proveer cohesión a la identidad y permitir mayor reconocimiento y record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33cc"/>
                </a:solidFill>
                <a:latin typeface="Times New Roman"/>
              </a:rPr>
              <a:t>POLITICA DE MARC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066680" y="2209680"/>
            <a:ext cx="746784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egún la mezcla de product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arca por Produ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arca Paragu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arca por Línea de Produ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arca Doble (o Trip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33cc"/>
                </a:solidFill>
                <a:latin typeface="Times New Roman"/>
              </a:rPr>
              <a:t>MARCA POR PRODUC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143000" y="1647720"/>
            <a:ext cx="6858000" cy="41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 cada producto la empresa le asigna una marca y un posicionamiento específic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jemplos: Detergentes OMO, DRIVE, SKI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s la política tradicional de empresas como Procter &amp; Gamble y Lev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VENTAJA:  La empresa no “juega” su reputación en el resultado de un producto en el merca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33cc"/>
                </a:solidFill>
                <a:latin typeface="Times New Roman"/>
              </a:rPr>
              <a:t>MARCA PARAGU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9480" y="1793880"/>
            <a:ext cx="7925040" cy="329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a marca Paraguas acoge a varias Categorías de Produc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uchas empresas usan su nombre como marca Paraguas. Daewoo, Sony, IBM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33cc"/>
                </a:solidFill>
                <a:latin typeface="Times New Roman"/>
              </a:rPr>
              <a:t>MARCA POR LÍNEA DE PRODUCT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066680" y="1647720"/>
            <a:ext cx="701064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s un intermedio entre la marca Paraguas y la Marca por producto. Se usa sobretodo cuando el producto no es de mucho volumen de ventas.  Es muy costoso una marca distin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e habla de extensión de marc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jemplo: Salsa de Tomate Carozzi. Los refrescos en polvo son Caric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0440" y="3808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33cc"/>
                </a:solidFill>
                <a:latin typeface="Times New Roman"/>
              </a:rPr>
              <a:t>JERARQUÍAS DE MARC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990720" y="1295280"/>
            <a:ext cx="7619760" cy="47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Una marca es más amplia que la ot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uede haber varios niveles.                             (Nestlé,  La Lechera, Producto específic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ada uno manda un mensaje distin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Nestlé.... Ca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a Lechera....Natural/Tradi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echa Asada....  Producto específico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104840" y="914400"/>
            <a:ext cx="6934320" cy="47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¿Qué es el Valor de Marc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¿Porqué la marca Marlboro vale 50 mil millones de U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Si las marcas pueden ser un activo tan valioso, ¿porqué no se contabiliza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0720" y="106632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MARCAS PROPIAS</a:t>
            </a:r>
            <a:br>
              <a:rPr sz="4400"/>
            </a:b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o</a:t>
            </a:r>
            <a:br>
              <a:rPr sz="4400"/>
            </a:b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PRIVAD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33cc"/>
                </a:solidFill>
                <a:latin typeface="Times New Roman"/>
              </a:rPr>
              <a:t>MARCAS PROPI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066680" y="2057400"/>
            <a:ext cx="731520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EFINICIÓ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rresponden a las marcas de productos fabricados por cuenta de un minorista, y que son comercializadas por él a través de sus tiendas o locales, generalmente a precios menores que los de la competenc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990720" y="228600"/>
            <a:ext cx="8153280" cy="596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TIPOS DE MARCAS PROPI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Blancas o Genérica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in marca, productos a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granel o envases mínimos,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encionan solo conten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imeros Precios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arcas con precios lo más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bajo posible, sacrificando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a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609480" y="228600"/>
            <a:ext cx="8153640" cy="660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TIPOS DE MARCAS PROPI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egulare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o de segundos Precios. Por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ebajo de los líderes, pero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 una relación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ecio/calidad bue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emium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lta calidad. Atraen a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sumidores dispuestos a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agar sobreprecio por alta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a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752480" y="3809880"/>
            <a:ext cx="55627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000000"/>
                </a:solidFill>
                <a:latin typeface="Times New Roman"/>
              </a:rPr>
              <a:t>Razones para el crecimiento de las Marcas Propia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304920" y="3429000"/>
            <a:ext cx="83818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1.    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ambios en los hábitos de los Consumidore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umenta fuertemente la Heterogeneidad de los consumidore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e alcanzan cada vez mayores niveles de ingreso disponib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80880" y="2514600"/>
            <a:ext cx="8458200" cy="32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Impacto de las Tecnologías de la Información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as mejoras productivas generan la posibilidad de productos de mucho menor valor e igual funcionalid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as TI permiten acortar los “lead time” o tiempos de “procurement”. Los retailers tienen la información más fresca. Les sirve siempre y cuando no tengan demasiada varied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ayores posibilidades de usar productores extranjer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533520" y="7621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09480" y="2362320"/>
            <a:ext cx="800100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Una nueva forma de relación entre retailers y producto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umento del poder de los retailers, por estar en contacto con los client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os únicos productores que se salvan son los que son capaces de “construir marc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6" name=""/>
          <p:cNvGraphicFramePr/>
          <p:nvPr/>
        </p:nvGraphicFramePr>
        <p:xfrm>
          <a:off x="457200" y="1890720"/>
          <a:ext cx="8077320" cy="4076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890720"/>
                    <a:ext cx="8077320" cy="407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"/>
          <p:cNvSpPr/>
          <p:nvPr/>
        </p:nvSpPr>
        <p:spPr>
          <a:xfrm>
            <a:off x="4724280" y="624852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Fte. AC Niels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38080" y="685800"/>
            <a:ext cx="7239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articipación de Mercado de la Marcas privadas en Supermercados Europa en 1993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0" name=""/>
          <p:cNvGraphicFramePr/>
          <p:nvPr/>
        </p:nvGraphicFramePr>
        <p:xfrm>
          <a:off x="0" y="1219320"/>
          <a:ext cx="9144000" cy="4483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19320"/>
                    <a:ext cx="9144000" cy="448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DIB2" descr=""/>
          <p:cNvPicPr/>
          <p:nvPr/>
        </p:nvPicPr>
        <p:blipFill>
          <a:blip r:embed="rId1"/>
          <a:stretch/>
        </p:blipFill>
        <p:spPr>
          <a:xfrm>
            <a:off x="1181160" y="762120"/>
            <a:ext cx="6781680" cy="48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838080" y="1143000"/>
            <a:ext cx="640080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Hay básicamente cuatros  razones para que los Retailers desarrollen Marcas propi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1.  Mejorar su mar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2. Aumentar el poder dentro del ca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3. Aumentar Utilidad de la categor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4. Imagen (manejar mejor el “surtido” y lealta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3" name=""/>
          <p:cNvGraphicFramePr/>
          <p:nvPr/>
        </p:nvGraphicFramePr>
        <p:xfrm>
          <a:off x="0" y="1981080"/>
          <a:ext cx="8915400" cy="5008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981080"/>
                    <a:ext cx="8915400" cy="500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"/>
          <p:cNvSpPr/>
          <p:nvPr/>
        </p:nvSpPr>
        <p:spPr>
          <a:xfrm>
            <a:off x="1600200" y="28195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1.5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86200" y="28195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1.2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33720" y="1981080"/>
            <a:ext cx="1981080" cy="838440"/>
          </a:xfrm>
          <a:prstGeom prst="wedgeRectCallout">
            <a:avLst>
              <a:gd name="adj1" fmla="val -43268"/>
              <a:gd name="adj2" fmla="val 6098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recio de Ven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990720" y="228600"/>
            <a:ext cx="73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Economía de la Marca Prop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066680" y="3048120"/>
            <a:ext cx="7010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¿En qué categorías le va mejor a la Marca Propi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600200" y="609480"/>
            <a:ext cx="5638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209680" y="1905120"/>
          <a:ext cx="3616560" cy="4748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1905120"/>
                    <a:ext cx="3616560" cy="474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457200" y="0"/>
            <a:ext cx="731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Los Veinte Productos de Marcas Propias más vendidos en supermercados USA en 1996, en millones de dóla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77120" y="632448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Fte. PLMA´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685800" y="762120"/>
            <a:ext cx="8077320" cy="45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lgunas cosas sobre los precios de las Marcas propi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as ventas de una marca Privada dependen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) su pre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b) su precio en relación al de la competenc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La Elasticidad normal de un producto con MARCA en un supermercado es   1,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(Esto significa que si el precio sube 10% entonces las ventas bajan 15%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371600" y="53352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in embargo, la elasticidad de los productos  marca propias es en general más baja que la de los de  Marcas Nacionales (en ciertos rangos de preci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380880" y="2362320"/>
          <a:ext cx="8534520" cy="2914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362320"/>
                    <a:ext cx="8534520" cy="29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" name=""/>
          <p:cNvSpPr/>
          <p:nvPr/>
        </p:nvSpPr>
        <p:spPr>
          <a:xfrm>
            <a:off x="3657600" y="5867280"/>
            <a:ext cx="4038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Gail Gaisler, Private Label Grows Up,McKinsey Quaterly 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371600" y="838080"/>
            <a:ext cx="7010280" cy="48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n realidad la elasticidad precio de una marca va a depender de las otras marcas, especialmente de su competencia más direc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a elasticidad precio de una marca Propia  como Acuenta, es muy baja siempre que sea la más barata, o haya bastante diferencia con la marca que le sigu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a elasticidad va a subir en la medida que su precio se acerque al de su competencia más cercana. Va a ser enorme si está muy cerca...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762120" y="2971800"/>
            <a:ext cx="746748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as Marcas Propias nos pueden ayudar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Crear Imagen de Variedad y de precios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baj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Crear Lealt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762120" y="1447920"/>
            <a:ext cx="754380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ecordemos que la lealtad la crearemos si le AUMENTAMOS EL COSTO DE CAMBIARSE DE TIENDA al Consumid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as marcas Propias de la tienda aumentan ese costo pues si el cliente la usa no la encontrará en otro la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mportante que la marca Propia con el nombre del Supermercado no sea la más bar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1371600" y="609480"/>
            <a:ext cx="7162920" cy="32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Veamos también que puede hacer un productor frente al Retailer......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¿Debe ceder y “someterse” al Retailer?..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“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orir con las botas puestas” ?????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DIB1" descr=""/>
          <p:cNvPicPr/>
          <p:nvPr/>
        </p:nvPicPr>
        <p:blipFill>
          <a:blip r:embed="rId1"/>
          <a:stretch/>
        </p:blipFill>
        <p:spPr>
          <a:xfrm>
            <a:off x="2666880" y="0"/>
            <a:ext cx="348156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1143000" y="1523880"/>
            <a:ext cx="655308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1. Invierta en Valor de Marc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2. Innove con sabidurí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a mayoría de las extensiones de línea son un fracaso y lo único que hacen es confundir al consumidor. Diluyen el poder de las Marcas, y le abren espacio a las Marcas propi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3.Algunos fabricantes crean “marcas de pelea”. Quelch y Harding dicen que no es convenie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ejor usar la marca propia contra su riv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28600" y="1371600"/>
          <a:ext cx="8229600" cy="3886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371600"/>
                    <a:ext cx="822960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7" name=""/>
          <p:cNvSpPr/>
          <p:nvPr/>
        </p:nvSpPr>
        <p:spPr>
          <a:xfrm>
            <a:off x="8458200" y="44197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1880" y="441972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112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143000" y="1600200"/>
            <a:ext cx="701028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4. Use Trade Marke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5. Preocupese de la Brecha de precios. Si se mantiene bajo de precios entonces el que pierde es la Marca Prop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6. Explote las promociones. Le gustan a los consumidores  y a los retailers.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38040" y="212760"/>
            <a:ext cx="8467920" cy="68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33cc"/>
                </a:solidFill>
                <a:latin typeface="Comic Sans MS"/>
              </a:rPr>
              <a:t>¿QUÉ ES EL VALOR DE MARC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Comic Sans MS"/>
              </a:rPr>
              <a:t>Valor de Marca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 es un conjunto de Activos ligados al nombre o símbolo de una marca que agregan (o restan)  valor al producto o servicio entregado por la empres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as 4 categorías mayores de estos activos s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NCIENCIA DE 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EALTAD DE 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ALIDAD PERCIB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SOCIACIONES DE LA 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-380880" y="2666880"/>
            <a:ext cx="3657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Como la 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genera va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DIB3" descr=""/>
          <p:cNvPicPr/>
          <p:nvPr/>
        </p:nvPicPr>
        <p:blipFill>
          <a:blip r:embed="rId1"/>
          <a:stretch/>
        </p:blipFill>
        <p:spPr>
          <a:xfrm>
            <a:off x="3124080" y="98280"/>
            <a:ext cx="5342040" cy="599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915840" y="611280"/>
            <a:ext cx="7921800" cy="502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33cc"/>
                </a:solidFill>
                <a:latin typeface="Comic Sans MS"/>
              </a:rPr>
              <a:t>CONCIENCIA DE MAR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RECONOCIMIEN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Conoce usted esta marc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RECORD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Qué Marcas de esta clase Producto conoce ust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Comic Sans MS"/>
              </a:rPr>
              <a:t>Top of Mi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54080" y="382680"/>
            <a:ext cx="8683560" cy="11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33cc"/>
                </a:solidFill>
                <a:latin typeface="Comic Sans MS"/>
              </a:rPr>
              <a:t>RECONOCIMIENTO DE MAR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La Marca Familiar tiene ventaj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220968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aso Mantequilla de maní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09480" y="2971800"/>
            <a:ext cx="2971800" cy="26845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TEST CIE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ARCA A      7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ARCA B       3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419720" y="2971800"/>
            <a:ext cx="3352680" cy="26845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TEST CON MARCA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ARCA A      26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ARCA B       74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17T19:30:38Z</dcterms:created>
  <dc:creator>maximo bosch</dc:creator>
  <dc:description/>
  <dc:language>en-US</dc:language>
  <cp:lastModifiedBy>Administrador</cp:lastModifiedBy>
  <dcterms:modified xsi:type="dcterms:W3CDTF">2004-05-05T22:42:49Z</dcterms:modified>
  <cp:revision>43</cp:revision>
  <dc:subject/>
  <dc:title>Sin título de diapositiva</dc:title>
</cp:coreProperties>
</file>