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2.wmf" ContentType="image/x-wmf"/>
  <Override PartName="/ppt/media/image13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500-63DA-4734-9EB7-634C9784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222-8060-4299-9AAE-7E82A3C5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25E-434D-4865-A683-ED99CFC1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6CB-FB92-4ED3-9D7E-CF8218AB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7AA-5552-41D7-A8D2-05B9DB7F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30D-18A5-4340-85AF-A4C18AC0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6A3-4090-44F3-A1C3-DF375535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837-CDC2-44F8-AD1C-5C9AFA97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8EE-B57B-4C1C-93B0-8C2A5D94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D37-0C2D-4B31-8537-9FF738BC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0BA-1839-4283-8A0C-F14A954A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7E32-638D-40EB-943B-CCF07288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B8B8-9246-43A4-826C-9C6C94061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58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oño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IB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B6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IB7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qué la marca Marlboro vale 50 mil millones de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RCAS PROPIA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IV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S PROP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057400"/>
            <a:ext cx="7315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n a las marcas de productos fabricados por cuenta de un minorista, y que son comercializadas por él a través de sus tiendas o locales, generalmente a precios menores que los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228600"/>
            <a:ext cx="8153280" cy="59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ancas o Genér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marca, produc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el o envases mínimos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cionan solo 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s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 con precios lo má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 posible, sacrificand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28600"/>
            <a:ext cx="8153640" cy="66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de segundos Precios. Por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bajo de los líderes, per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una relació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/calidad bu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 calidad. Atraen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es dispues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gar sobreprecio por alt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3809880"/>
            <a:ext cx="556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Razones para el crecimiento de las Marcas Prop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429000"/>
            <a:ext cx="8381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mbios en los hábitos de los Consumido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a fuertemente la Heterogeneidad de los consumido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alcanzan cada vez mayores niveles de ingreso dispon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514600"/>
            <a:ext cx="8458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acto de las Tecnologías de la 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ejoras productivas generan la posibilidad de productos de mucho menor valor e igual funcion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 permiten acortar los “lead time” o tiempos de “procurement”. Los retailers tienen la información más fresca. Les sirve siempre y cuando no tengan demasiada var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es posibilidades de usar productores extranj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362320"/>
            <a:ext cx="8001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a nueva forma de relación entre retailers y produ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del poder de los retailers, por estar en contacto con los cl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únicos productores que se salvan son los que son capaces de “construir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890720"/>
          <a:ext cx="807732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90720"/>
                    <a:ext cx="80773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. AC Niel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6858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ticipación de Mercado de la Marcas privadas en Supermercados Europa en 19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1219320"/>
          <a:ext cx="9144000" cy="44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B2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143000"/>
            <a:ext cx="6400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y básicamente cuatros  razones para que los Retailers desarrollen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Mejorar su 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Aumentar el poder dentro del 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Aumentar Utilidad de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Imagen (manejar mejor el “surtido” y lealt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1981080"/>
          <a:ext cx="891540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9154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6002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981080"/>
            <a:ext cx="1981080" cy="838440"/>
          </a:xfrm>
          <a:prstGeom prst="wedgeRectCallout">
            <a:avLst>
              <a:gd name="adj1" fmla="val -43268"/>
              <a:gd name="adj2" fmla="val 6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conomía de la Marca Pro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812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En qué categorías le va mejor a la Marca Prop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00200" y="6094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09680" y="1905120"/>
          <a:ext cx="361656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05120"/>
                    <a:ext cx="361656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Veinte Productos de Marcas Propias más vendidos en supermercados USA en 1996, en 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63244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te. PLMA´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762120"/>
            <a:ext cx="80773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as cosas sobre los precios de las Marcas prop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s de una marca Privada depende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 su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u precio en relación al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Elasticidad normal de un producto con MARCA en un supermercado es  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Esto significa que si el precio sube 10% entonces las ventas bajan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embargo, la elasticidad de los productos  marca propias es en general más baja que la de los de  Marcas Nacionales (en ciertos rangos de pre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2362320"/>
          <a:ext cx="853452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5345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657600" y="586728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il Gaisler, Private Label Grows Up,McKinsey Quaterl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838080"/>
            <a:ext cx="7010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realidad la elasticidad precio de una marca va a depender de las otras marcas, especialmente de su competencia más direc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precio de una marca Propia  como Acuenta, es muy baja siempre que sea la más barata, o haya bastante diferencia con la marca que le si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va a subir en la medida que su precio se acerque al de su competencia más cercana. Va a ser enorme si está muy cerca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2971800"/>
            <a:ext cx="7467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nos pueden ayuda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Imagen de Variedad y de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447920"/>
            <a:ext cx="7543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demos que la lealtad la crearemos si le AUMENTAMOS EL COSTO DE CAMBIARSE DE TIENDA a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de la tienda aumentan ese costo pues si el cliente la usa no la encontrará en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que la marca Propia con el nombre del Supermercado no sea la más bar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609480"/>
            <a:ext cx="716292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eamos también que puede hacer un productor frente al Retailer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Debe ceder y “someterse” al Retailer?.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rir con las botas puestas” ?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B1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523880"/>
            <a:ext cx="6553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Invierta en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Innove con sabidu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yoría de las extensiones de línea son un fracaso y lo único que hacen es confundir al consumidor. Diluyen el poder de las Marcas, y le abren espacio a las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Algunos fabricantes crean “marcas de pelea”. Quelch y Harding dicen que no es conven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usar la marca propia contra su 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371600"/>
          <a:ext cx="82296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458200" y="44197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Use Tra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 Preocupese de la Brecha de precios. Si se mantiene bajo de precios entonces el que pierde es la Marca Pro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 Explote las promociones. Le gustan a los consumidores  y a los retailer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B3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Administrador</cp:lastModifiedBy>
  <dcterms:modified xsi:type="dcterms:W3CDTF">2004-05-05T22:42:49Z</dcterms:modified>
  <cp:revision>43</cp:revision>
  <dc:subject/>
  <dc:title>Sin título de diapositiva</dc:title>
</cp:coreProperties>
</file>