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40C-6350-4F57-950F-B6F7F25E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DB9-A582-41D5-969B-CA0B033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A52-4F2D-4772-BC0E-13872C6C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AEF-363F-47E7-92A3-6021A738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F18-F8F2-47E4-9BA1-36EAB5B8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763-93C7-4656-BE3B-FC6EB0E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A06-9D94-4CED-910F-D51DD7D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632-7D19-4C6F-85C6-112FD65A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B56-F035-4C8E-BB30-217D1BB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C6D-64BD-4744-9E50-50F87B2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DD2-47A5-4791-B088-40796C8C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5C4-974E-423E-85D9-78926E4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B57-0864-4390-AC6B-CB004BCA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tisfacción, Lealtad y Valor para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sch&amp;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85800"/>
          <a:ext cx="726768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676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6019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90720" y="838080"/>
          <a:ext cx="70102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10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1722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0574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6461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37160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, expresada como SATISFACCIÓN de los clientes, es lo que asegura valo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clientes son iguales: La antigüedad es un claro discrimin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calidad es rentable....en general, pero tiene que existir un nivel Ópt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bajo de Roland Ru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8862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082960"/>
            <a:ext cx="5257800" cy="34034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gu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iclo de Vida d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ontribución neta a lor largo del 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lan de l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36232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alidad es buen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lientes leales son mas rentables qu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se mide y que estrategias se siguen en un plan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para el Cliente para ser un nivel mayor de entablar Re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queña sín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Lock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l Cálculo de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úmero de clientes potenciales (10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adquisición de clientes (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retención de clientes (0.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 de solicitar prospectos ($5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gresos futuros ($25 a $1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rgen de contribución (4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lculando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828800"/>
          <a:ext cx="824076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407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“mal manejo” de la Lealtad de los Clientes.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0357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Mismanagement of Customer Loyalty, Reinartz and Kumar , HBR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de fines de los 90 se viene observando que los Programas de Lealtad muchas veces fallan. Reinartz y Kumar menciona las siguientes cau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2895480"/>
            <a:ext cx="167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ar, calificar, conve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ón de no rentables en ren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ón de la vida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o cuesta adquirir un nuevo cli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la es el retorno de la Inver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es son los métodos de Adquisición mas ef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l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13372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si una marca es asociada a Calidad, por ese solo hecho el mercado valora más esa marca que otra que no tenga la misma aso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447920"/>
          <a:ext cx="4248360" cy="4332240"/>
        </p:xfrm>
        <a:graphic>
          <a:graphicData uri="http://schemas.openxmlformats.org/drawingml/2006/table">
            <a:tbl>
              <a:tblPr/>
              <a:tblGrid>
                <a:gridCol w="2015640"/>
                <a:gridCol w="2017080"/>
                <a:gridCol w="2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irm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cuesta menos servir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conocen su valor y exigen mas servicio y menos 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pagan más que los 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sienten que merecen precios más ba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leales atraen nuevos clientes por el boca ore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todos los leales lo hac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4572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9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aker y Jacobson, Journal of Marketing Research, May 1994, pp191-2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7150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7150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458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QUALITY MANAGEMENT, VOL. 10, NOS 4&amp;5, 199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n measuring interactions between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tisfaction and Financi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N A. EKLÖF, PETER HACKL &amp; ANDERS WESTL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ockholm School of Econom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28600" y="668160"/>
            <a:ext cx="6109920" cy="4953240"/>
            <a:chOff x="228600" y="668160"/>
            <a:chExt cx="6109920" cy="4953240"/>
          </a:xfrm>
        </p:grpSpPr>
        <p:sp>
          <p:nvSpPr>
            <p:cNvPr id="57" name=""/>
            <p:cNvSpPr/>
            <p:nvPr/>
          </p:nvSpPr>
          <p:spPr>
            <a:xfrm>
              <a:off x="3581280" y="66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C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324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E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6960" y="1506600"/>
              <a:ext cx="4419720" cy="40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9800" y="1658880"/>
              <a:ext cx="0" cy="396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995120" y="5586480"/>
              <a:ext cx="4343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6640" y="15066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6960" y="35449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1840" y="1049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67400" y="1049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3920" y="20397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384984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7400" y="234468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4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2480" y="2363760"/>
              <a:ext cx="160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6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740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248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7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95280" y="60786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= 50%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o = 50%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638680"/>
            <a:ext cx="5257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VA=Ingreso Operacional después de Impto.-Costo Promedio de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SI=Indice de satisfacción del cl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ealtad y Rent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uición siempre ha dictado que “es má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empresas usan un número fijo (5) , para establecer est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bajo más importante fue desarrollado por  Reichheld y Sasser, publicado como “Zero defections: 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3520" y="1143000"/>
          <a:ext cx="83055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05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9436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533520"/>
          <a:ext cx="7238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5943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20:55:00Z</dcterms:created>
  <dc:creator>Dii</dc:creator>
  <dc:description/>
  <dc:language>en-US</dc:language>
  <cp:lastModifiedBy>Administrador</cp:lastModifiedBy>
  <dcterms:modified xsi:type="dcterms:W3CDTF">2004-05-04T13:21:32Z</dcterms:modified>
  <cp:revision>95</cp:revision>
  <dc:subject/>
  <dc:title>Sin título de diapositiva</dc:title>
</cp:coreProperties>
</file>