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FD3-BBBE-48D8-B461-6ED37B7A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CCF7-82B4-4634-8116-BDD0B2A2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85B-FA9A-46A2-9437-E8FBB6DB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29B-9CEE-4B87-B417-59A1E445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07B-3EBB-4D80-9087-191196F1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C00-1D7E-4F31-BD97-566FE18C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C6C-28A6-4ACE-A3C7-38F71247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C271-7DDF-4F2B-8684-29CFDC9B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133-33E9-422B-B756-CB5A11AA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0FF-5EAC-4384-8F3B-C156130C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C12-1179-49F5-ABC9-E7058AC9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D06-FF68-4505-9FE9-14D0AA5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128D-E28A-4DCA-ACB2-0D4A11053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tisfacción, Lealtad y Valor para 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sch&amp;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85800"/>
          <a:ext cx="726768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26768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80880" y="6019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90720" y="838080"/>
          <a:ext cx="70102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010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200" y="617220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205740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iguiente diapositiva es presentada por Reichheld y Sasser como una explicación basada en sus experiencias de porqué los clientes más antiguos son más rentables que los má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77724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6765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038480"/>
            <a:ext cx="45720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809880"/>
            <a:ext cx="4572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733920"/>
            <a:ext cx="45720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3657600"/>
            <a:ext cx="4572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429000"/>
            <a:ext cx="45720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886200"/>
            <a:ext cx="4572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3733920"/>
            <a:ext cx="4572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429000"/>
            <a:ext cx="4572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124080"/>
            <a:ext cx="45720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971800"/>
            <a:ext cx="4572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2666880"/>
            <a:ext cx="45720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42900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27672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281952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2590920"/>
            <a:ext cx="45720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2286000"/>
            <a:ext cx="45720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205740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3276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1240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6668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24382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133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1828800"/>
            <a:ext cx="457200" cy="2286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029200"/>
            <a:ext cx="457200" cy="533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56272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ff"/>
                </a:solidFill>
                <a:latin typeface="Times New Roman"/>
              </a:rPr>
              <a:t>Costo de adquisición de los comp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1219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99"/>
                </a:solidFill>
                <a:latin typeface="Arial"/>
              </a:rPr>
              <a:t>Ganancias por precios prem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19051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9900"/>
                </a:solidFill>
                <a:latin typeface="Arial"/>
              </a:rPr>
              <a:t>Ganancias por refer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Ganancias por  reducción de costos oper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355284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ff"/>
                </a:solidFill>
                <a:latin typeface="Arial"/>
              </a:rPr>
              <a:t>Ganancias por aumento de compras y altos bal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Ganancia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646128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57200" y="64612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371600"/>
            <a:ext cx="6705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, expresada como SATISFACCIÓN de los clientes, es lo que asegura valor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todos los clientes son iguales: La antigüedad es un claro discrimin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tir en calidad es rentable....en general, pero tiene que existir un nivel Ópt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bajo de Roland Ru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8862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2082960"/>
            <a:ext cx="5257800" cy="34034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igu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iclo de Vida del Cl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ones de la Rentabilidad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time Value del cliente (LT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 (ingresos – costos)  esperado  actu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Equity Financial Index (CEF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clientes como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cepto de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438280"/>
            <a:ext cx="7086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liente es una serie de oportunidades de negocio a lo largo d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o verlo como un valor esperado de Gana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un posible generador de utilidades, puedo llamarlo un ACTIVO. (equ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s un “activo” debiera poder calcular su val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o más bien con se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time Value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Contribución neta a lor largo del 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V = A -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lan de la S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36232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Calidad es buen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clientes leales son mas rentables que los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se mide y que estrategias se siguen en un plan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para el Cliente para ser un nivel mayor de entablar Re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queña sín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Lock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mplo del Cálculo de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úmero de clientes potenciales (10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asa de adquisición de clientes (0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asa de retención de clientes (0.7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 de solicitar prospectos ($5.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gresos futuros ($25 a $1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rgen de contribución (4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lculando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1828800"/>
          <a:ext cx="824076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407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ómo puedo aumentar  el activo clien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iendo el costo de 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ndo la tasa de captací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ndo las ventas fut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ndo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do la duración d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135252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42670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62320" y="4647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34120" y="2361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8080" y="3176640"/>
            <a:ext cx="131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120" y="4572000"/>
            <a:ext cx="128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082960"/>
            <a:ext cx="4800600" cy="24890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3467160"/>
            <a:ext cx="3809880" cy="1942920"/>
          </a:xfrm>
          <a:custGeom>
            <a:avLst/>
            <a:gdLst/>
            <a:ahLst/>
            <a:rect l="l" t="t" r="r" b="b"/>
            <a:pathLst>
              <a:path w="2400" h="1224">
                <a:moveTo>
                  <a:pt x="0" y="1224"/>
                </a:moveTo>
                <a:cubicBezTo>
                  <a:pt x="616" y="732"/>
                  <a:pt x="1232" y="240"/>
                  <a:pt x="1632" y="120"/>
                </a:cubicBezTo>
                <a:cubicBezTo>
                  <a:pt x="2032" y="0"/>
                  <a:pt x="2216" y="252"/>
                  <a:pt x="2400" y="5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“mal manejo” de la Lealtad de los Clientes.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0357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 Mismanagement of Customer Loyalty, Reinartz and Kumar , HBR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228600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de fines de los 90 se viene observando que los Programas de Lealtad muchas veces fallan. Reinartz y Kumar menciona las siguientes cau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dades Claves en la Relación con 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8800" y="2895480"/>
            <a:ext cx="16732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8960" y="3587760"/>
            <a:ext cx="1968480" cy="901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30760" y="2901960"/>
            <a:ext cx="1968480" cy="901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30760" y="4349880"/>
            <a:ext cx="1968480" cy="90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733920" y="3352320"/>
            <a:ext cx="9903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9903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8840" y="2270160"/>
            <a:ext cx="155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0800" y="387036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1500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58280" y="371016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28560" y="3024360"/>
            <a:ext cx="121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38480" y="4471920"/>
            <a:ext cx="156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n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4640" y="5334120"/>
            <a:ext cx="2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dades Cl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ar, calificar, conver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ón de no rentables en ren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ón de la vida de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to cuesta adquirir un nuevo clien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ula es el retorno de la Invers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es son los métodos de Adquisición mas efe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enes son los clientes menos rent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la 80/20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 es la mejor manera de transformar no rentables en rent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 de productos cru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lid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133720"/>
            <a:ext cx="72388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amplia evidencia que las Empresas que se asocian a CALIDAD son valoradas más que las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significa que si una marca es asociada a Calidad, por ese solo hecho el mercado valora más esa marca que otra que no tenga la misma aso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ción del Activo Cl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914400" y="1905120"/>
          <a:ext cx="739152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05120"/>
                    <a:ext cx="73915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ual es la vida del cliente promed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vida promedio es 1/tasa de deser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ómo se disminuye la probabilidad de defec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ando 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ndo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523880" y="1447920"/>
          <a:ext cx="4248360" cy="4332240"/>
        </p:xfrm>
        <a:graphic>
          <a:graphicData uri="http://schemas.openxmlformats.org/drawingml/2006/table">
            <a:tbl>
              <a:tblPr/>
              <a:tblGrid>
                <a:gridCol w="2015640"/>
                <a:gridCol w="2017080"/>
                <a:gridCol w="2160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irm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clientes Leales cuesta menos servir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conocen su valor y exigen mas servicio y menos 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clientes leales pagan más que los 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sienten que merecen precios más ba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leales atraen nuevos clientes por el boca ore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todos los leales lo hac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8600" y="4572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469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aker y Jacobson, Journal of Marketing Research, May 1994, pp191-20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57150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7150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143000"/>
            <a:ext cx="84582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TAL QUALITY MANAGEMENT, VOL. 10, NOS 4&amp;5, 1999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n measuring interactions between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atisfaction and Financia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AN A. EKLÖF, PETER HACKL &amp; ANDERS WESTL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ockholm School of Economic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228600" y="668160"/>
            <a:ext cx="6109920" cy="4953240"/>
            <a:chOff x="228600" y="668160"/>
            <a:chExt cx="6109920" cy="4953240"/>
          </a:xfrm>
        </p:grpSpPr>
        <p:sp>
          <p:nvSpPr>
            <p:cNvPr id="57" name=""/>
            <p:cNvSpPr/>
            <p:nvPr/>
          </p:nvSpPr>
          <p:spPr>
            <a:xfrm>
              <a:off x="3581280" y="6681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d60093"/>
                  </a:solidFill>
                  <a:latin typeface="Times New Roman"/>
                </a:rPr>
                <a:t>C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600" y="324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d60093"/>
                  </a:solidFill>
                  <a:latin typeface="Times New Roman"/>
                </a:rPr>
                <a:t>E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66960" y="1506600"/>
              <a:ext cx="4419720" cy="403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19800" y="1658880"/>
              <a:ext cx="0" cy="3962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995120" y="5586480"/>
              <a:ext cx="4343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6640" y="150660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66960" y="35449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71840" y="1049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67400" y="1049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23920" y="20397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3849840"/>
              <a:ext cx="8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7400" y="234468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42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62480" y="2363760"/>
              <a:ext cx="160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16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57400" y="4097160"/>
              <a:ext cx="152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12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62480" y="4097160"/>
              <a:ext cx="152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7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95280" y="60786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o = 50% 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jo = 50% inf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5638680"/>
            <a:ext cx="5257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VA=Ingreso Operacional después de Impto.-Costo Promedio del Cap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SI=Indice de satisfacción del cl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ealtad y Rentabi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76197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tuición siempre ha dictado que “es má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económico retener un cliente, que captar uno nuev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as empresas usan un número fijo (5) , para establecer esta re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abajo más importante fue desarrollado por  Reichheld y Sasser, publicado como “Zero defections:  Quality comes to Services”, HBR,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3520" y="1143000"/>
          <a:ext cx="830556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3055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594360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62120" y="533520"/>
          <a:ext cx="72388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7238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57200" y="5943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20:55:00Z</dcterms:created>
  <dc:creator>Dii</dc:creator>
  <dc:description/>
  <dc:language>en-US</dc:language>
  <cp:lastModifiedBy>Administrador</cp:lastModifiedBy>
  <dcterms:modified xsi:type="dcterms:W3CDTF">2004-05-04T13:21:32Z</dcterms:modified>
  <cp:revision>95</cp:revision>
  <dc:subject/>
  <dc:title>Sin título de diapositiva</dc:title>
</cp:coreProperties>
</file>