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28CA-DEA5-4233-B05B-0AF43A9D2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9D00-3182-4AD5-9C3F-101799B39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33CB-213A-49C1-ADE6-0937F1738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2DCB-C716-47E8-8F9C-7202B95E7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9194-20CF-4F28-A1BA-D1470B9EE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77B2-62D1-44F5-840E-E04EBB898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B3E5-4225-4CBF-87FC-624667A38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A0BE-0343-47E3-B2DD-5D2195110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7C84-13D5-4B72-BBC6-160BEA4A7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79FA-086A-4048-810F-D046E3E74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87E8-4041-4114-857D-130CF36B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949F-6FB8-4EA3-8F8A-C84804B2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27AAA-4989-4160-B71A-537976334A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Satisfacción, Lealtad y Valor para el Cli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56386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osch&amp;Yo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685800" y="685800"/>
          <a:ext cx="7267680" cy="5276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85800"/>
                    <a:ext cx="7267680" cy="52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380880" y="601992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Fuente: Reicheld y Sasser, “Zero Defections Come to Quality”, HBR, 1990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990720" y="838080"/>
          <a:ext cx="7010280" cy="510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838080"/>
                    <a:ext cx="701028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457200" y="6172200"/>
            <a:ext cx="82296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Fuente: Reicheld y Sasser, “Zero Defections Come to Quality”, HBR, 1990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09480" y="2057400"/>
            <a:ext cx="7620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siguiente diapositiva es presentada por Reichheld y Sasser como una explicación basada en sus experiencias de porqué los clientes más antiguos son más rentables que los más nue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0" y="0"/>
          <a:ext cx="77724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7724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1676520" y="4419720"/>
            <a:ext cx="457200" cy="6094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90920" y="4419720"/>
            <a:ext cx="457200" cy="6094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4419720"/>
            <a:ext cx="457200" cy="6094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419720"/>
            <a:ext cx="457200" cy="6094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934320" y="4419720"/>
            <a:ext cx="457200" cy="6094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29000" y="4419720"/>
            <a:ext cx="457200" cy="6094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343400" y="4419720"/>
            <a:ext cx="457200" cy="6094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90920" y="4038480"/>
            <a:ext cx="457200" cy="3812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429000" y="3962520"/>
            <a:ext cx="457200" cy="4572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343400" y="3809880"/>
            <a:ext cx="45720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81480" y="3733920"/>
            <a:ext cx="45720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5880" y="3657600"/>
            <a:ext cx="457200" cy="7621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429000"/>
            <a:ext cx="457200" cy="9907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90920" y="3886200"/>
            <a:ext cx="457200" cy="1522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3733920"/>
            <a:ext cx="457200" cy="2286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343400" y="3429000"/>
            <a:ext cx="457200" cy="3808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81480" y="3124080"/>
            <a:ext cx="457200" cy="6098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5880" y="2971800"/>
            <a:ext cx="4572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934320" y="2666880"/>
            <a:ext cx="457200" cy="7621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90920" y="3429000"/>
            <a:ext cx="457200" cy="4572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3276720"/>
            <a:ext cx="457200" cy="4572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343400" y="2819520"/>
            <a:ext cx="457200" cy="6094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81480" y="2590920"/>
            <a:ext cx="45720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5880" y="2286000"/>
            <a:ext cx="457200" cy="6858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934320" y="2057400"/>
            <a:ext cx="457200" cy="6094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90920" y="3276720"/>
            <a:ext cx="457200" cy="15228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29000" y="3124080"/>
            <a:ext cx="457200" cy="15264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43400" y="2666880"/>
            <a:ext cx="457200" cy="15264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2438280"/>
            <a:ext cx="457200" cy="15264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5880" y="2133720"/>
            <a:ext cx="457200" cy="15228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34320" y="1828800"/>
            <a:ext cx="457200" cy="22860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8080" y="5029200"/>
            <a:ext cx="457200" cy="5335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5562720"/>
            <a:ext cx="1447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6600ff"/>
                </a:solidFill>
                <a:latin typeface="Times New Roman"/>
              </a:rPr>
              <a:t>Costo de adquisición de los comprad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96080" y="121932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c0099"/>
                </a:solidFill>
                <a:latin typeface="Arial"/>
              </a:rPr>
              <a:t>Ganancias por precios prem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96080" y="190512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c9900"/>
                </a:solidFill>
                <a:latin typeface="Arial"/>
              </a:rPr>
              <a:t>Ganancias por referenci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96080" y="2590920"/>
            <a:ext cx="160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8000"/>
                </a:solidFill>
                <a:latin typeface="Arial"/>
              </a:rPr>
              <a:t>Ganancias por  reducción de costos operacion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96080" y="3552840"/>
            <a:ext cx="1447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ccff"/>
                </a:solidFill>
                <a:latin typeface="Arial"/>
              </a:rPr>
              <a:t>Ganancias por aumento de compras y altos bala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96080" y="457200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ff"/>
                </a:solidFill>
                <a:latin typeface="Arial"/>
              </a:rPr>
              <a:t>Ganancias 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6461280"/>
            <a:ext cx="82296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Fuente: Reicheld y Sasser, “Zero Defections Come to Quality”, HBR, 1990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457200" y="646128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uente: Reicheld y Sasser, “Zero Defections Come to Quality”, HBR, 199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066680" y="1371600"/>
            <a:ext cx="67057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Calidad, expresada como SATISFACCIÓN de los clientes, es lo que asegura valor a la empre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todos los clientes son iguales: La antigüedad es un claro discriminad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vertir en calidad es rentable....en general, pero tiene que existir un nivel Ópti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rabajo de Roland Rus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19000" y="1523880"/>
            <a:ext cx="1619280" cy="91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ntabilidad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l Cl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2514600" y="1371240"/>
            <a:ext cx="0" cy="4343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90920" y="3886200"/>
            <a:ext cx="5333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14600" y="2082960"/>
            <a:ext cx="5257800" cy="3403440"/>
          </a:xfrm>
          <a:custGeom>
            <a:avLst/>
            <a:gdLst/>
            <a:ahLst/>
            <a:rect l="l" t="t" r="r" b="b"/>
            <a:pathLst>
              <a:path w="3024" h="1568">
                <a:moveTo>
                  <a:pt x="0" y="1568"/>
                </a:moveTo>
                <a:cubicBezTo>
                  <a:pt x="612" y="816"/>
                  <a:pt x="1224" y="64"/>
                  <a:pt x="1728" y="32"/>
                </a:cubicBezTo>
                <a:cubicBezTo>
                  <a:pt x="2232" y="0"/>
                  <a:pt x="2628" y="688"/>
                  <a:pt x="3024" y="1376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172200" y="4724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ntigu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00400" y="38088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Ciclo de Vida del Clien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diciones de la Rentabilidad del Cli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fetime Value del cliente (LT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orno (ingresos – costos)  esperado  actualiz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stomer Equity Financial Index (CEF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 clientes como ac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oncepto de Customer Equ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90720" y="2438280"/>
            <a:ext cx="70866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 Cliente es una serie de oportunidades de negocio a lo largo del tiemp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uedo verlo como un valor esperado de Gananc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mo un posible generador de utilidades, puedo llamarlo un ACTIVO. (equ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es un “activo” debiera poder calcular su valo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rabajo más bien con segmen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etime Value del Cli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 Contribución neta a lor largo del ciclo de v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o de Adquisi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TV = A -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Plan de la Se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2362320"/>
            <a:ext cx="807732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Calidad es buen Nego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os clientes leales son mas rentables que los 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mo se mide y que estrategias se siguen en un plan de lealt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Valor para el Cliente para ser un nivel mayor de entablar Rel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equeña sínte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Lock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343080" y="0"/>
          <a:ext cx="84582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0"/>
                    <a:ext cx="84582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jemplo del Cálculo de</a:t>
            </a:r>
            <a:br>
              <a:rPr sz="4400"/>
            </a:b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 Customer Equ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Número de clientes potenciales (10,0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Tasa de adquisición de clientes (0.1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Tasa de retención de clientes (0.7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sto de solicitar prospectos ($5.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Ingresos futuros ($25 a $12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Margen de contribución (45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alculando Customer Equ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533520" y="1828800"/>
          <a:ext cx="8240760" cy="4003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828800"/>
                    <a:ext cx="824076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Cómo puedo aumentar  el activo client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iendo el costo de Adquisi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mentando la tasa de captací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mentando las ventas futu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mentando u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mentado la duración del Ciclo de V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19000" y="1523880"/>
            <a:ext cx="1619280" cy="91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ntabilidad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l Cl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7720" y="4876920"/>
            <a:ext cx="1352520" cy="36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dquisi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514600" y="1371240"/>
            <a:ext cx="0" cy="4343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14600" y="4267080"/>
            <a:ext cx="5334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2362320" y="46479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5334120" y="236196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00800" y="44197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18080" y="3176640"/>
            <a:ext cx="131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arro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324120" y="4572000"/>
            <a:ext cx="1289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en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14600" y="2082960"/>
            <a:ext cx="4800600" cy="2489040"/>
          </a:xfrm>
          <a:custGeom>
            <a:avLst/>
            <a:gdLst/>
            <a:ahLst/>
            <a:rect l="l" t="t" r="r" b="b"/>
            <a:pathLst>
              <a:path w="3024" h="1568">
                <a:moveTo>
                  <a:pt x="0" y="1568"/>
                </a:moveTo>
                <a:cubicBezTo>
                  <a:pt x="612" y="816"/>
                  <a:pt x="1224" y="64"/>
                  <a:pt x="1728" y="32"/>
                </a:cubicBezTo>
                <a:cubicBezTo>
                  <a:pt x="2232" y="0"/>
                  <a:pt x="2628" y="688"/>
                  <a:pt x="3024" y="1376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14600" y="3467160"/>
            <a:ext cx="3809880" cy="1942920"/>
          </a:xfrm>
          <a:custGeom>
            <a:avLst/>
            <a:gdLst/>
            <a:ahLst/>
            <a:rect l="l" t="t" r="r" b="b"/>
            <a:pathLst>
              <a:path w="2400" h="1224">
                <a:moveTo>
                  <a:pt x="0" y="1224"/>
                </a:moveTo>
                <a:cubicBezTo>
                  <a:pt x="616" y="732"/>
                  <a:pt x="1232" y="240"/>
                  <a:pt x="1632" y="120"/>
                </a:cubicBezTo>
                <a:cubicBezTo>
                  <a:pt x="2032" y="0"/>
                  <a:pt x="2216" y="252"/>
                  <a:pt x="2400" y="50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l “mal manejo” de la Lealtad de los Clientes.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603576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he Mismanagement of Customer Loyalty, Reinartz and Kumar , HBR, 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2286000"/>
            <a:ext cx="82296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sde fines de los 90 se viene observando que los Programas de Lealtad muchas veces fallan. Reinartz y Kumar menciona las siguientes caus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dades Claves en la Relación con el Cli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828800" y="2895480"/>
            <a:ext cx="1673280" cy="82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quis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758960" y="3587760"/>
            <a:ext cx="1968480" cy="9018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730760" y="2901960"/>
            <a:ext cx="1968480" cy="9018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730760" y="4349880"/>
            <a:ext cx="1968480" cy="90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43000" y="403848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3733920" y="3352320"/>
            <a:ext cx="99036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733920" y="4038480"/>
            <a:ext cx="99036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938840" y="2270160"/>
            <a:ext cx="1555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10800" y="3870360"/>
            <a:ext cx="1571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5715000" y="38862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58280" y="3710160"/>
            <a:ext cx="1008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e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128560" y="3024360"/>
            <a:ext cx="1210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t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938480" y="4471920"/>
            <a:ext cx="1565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Rent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14640" y="5334120"/>
            <a:ext cx="2160" cy="533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dades Cla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quisi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pectar, calificar, convert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arrol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sión de no rentables en rent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en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sión de la vida del cl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quisi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anto cuesta adquirir un nuevo clien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¿Cula es el retorno de la Inversió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ales son los métodos de Adquisición mas efec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arro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ienes son los clientes menos rentabl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la 80/20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al es la mejor manera de transformar no rentables en rentabl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nta de productos cruz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Calida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133720"/>
            <a:ext cx="723888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xiste amplia evidencia que las Empresas que se asocian a CALIDAD son valoradas más que las otr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o significa que si una marca es asociada a Calidad, por ese solo hecho el mercado valora más esa marca que otra que no tenga la misma asoci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tribución del Activo Clie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819000" y="1085760"/>
          <a:ext cx="192420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9000" y="1085760"/>
                    <a:ext cx="19242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914400" y="1905120"/>
          <a:ext cx="7391520" cy="4190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1905120"/>
                    <a:ext cx="739152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ten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¿Cual es la vida del cliente promedi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vida promedio es 1/tasa de deser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¿Cómo se disminuye la probabilidad de defecció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jando el pre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jorando el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k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"/>
          <p:cNvGraphicFramePr/>
          <p:nvPr/>
        </p:nvGraphicFramePr>
        <p:xfrm>
          <a:off x="1523880" y="1447920"/>
          <a:ext cx="4248360" cy="4332240"/>
        </p:xfrm>
        <a:graphic>
          <a:graphicData uri="http://schemas.openxmlformats.org/drawingml/2006/table">
            <a:tbl>
              <a:tblPr/>
              <a:tblGrid>
                <a:gridCol w="2015640"/>
                <a:gridCol w="2017080"/>
                <a:gridCol w="216000"/>
              </a:tblGrid>
              <a:tr h="98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irm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serv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s clientes Leales cuesta menos servirl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los conocen su valor y exigen mas servicio y menos prec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s clientes leales pagan más que los otr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los sienten que merecen precios más baj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s leales atraen nuevos clientes por el boca ore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 todos los leales lo hac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228600" y="457200"/>
          <a:ext cx="8696160" cy="5925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57200"/>
                    <a:ext cx="8696160" cy="592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2057400" y="49528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igh Loss          Loss               Gain         High 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646920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aker y Jacobson, Journal of Marketing Research, May 1994, pp191-201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5715000"/>
            <a:ext cx="114300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76720" y="5715000"/>
            <a:ext cx="1371600" cy="2286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0" y="5791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O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800600" y="58672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lidad 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28600" y="1143000"/>
            <a:ext cx="845820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OTAL QUALITY MANAGEMENT, VOL. 10, NOS 4&amp;5, 1999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On measuring interactions between custo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atisfaction and Financial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JAN A. EKLÖF, PETER HACKL &amp; ANDERS WESTL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tockholm School of Economic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228600" y="668160"/>
            <a:ext cx="6109920" cy="4953240"/>
            <a:chOff x="228600" y="668160"/>
            <a:chExt cx="6109920" cy="4953240"/>
          </a:xfrm>
        </p:grpSpPr>
        <p:sp>
          <p:nvSpPr>
            <p:cNvPr id="57" name=""/>
            <p:cNvSpPr/>
            <p:nvPr/>
          </p:nvSpPr>
          <p:spPr>
            <a:xfrm>
              <a:off x="3581280" y="66816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d60093"/>
                  </a:solidFill>
                  <a:latin typeface="Times New Roman"/>
                </a:rPr>
                <a:t>CS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28600" y="324000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d60093"/>
                  </a:solidFill>
                  <a:latin typeface="Times New Roman"/>
                </a:rPr>
                <a:t>EV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866960" y="1506600"/>
              <a:ext cx="4419720" cy="4038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19800" y="1658880"/>
              <a:ext cx="0" cy="3962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1995120" y="5586480"/>
              <a:ext cx="43434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076640" y="1506600"/>
              <a:ext cx="0" cy="403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866960" y="3544920"/>
              <a:ext cx="441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571840" y="10494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Al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667400" y="10494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Baj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123920" y="203976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Al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066680" y="3849840"/>
              <a:ext cx="81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Baj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57400" y="2344680"/>
              <a:ext cx="18288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$42 Bill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362480" y="2363760"/>
              <a:ext cx="1600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$16 Bill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057400" y="4097160"/>
              <a:ext cx="1523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$12 Bill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62480" y="4097160"/>
              <a:ext cx="1523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$7 Bill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1295280" y="6078600"/>
            <a:ext cx="228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lto = 50% supe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ajo = 50% infe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86200" y="5638680"/>
            <a:ext cx="525780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VA=Ingreso Operacional después de Impto.-Costo Promedio del Capi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SI=Indice de satisfacción del cli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Lealtad y Rentabilid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2133720"/>
            <a:ext cx="761976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intuición siempre ha dictado que “es más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económico retener un cliente, que captar uno nuevo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lgunas empresas usan un número fijo (5) , para establecer esta rel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trabajo más importante fue desarrollado por  Reichheld y Sasser, publicado como “Zero defections:  Quality comes to Services”, HBR,199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533520" y="1143000"/>
          <a:ext cx="8305560" cy="4648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143000"/>
                    <a:ext cx="830556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457200" y="5943600"/>
            <a:ext cx="82296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Fuente: Reicheld y Sasser, “Zero Defections Come to Quality”, HBR, 1990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762120" y="533520"/>
          <a:ext cx="7238880" cy="525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533520"/>
                    <a:ext cx="723888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457200" y="59436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Fuente: Reicheld y Sasser, “Zero Defections Come to Quality”, HBR, 1990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6T20:55:00Z</dcterms:created>
  <dc:creator>Dii</dc:creator>
  <dc:description/>
  <dc:language>en-US</dc:language>
  <cp:lastModifiedBy>Administrador</cp:lastModifiedBy>
  <dcterms:modified xsi:type="dcterms:W3CDTF">2004-05-04T13:21:32Z</dcterms:modified>
  <cp:revision>95</cp:revision>
  <dc:subject/>
  <dc:title>Sin título de diapositiva</dc:title>
</cp:coreProperties>
</file>