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4BF4-C0D2-47E8-87CB-199F4797C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B64A-4D18-4F11-8620-3998DE13A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EE97-5DFD-4549-9D17-F6021224A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47E6-8B7D-4D7C-9902-87C3B625AE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DEEC-16F8-4F85-9144-6DF34484CF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D3F4C-3A47-4A9F-8CB6-BA325BB49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1CE0-2D0B-4058-BA28-FF6DE730B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C66C-30F9-4BED-B39D-72E6AAC80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FFB3-52BE-49D8-8194-733B9137F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EBBF-70D2-45AA-AEBC-AB3F810BC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3470E-C548-407D-A062-963CD41D6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E9494-3DF0-426C-8E02-CB48E3392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5D3B-FFA6-466A-A746-220A8F16F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58A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4A73C-E896-46AD-BADC-E0FA559C88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33520"/>
            <a:ext cx="914400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neralmente deben ser reestructuradas o eliminad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C6CE-9C29-4CD6-88A8-95AF53D53F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812D-87C2-4C2B-BF03-9FA2908386A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7CB2-266B-44F1-923E-07B6E061C22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98E1-F1AA-43C5-8D64-FB4F069CDA3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688E-E398-428A-81A4-E77D674148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15A4-4424-45C2-AC0D-BA941F7E02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0BEDD-DF6C-41FA-AEDD-4274DCCADC6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F739-2EEE-4B44-803C-8ACAD19F15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049F-177E-4742-8E6B-2591967D21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2512-66D9-4141-AC2A-F4514AF0FA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CBA5-5BB8-46DA-B411-08632D83A5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195A-F3D1-43B5-95FC-0071BA2070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4C91-707B-44C7-823D-CEA16B842D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70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1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5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8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3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BE8A-3F4B-427F-A5A2-847256DE1F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7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8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1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DF54-F776-4623-AE38-BF8DE68E8D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05-06T16:04:40Z</dcterms:modified>
  <cp:revision>402</cp:revision>
  <dc:subject/>
  <dc:title>IN58B Ingeniería de Marketing</dc:title>
</cp:coreProperties>
</file>