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CD903-CB81-4107-A0C1-4CFCF4D26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3C53F-0FB6-4F51-8E11-D00A8A5B1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99086-959D-41C0-9FF1-2EE390C30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B55A2-FA45-4161-B843-675933866A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C9FCC-DC6B-4648-84D3-F3FF57B55E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12F5F-74A6-47C5-865B-273A8916E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56184-E4B3-4F82-A613-DF080B266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D3B07-AF6A-4C2B-A5BC-A476C4F3E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8333B-EB41-4F1B-92A6-65F8E49DA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E91ED-A6DB-4F68-B72A-2C6E55D2FC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6F5B5-C90E-4897-BDA6-E6ACD419D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B6B79-E6D2-4837-A682-25DFCF475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400440"/>
            <a:ext cx="5791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F29A-68AA-4425-AA4D-E43B0857C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Verdana"/>
              </a:rPr>
              <a:t>IN58A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99"/>
                </a:solidFill>
                <a:latin typeface="Verdana"/>
              </a:rPr>
              <a:t>PRODUCTO</a:t>
            </a:r>
            <a:r>
              <a:rPr b="0" lang="es-MX" sz="5400" spc="-1" strike="noStrike">
                <a:solidFill>
                  <a:srgbClr val="ff6699"/>
                </a:solidFill>
                <a:latin typeface="Verdana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Bosch&amp;Yo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76320" y="1278000"/>
          <a:ext cx="891540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8000"/>
                    <a:ext cx="89154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74840" y="30492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86F94-B405-463D-9AA9-E2A6E45BFE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33520"/>
            <a:ext cx="9144000" cy="60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707000"/>
                </a:solidFill>
                <a:latin typeface="Arial"/>
              </a:rPr>
              <a:t>Estrella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lta participación relativa en el merca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rcado de alto crecimi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randes cantidades de efectivo para financiar el crecimi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tilidades significativ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707000"/>
                </a:solidFill>
                <a:latin typeface="Arial"/>
              </a:rPr>
              <a:t>Signos de Interrogació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rcados creciendo rápidame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mandan grandes cantidades de efectivo para financiar su crecimi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eneradores débiles de efect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empresa debe evaluar si sigue invirtiendo en éste negoc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707000"/>
                </a:solidFill>
                <a:latin typeface="Arial"/>
              </a:rPr>
              <a:t>Vacas Lechera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lta participación en el merca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eneran más efectivo del que necesitan para su crecimiento en el merca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ueden usarse para crear o desarrollar otros negoci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árgenes de utilidad al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707000"/>
                </a:solidFill>
                <a:latin typeface="Arial"/>
              </a:rPr>
              <a:t>Perr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ueden generar pocas utilidades o a veces pérdid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eneralmente deben ser reestructuradas o eliminad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9853B-0A5A-42F3-B3CC-189DB38B80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a “Ley”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oston Consulting Grou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l costo unitario del valor añadido de un producto homogéneo, medido en unidades monetarias constantes disminuye en un porcentaje fijo y previsible cada vez que la producción acumulada se duplica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A66B8-B911-42DB-A4DA-A561C8F69E4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ey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xperiencia=volumen acumulado de     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fecto experiencia =  costos valor agregad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sto en valor rea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xperiencia es mas importante en el arran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F6610-7031-4457-B978-3B064D66C9A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Causas del efecto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ficiencia del Trabajo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standariz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uevos procedimientos de fabric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ejoras en recursos utiliz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diseño del produc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2B2F7-CDC5-4170-B811-92747967C4E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Formulación Matemátic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=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 *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(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/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)**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p= Costo unitario previ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b = Costo unitario ba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Q = Volumen acumulado de produc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= elasticidad del co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1BD3B-A978-4224-8519-71409CB9EDD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172200" y="198108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0,514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324120" y="2514600"/>
            <a:ext cx="228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23320" y="976320"/>
            <a:ext cx="221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ndiente de experi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0,70 (Cp/C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4A7BE-6363-40D3-891A-97BE907FAE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Implicancia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mpresa que acumula la mayor producción tendrá los costos men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s empresas tienen interés en desarrollarse para descender lo más rápidamente posible por la curva de experienc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l objetivo es crecer más rápido que los competid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pecialmente al principi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egias de Penetra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E500B-FFBA-4199-AF14-34A6FDAA3F5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ímit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aja predictibilidad en Productos de poco valor agregad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o considera la diferenci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ambios tecnológic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BDE95-35E2-4F67-88CA-DDCC946FAC1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No confundir experiencia con economía de escal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UN PRODUCTO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LO QUE VENDE LA EMPRESA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EN QUÉ NEGOCIO ESTÁ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993FF-912C-48AD-ABC6-253B3F1E15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egún Charles Revson , presidente de la empresa de cosmética Revl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N LA FÁBRICA HACEMOS COSMÉTICOS; EN LA TIENDA, VENDEMOS ESPERANZA”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CONSUMIDORES NO COMPRAN PRODUCTOS; ADQUIEREN LA ESPERANZA DE CONSEGUIR BENEFICIOS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467BF-5200-4521-8DBA-A3A9572A25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PRODUCTO AUMENTADO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0" y="1371600"/>
            <a:ext cx="266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Times New Roman"/>
              </a:rPr>
              <a:t>ASPECTOS AÑAD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Producto “aument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ÁS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35120" y="2286000"/>
            <a:ext cx="266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ASPECTOS FO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Producto “intangi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          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2247120" y="35143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5921640" y="349272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nv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24920" y="4267080"/>
            <a:ext cx="132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stilo</a:t>
            </a:r>
            <a:r>
              <a:rPr b="0" lang="es-ES_tradnl" sz="1400" spc="-1" strike="noStrike">
                <a:solidFill>
                  <a:srgbClr val="808080"/>
                </a:solidFill>
                <a:latin typeface="Times New Roman"/>
              </a:rPr>
              <a:t>/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44920" y="5127480"/>
            <a:ext cx="4506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Servicio posventa                          Fina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-166680" y="3306600"/>
            <a:ext cx="313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Entrega                         Garant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6319440" y="3096720"/>
            <a:ext cx="34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imes New Roman"/>
              </a:rPr>
              <a:t>Instalación</a:t>
            </a: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             Manten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65640" y="5772240"/>
            <a:ext cx="268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 salud de LP de muchas compañías está relacionada con su capacidad de 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mportan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iesgosa y costos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37CB3-7F3A-4F60-9613-4B02CF920D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ificultad del Desarrollo de Productos nuevos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Fragmentación mercad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soci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gubernament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VP más cort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1F6AB-FB06-4B51-8899-341169050E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9044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&amp;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petidores (Benchmarking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presentante de Vent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Directiv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tros (consultores, agencias, laboratorios universitarios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Fuente de Generación de Idea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216D6-7BA6-4199-B0F6-9F34F58925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70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809880" y="3581280"/>
            <a:ext cx="1524240" cy="457200"/>
            <a:chOff x="3809880" y="3581280"/>
            <a:chExt cx="1524240" cy="457200"/>
          </a:xfrm>
        </p:grpSpPr>
        <p:sp>
          <p:nvSpPr>
            <p:cNvPr id="81" name=""/>
            <p:cNvSpPr/>
            <p:nvPr/>
          </p:nvSpPr>
          <p:spPr>
            <a:xfrm>
              <a:off x="4114800" y="3581280"/>
              <a:ext cx="114300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09880" y="3616200"/>
              <a:ext cx="1524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 flipH="1">
            <a:off x="4038120" y="40384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048120" y="4419720"/>
            <a:ext cx="1523880" cy="457200"/>
            <a:chOff x="3048120" y="4419720"/>
            <a:chExt cx="1523880" cy="457200"/>
          </a:xfrm>
        </p:grpSpPr>
        <p:sp>
          <p:nvSpPr>
            <p:cNvPr id="85" name=""/>
            <p:cNvSpPr/>
            <p:nvPr/>
          </p:nvSpPr>
          <p:spPr>
            <a:xfrm>
              <a:off x="3352680" y="441972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48120" y="445464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 NUE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495680" y="2666880"/>
            <a:ext cx="1524240" cy="914400"/>
            <a:chOff x="4495680" y="2666880"/>
            <a:chExt cx="1524240" cy="914400"/>
          </a:xfrm>
        </p:grpSpPr>
        <p:sp>
          <p:nvSpPr>
            <p:cNvPr id="88" name=""/>
            <p:cNvSpPr/>
            <p:nvPr/>
          </p:nvSpPr>
          <p:spPr>
            <a:xfrm flipV="1">
              <a:off x="4724280" y="320040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495680" y="2666880"/>
              <a:ext cx="1524240" cy="457200"/>
              <a:chOff x="4495680" y="2666880"/>
              <a:chExt cx="1524240" cy="457200"/>
            </a:xfrm>
          </p:grpSpPr>
          <p:sp>
            <p:nvSpPr>
              <p:cNvPr id="90" name=""/>
              <p:cNvSpPr/>
              <p:nvPr/>
            </p:nvSpPr>
            <p:spPr>
              <a:xfrm>
                <a:off x="4800600" y="2666880"/>
                <a:ext cx="114300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495680" y="2701800"/>
                <a:ext cx="152424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" name=""/>
          <p:cNvGrpSpPr/>
          <p:nvPr/>
        </p:nvGrpSpPr>
        <p:grpSpPr>
          <a:xfrm>
            <a:off x="3352680" y="4038480"/>
            <a:ext cx="1752840" cy="990720"/>
            <a:chOff x="3352680" y="4038480"/>
            <a:chExt cx="1752840" cy="990720"/>
          </a:xfrm>
        </p:grpSpPr>
        <p:sp>
          <p:nvSpPr>
            <p:cNvPr id="93" name=""/>
            <p:cNvSpPr/>
            <p:nvPr/>
          </p:nvSpPr>
          <p:spPr>
            <a:xfrm flipH="1">
              <a:off x="4038120" y="4038480"/>
              <a:ext cx="38124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52680" y="4191120"/>
              <a:ext cx="175284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22D96-DA4D-40CB-9472-2E93719289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97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3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971800" y="4495680"/>
            <a:ext cx="1523880" cy="457200"/>
            <a:chOff x="2971800" y="4495680"/>
            <a:chExt cx="1523880" cy="457200"/>
          </a:xfrm>
        </p:grpSpPr>
        <p:sp>
          <p:nvSpPr>
            <p:cNvPr id="108" name=""/>
            <p:cNvSpPr/>
            <p:nvPr/>
          </p:nvSpPr>
          <p:spPr>
            <a:xfrm>
              <a:off x="3276360" y="449568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71800" y="453060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657600" y="3581280"/>
            <a:ext cx="1523880" cy="914400"/>
            <a:chOff x="3657600" y="3581280"/>
            <a:chExt cx="1523880" cy="914400"/>
          </a:xfrm>
        </p:grpSpPr>
        <p:sp>
          <p:nvSpPr>
            <p:cNvPr id="111" name=""/>
            <p:cNvSpPr/>
            <p:nvPr/>
          </p:nvSpPr>
          <p:spPr>
            <a:xfrm flipV="1">
              <a:off x="3885840" y="4114800"/>
              <a:ext cx="456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657600" y="3581280"/>
              <a:ext cx="1523880" cy="457200"/>
              <a:chOff x="3657600" y="3581280"/>
              <a:chExt cx="1523880" cy="457200"/>
            </a:xfrm>
          </p:grpSpPr>
          <p:sp>
            <p:nvSpPr>
              <p:cNvPr id="113" name=""/>
              <p:cNvSpPr/>
              <p:nvPr/>
            </p:nvSpPr>
            <p:spPr>
              <a:xfrm>
                <a:off x="3962160" y="3581280"/>
                <a:ext cx="114264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657600" y="3616200"/>
                <a:ext cx="152388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58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E8A16-7A31-4CA0-B92C-6A22402347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Administrador</cp:lastModifiedBy>
  <dcterms:modified xsi:type="dcterms:W3CDTF">2004-05-06T16:04:40Z</dcterms:modified>
  <cp:revision>402</cp:revision>
  <dc:subject/>
  <dc:title>IN58B Ingeniería de Marketing</dc:title>
</cp:coreProperties>
</file>