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BC36-C783-4B00-951A-45ECE147C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360F-ABEC-4E94-80D7-A2EC75FD4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05B8-DD90-4B9F-87FE-F5BB6511E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AA5B-2681-4F5F-96E9-BBBB3ACB5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6A70-F562-4755-AEF3-AE61DD67C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38C4-A3CF-45D7-B115-B4CBB64A9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B1C5-7F46-4D34-98A2-4908876CF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ABE9-0A83-4823-ADB9-03EEAB1B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5216-33D5-4B4D-B8F2-89CD2AC46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2B27-4497-4CFC-BBE8-9DD62D3CB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1EEC-D1A8-4204-B23A-2FC2E1EFC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10F5-DBFE-4D02-A7A0-1AD1F0385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7F0C-A4FD-425A-9A20-96EA381C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3DF7-D2F9-4AFA-AD58-F4601699A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lmente deben ser reestructuradas o elimina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F72D-E724-44CA-9F8D-9E68C74656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5CDC-8C40-49B4-87FC-F43C4D4BE4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5628-F7E5-463D-AE4A-190D0CE4F4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317E-8AE8-4E80-BAF7-B160B169A6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C6FD-5802-4C9F-B12A-93A40DECE8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81C0-7F95-40BA-9E4C-F816DE174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43CD-0FCA-40A3-A72B-A55DDE14BE2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094A-FB57-49B8-9C26-E33A6D2CE9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A776-1FE5-4B65-8C2F-E038002E5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B9B3-C043-4C56-BF49-D8D93FF05A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51D2-1DC1-4A71-A0F4-8F68658DEF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B0EA-8E5C-4167-A753-9CD6BA9DA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848E-88B4-4045-8132-5DF4FA73D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DA210-22FC-4452-A05B-4632708C4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35C5-FC28-45B3-B8EF-0040B8719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5-06T16:04:40Z</dcterms:modified>
  <cp:revision>402</cp:revision>
  <dc:subject/>
  <dc:title>IN58B Ingeniería de Marketing</dc:title>
</cp:coreProperties>
</file>