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4EF-6A86-4DF5-8429-0849BB6170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C1A-E239-4114-9430-20019F1825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7.5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Data-to-Process-CRUD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 to include or not include attributes is based on whether processes need to be restricted as to which attributes they can ac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2-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5AC-CFE7-483E-8751-F7D0F119F7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6EF1-9A53-4204-ACCC-D2FE3E6EA0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notes 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2-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4183-D154-4C8E-BE4D-2E34686E7E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notes 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2-2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1E5-FAE2-4B77-BC4F-495F2AAB6E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343224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273-2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C0E3-B13F-4DC3-96DB-985B126DD7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F3971-ED2D-4294-8700-00CFAA2F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05D17-DA60-4028-949E-5789050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B2634-F109-484C-BB3A-AA8EDE92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B3A18-AA15-44CE-8A89-C758EB9A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0F9FA-4090-4B78-B8BD-DDB0938A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22F6-F87D-4E57-B2E0-CA030BB9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CF53-DF97-4729-B173-308F80E2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98250-79AC-4E72-95DA-FF0B962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8E0C7-7C6A-4369-B9FA-BEAF9D6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9D819-7A38-421D-8A3E-757A218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EBF82-D288-42CA-921E-8D9AA01A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0A56D-3C96-4360-8FED-E0C428DC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923A-718A-465F-BD75-297191552A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62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Sincroniz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Una Herramienta de Verificación del Diseñ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0000" y="4005360"/>
            <a:ext cx="746784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036800" y="22827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27160" y="19018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36800" y="55594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89880" y="16732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36800" y="266400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6800" y="304488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6800" y="34257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6800" y="38829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6800" y="43401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6800" y="47973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36800" y="517860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44640" y="18669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4156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108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518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05840" y="159696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(SP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29200" y="18669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6520" y="56358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,R,U ó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3041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letitud: existen entidades que no tienen procesos CRUD asocia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cción: existen procesos (en el SPD) que no utilizan datos del mod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consistencia (1): existen procesos que usan datos (entidad/atributo) innec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consistencia (2): existen procesos que operan sobre datos no existentes en el mode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cadena de retail desea sincronizar su modelo de datos de clientes y sus procesos automatizados (SPD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modelo de datos posee cliente, orden, producto ordenado y produ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procesos (SPD) posee los procesos de postulación al registro de clientes, crédito, cambio de dirección, cambio interno de crédito, orden de nuevos clientes, cancelación de orden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87680" y="5405400"/>
            <a:ext cx="1300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5362560"/>
            <a:ext cx="76320" cy="84240"/>
          </a:xfrm>
          <a:custGeom>
            <a:avLst/>
            <a:gdLst/>
            <a:ahLst/>
            <a:rect l="l" t="t" r="r" b="b"/>
            <a:pathLst>
              <a:path w="27" h="30">
                <a:moveTo>
                  <a:pt x="27" y="0"/>
                </a:moveTo>
                <a:lnTo>
                  <a:pt x="0" y="15"/>
                </a:lnTo>
                <a:lnTo>
                  <a:pt x="27" y="30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26000" y="5362560"/>
            <a:ext cx="87120" cy="874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27280" y="5364000"/>
            <a:ext cx="1800" cy="8100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141720"/>
            <a:ext cx="1440" cy="155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79960" y="3181320"/>
            <a:ext cx="8100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0" y="0"/>
                </a:moveTo>
                <a:lnTo>
                  <a:pt x="2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77080" y="4618080"/>
            <a:ext cx="85680" cy="7632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27"/>
                </a:moveTo>
                <a:lnTo>
                  <a:pt x="15" y="0"/>
                </a:lnTo>
                <a:lnTo>
                  <a:pt x="0" y="27"/>
                </a:lnTo>
                <a:lnTo>
                  <a:pt x="1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79960" y="4578480"/>
            <a:ext cx="81000" cy="1440"/>
          </a:xfrm>
          <a:custGeom>
            <a:avLst/>
            <a:gdLst/>
            <a:ahLst/>
            <a:rect l="l" t="t" r="r" b="b"/>
            <a:pathLst>
              <a:path w="28" h="0">
                <a:moveTo>
                  <a:pt x="28" y="0"/>
                </a:moveTo>
                <a:lnTo>
                  <a:pt x="0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11480" y="2630520"/>
            <a:ext cx="2112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51080" y="2590920"/>
            <a:ext cx="1800" cy="8100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2587680"/>
            <a:ext cx="75960" cy="85680"/>
          </a:xfrm>
          <a:custGeom>
            <a:avLst/>
            <a:gdLst/>
            <a:ahLst/>
            <a:rect l="l" t="t" r="r" b="b"/>
            <a:pathLst>
              <a:path w="27" h="30">
                <a:moveTo>
                  <a:pt x="27" y="0"/>
                </a:moveTo>
                <a:lnTo>
                  <a:pt x="0" y="15"/>
                </a:lnTo>
                <a:lnTo>
                  <a:pt x="27" y="30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2680" y="2587680"/>
            <a:ext cx="87120" cy="889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2840" y="2016000"/>
            <a:ext cx="1630080" cy="1233720"/>
          </a:xfrm>
          <a:prstGeom prst="roundRect">
            <a:avLst>
              <a:gd name="adj" fmla="val 1663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19560" y="2049480"/>
            <a:ext cx="118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8840" y="2120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19560" y="2368440"/>
            <a:ext cx="110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Customer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19200" y="2529000"/>
            <a:ext cx="100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stomer Na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9200" y="2687760"/>
            <a:ext cx="111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hipping 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9200" y="2847960"/>
            <a:ext cx="96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illing 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8840" y="30067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alance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4320" y="2060640"/>
            <a:ext cx="1595520" cy="1081080"/>
          </a:xfrm>
          <a:prstGeom prst="roundRect">
            <a:avLst>
              <a:gd name="adj" fmla="val 166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60320" y="20955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60680" y="2166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1040" y="2414520"/>
            <a:ext cx="85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Order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61040" y="257328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 Da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61040" y="273384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 Total Co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19200" y="4875120"/>
            <a:ext cx="1971720" cy="1062000"/>
          </a:xfrm>
          <a:prstGeom prst="roundRect">
            <a:avLst>
              <a:gd name="adj" fmla="val 1662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7000" y="4908600"/>
            <a:ext cx="168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VENTORY PRODU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55560" y="4979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6280" y="522756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Product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55920" y="538812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 Na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56640" y="5546880"/>
            <a:ext cx="149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 Unit of Measu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56280" y="5707080"/>
            <a:ext cx="110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uct Uni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4703760"/>
            <a:ext cx="2070000" cy="101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1680" y="4800600"/>
            <a:ext cx="174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RDERED PRODU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9000" y="4889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5137200"/>
            <a:ext cx="116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Ordered Product 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160" y="5334120"/>
            <a:ext cx="107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Quantity Orde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486400"/>
            <a:ext cx="160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nit Price at Time of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160" y="26668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has 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520" y="373392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5480" y="548640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old 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381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squema Gener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533520"/>
          <a:ext cx="4116240" cy="564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411624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cliente coloca una orden, la cual es proces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proceso puede ser realizado para diferentes tipo de orde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Procesos en el SP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33720" y="1773360"/>
          <a:ext cx="4454280" cy="43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73360"/>
                    <a:ext cx="445428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1752480"/>
          <a:ext cx="7113600" cy="434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1360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Matriz CRU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-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37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columnas se ordenan las localizaciones existe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filas se ordenan las funciones o procesos (especialmente de último nivel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os elementos corresponden a la distribución de cada función o proceso (E – R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Una última columna se usa para la consistencia (debe incluir un E y R), y una última fila debe incluir a lo menos un elemento E o 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2827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9018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559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16732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6640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04488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34257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38829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3401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79736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51786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000" y="18255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2054160"/>
            <a:ext cx="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3160" y="159696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iz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29760" y="18669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 y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7440" y="5589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367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xisten localizaciones que no tienen procesos o funciones asociad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xisten procesos o funciones que no tienen asociada una E – R en el model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xisten responsabilidades (dos o más) en diferentes localizaciones (¿coordinar?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rminos bás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rificación corresponde a que el modelo sea lo que se quiere que s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alidación corresponde a que el modelo es factible con respecto a los objetivos formul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aluación es un juicio de valor en términos de la calidad del 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716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12840" y="2133720"/>
          <a:ext cx="8524800" cy="396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840" y="2133720"/>
                    <a:ext cx="8524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- Distribu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atos -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modelo de datos describe los requerimientos de datos almacenados y el de distribución los lugares de ope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objetivo es identificar qué dato(s) es ocupado(s) en qué localiz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íficamente, las siguientes preguntas podrían ser respondid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Cuál subconjunto de entidades y atributos son necesarios para realizar el trabajo en cada localizació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Qué nivel de acceso es requerid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Puede una localización crear (C), leer (R), borrar (D) o actualizar (U) las instancias de una entida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atos y Distribución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analista debe desarrollar la sincronización mediante una matriz Datos-a-Localización-CR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a matriz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atos-a-Localización-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CR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una tabla de dos entradas en las que sus filas indican entidades (y posiblemente atributos) y las columnas indican las localizaciones. La intersección (celdas) indican las operaciones sobre los datos, donde: C = create, R = read or use, U = update or modify, and D = delete or deact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1600" y="1143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1700280"/>
          <a:ext cx="709596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00280"/>
                    <a:ext cx="70959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atos-a-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diseño presenta varias visiones (funciones/procesos, datos y distribución) que requieren ser unific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necesario verificar, validar y evaluar la solución provista en el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e tipo de mecanismos es necesario para asegurar un correcto diseño y su adecuada especificación de requerimien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datos, procesos y distribución representan diferentes visiones de un mismo sistema, y por lo tanto deben ser consist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diseñador debe sincronizar las diferentes visiones para asegurar la consistencia y complementariedad de la especificación total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erificación por 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objetivo corresponde a verificar y corregir las inconsistencias entre los requerimientos establecidos en un par de visiones del diseñ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ra ello se revisan la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visiones (procesos, datos y distribución) con sus cruces posibles (en este caso 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34200" y="3008160"/>
            <a:ext cx="18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nego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89640" y="3851280"/>
            <a:ext cx="2032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90000" y="5013360"/>
            <a:ext cx="25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mputa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2984400"/>
            <a:ext cx="3032280" cy="283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3971880"/>
            <a:ext cx="303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0240" y="4886280"/>
            <a:ext cx="303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97200" y="2976480"/>
            <a:ext cx="0" cy="285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1680" y="2990880"/>
            <a:ext cx="0" cy="280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70028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4320" y="18604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3160" y="2174760"/>
            <a:ext cx="192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11400" y="2290680"/>
            <a:ext cx="0" cy="46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82760" y="2343240"/>
            <a:ext cx="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21120" y="3448080"/>
            <a:ext cx="547560" cy="23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44880" y="4457880"/>
            <a:ext cx="6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44880" y="5349960"/>
            <a:ext cx="60012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3480" y="261000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2840" y="5276880"/>
            <a:ext cx="0" cy="71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1920" y="44337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9360" y="4552920"/>
            <a:ext cx="3348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01920" y="35193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01920" y="542448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0840" y="35193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7160" y="44337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6160" y="53481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44920" y="35193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4920" y="443376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44920" y="5424480"/>
            <a:ext cx="98604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9360" y="3486240"/>
            <a:ext cx="3348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87800" y="356220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87800" y="455292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30800" y="447660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30800" y="3486240"/>
            <a:ext cx="33120" cy="87156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463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44607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375160"/>
            <a:ext cx="985680" cy="0"/>
          </a:xfrm>
          <a:prstGeom prst="line">
            <a:avLst/>
          </a:prstGeom>
          <a:ln w="50760">
            <a:solidFill>
              <a:srgbClr val="0005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Sincronización en la Arquitectu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3 matrices de sincronización (datos – proceso, datos – distribución, procesos – distribució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cada fila se ordenan loe elementos de una dimensión y las columnas representan los elementos de la otra dimens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atos -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be existir un almacenamiento de datos en el SPD para cada entidad - atributo del mode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ben existir los procedimientos adecuados para mantener cada entidad del modelo (Crear, Leer, Actualizar y Borrar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a calidad de la sincronización es establecida com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114ffb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Cada entidad debe tener al menos un C (crear), un R (leer), un U (actualizar), y un D (borrar) para la completitud del sistema. En caso contrario, uno o más procesos han sido omitidos desde el modelo de procesos (SPD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114ffb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Más importante es que los usuarios y administradores deben validar que todos los posibles Crear (C), Leer (R), Actualizar (U) y Borrar (D) han sido incl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Sincron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filas se ordenan las entidades y sus atribut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las columnas se ordenan los procesos de automatización (SPD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os elementos corresponden a las operaciones que un proceso efectúa sobre los diferentes datos (C, R, U y/o D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Una última columna se usa para la consistencia (debe incluir un CRUD), y una última fila debe incluir a lo menos un elemento CRU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6-09T01:46:51Z</dcterms:modified>
  <cp:revision>104</cp:revision>
  <dc:subject/>
  <dc:title>Introducción al Análisis de los Sistemas de Información Administrativos</dc:title>
</cp:coreProperties>
</file>