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F087-3E45-44E3-A82A-ABB8C8BFE1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8F7C-C9CB-4AB0-999B-7F10316B28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0A41-9786-4F4C-8BAB-B3BEDEDDAE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77ACE-CBB0-4DC5-874D-FC7353A9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015FF-2E40-4DA9-8D3F-C6A2DCE4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2A32A-157A-4411-8A28-CC75CCFD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F0913-3F07-4826-88C7-7B3E1CF6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6D244-B0E8-42D6-968B-38B9B527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15462-CD75-4094-B6A7-CE1DA2B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4EFA3-A3A1-41BC-853E-297DDD81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E7015-7F21-4EFC-AAD1-A657E3FF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DD791-5EAB-4533-8A9C-B103259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B07A0-6E19-41EC-A267-5554395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56135-8D5A-4CE2-B966-11F8DEDB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8573B-43DB-403C-AD40-C5B13452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0BF0-D14E-49C5-95E5-5CED01BE50B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áctica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áctic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310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Práctica de Trabajo es la </a:t>
            </a: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form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cómo se ejecuta una actividad de gest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cluye: políticas, normas, reglas o procedimientos, metodologías y recursos asoci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uede estar escrita o no en términos de form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ácticas de Trabaj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040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n 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llevan a cabo las actividad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asociar a metodologías y proced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ejemplo, en Marketing y Ventas tenemos la actividad Pronóstico de Venta. Este pronóstico puede realizar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base al criterio del gerente de á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eries de tiempo en base a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óricas, considerando varios fac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corr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3789360"/>
            <a:ext cx="2133720" cy="1219320"/>
          </a:xfrm>
          <a:prstGeom prst="leftArrow">
            <a:avLst>
              <a:gd name="adj1" fmla="val 50000"/>
              <a:gd name="adj2" fmla="val 43748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rá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la aplicación novedosa de prácticas de procesos, tecnología o personas para realizar un trabajo específico en un determinado contexto de negocio que mejora la efectividad y/o eficiencia de una organización y genera resultados significantes y medibles que podría mejorar el desempeño en el fut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 (MP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31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mejor práctica de trabajo es aquella que ha mostrado de manera sistemática que logra los mejores resultados (valor agregad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ser evaluada en forma objetiva o subjetiva (juicios fundad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 necesariamente se encuentra en un sector determin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a fuertemente asociada al uso de tecnología moder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Por qué las mejores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446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factibl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“el mejor”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alidación del mode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ejores prácticas o diseño desde lo n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832360" y="2254320"/>
            <a:ext cx="2845440" cy="3337200"/>
            <a:chOff x="5832360" y="2254320"/>
            <a:chExt cx="2845440" cy="3337200"/>
          </a:xfrm>
        </p:grpSpPr>
        <p:sp>
          <p:nvSpPr>
            <p:cNvPr id="128" name=""/>
            <p:cNvSpPr/>
            <p:nvPr/>
          </p:nvSpPr>
          <p:spPr>
            <a:xfrm flipV="1">
              <a:off x="6086520" y="2301480"/>
              <a:ext cx="0" cy="284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86520" y="5151240"/>
              <a:ext cx="240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07400" y="3164040"/>
              <a:ext cx="1679040" cy="1998720"/>
            </a:xfrm>
            <a:custGeom>
              <a:avLst/>
              <a:gdLst/>
              <a:ahLst/>
              <a:rect l="l" t="t" r="r" b="b"/>
              <a:pathLst>
                <a:path w="1585" h="1527">
                  <a:moveTo>
                    <a:pt x="0" y="0"/>
                  </a:moveTo>
                  <a:cubicBezTo>
                    <a:pt x="87" y="25"/>
                    <a:pt x="168" y="42"/>
                    <a:pt x="256" y="64"/>
                  </a:cubicBezTo>
                  <a:cubicBezTo>
                    <a:pt x="289" y="82"/>
                    <a:pt x="320" y="89"/>
                    <a:pt x="356" y="101"/>
                  </a:cubicBezTo>
                  <a:cubicBezTo>
                    <a:pt x="395" y="205"/>
                    <a:pt x="364" y="292"/>
                    <a:pt x="384" y="412"/>
                  </a:cubicBezTo>
                  <a:cubicBezTo>
                    <a:pt x="388" y="438"/>
                    <a:pt x="439" y="456"/>
                    <a:pt x="457" y="467"/>
                  </a:cubicBezTo>
                  <a:cubicBezTo>
                    <a:pt x="486" y="484"/>
                    <a:pt x="536" y="539"/>
                    <a:pt x="567" y="549"/>
                  </a:cubicBezTo>
                  <a:cubicBezTo>
                    <a:pt x="669" y="582"/>
                    <a:pt x="780" y="563"/>
                    <a:pt x="887" y="567"/>
                  </a:cubicBezTo>
                  <a:cubicBezTo>
                    <a:pt x="908" y="572"/>
                    <a:pt x="943" y="578"/>
                    <a:pt x="960" y="595"/>
                  </a:cubicBezTo>
                  <a:cubicBezTo>
                    <a:pt x="991" y="627"/>
                    <a:pt x="1000" y="668"/>
                    <a:pt x="1024" y="704"/>
                  </a:cubicBezTo>
                  <a:cubicBezTo>
                    <a:pt x="1026" y="755"/>
                    <a:pt x="1014" y="976"/>
                    <a:pt x="1051" y="1061"/>
                  </a:cubicBezTo>
                  <a:cubicBezTo>
                    <a:pt x="1054" y="1069"/>
                    <a:pt x="1065" y="1072"/>
                    <a:pt x="1070" y="1079"/>
                  </a:cubicBezTo>
                  <a:cubicBezTo>
                    <a:pt x="1131" y="1155"/>
                    <a:pt x="1184" y="1147"/>
                    <a:pt x="1262" y="1180"/>
                  </a:cubicBezTo>
                  <a:cubicBezTo>
                    <a:pt x="1315" y="1202"/>
                    <a:pt x="1361" y="1233"/>
                    <a:pt x="1417" y="1244"/>
                  </a:cubicBezTo>
                  <a:cubicBezTo>
                    <a:pt x="1477" y="1279"/>
                    <a:pt x="1576" y="1324"/>
                    <a:pt x="1582" y="1408"/>
                  </a:cubicBezTo>
                  <a:cubicBezTo>
                    <a:pt x="1585" y="1448"/>
                    <a:pt x="1582" y="1487"/>
                    <a:pt x="1582" y="15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76840" y="52232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2360" y="2254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1000" y="538812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0520" y="485388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50880" y="3844800"/>
              <a:ext cx="1440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6520" y="35474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6520" y="390384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86520" y="420084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86520" y="45568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6520" y="4912920"/>
              <a:ext cx="16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3310560"/>
              <a:ext cx="38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4863200">
              <a:off x="6221160" y="4965840"/>
              <a:ext cx="771120" cy="191520"/>
            </a:xfrm>
            <a:custGeom>
              <a:avLst/>
              <a:gdLst>
                <a:gd name="textAreaLeft" fmla="*/ 135000 w 771120"/>
                <a:gd name="textAreaRight" fmla="*/ 559080 w 771120"/>
                <a:gd name="textAreaTop" fmla="*/ 25560 h 191520"/>
                <a:gd name="textAreaBottom" fmla="*/ 165960 h 1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1200" y="51631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8449400">
              <a:off x="5763960" y="4084920"/>
              <a:ext cx="1408320" cy="278280"/>
            </a:xfrm>
            <a:custGeom>
              <a:avLst/>
              <a:gdLst>
                <a:gd name="textAreaLeft" fmla="*/ 246240 w 1408320"/>
                <a:gd name="textAreaRight" fmla="*/ 1020960 w 1408320"/>
                <a:gd name="textAreaTop" fmla="*/ 37080 h 278280"/>
                <a:gd name="textAreaBottom" fmla="*/ 24120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58920" y="342324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Dónde observo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a en el modelo de la caden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408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99"/>
                </a:solidFill>
                <a:latin typeface="Tahoma"/>
              </a:rPr>
              <a:t>Algunas Actividades de la Cadena de Val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381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ística de Entrada y 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flota (medio, cuantos, rutas, fluj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degas (ubicación, tamañ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ción de l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equip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nósticos de venta, Análisi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productos y campañ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a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 de Post V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ención telef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cuadril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atación y subcontra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prov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y/o utilización de nueva tecnolog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99"/>
                </a:solidFill>
                <a:latin typeface="Tahoma"/>
              </a:rPr>
              <a:t>Actividades de la Cadena de Valor ..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133720"/>
            <a:ext cx="2133720" cy="10666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m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3505320"/>
            <a:ext cx="213372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s versus prác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41520" y="1790640"/>
            <a:ext cx="6028200" cy="4401360"/>
            <a:chOff x="1541520" y="1790640"/>
            <a:chExt cx="6028200" cy="4401360"/>
          </a:xfrm>
        </p:grpSpPr>
        <p:sp>
          <p:nvSpPr>
            <p:cNvPr id="157" name=""/>
            <p:cNvSpPr/>
            <p:nvPr/>
          </p:nvSpPr>
          <p:spPr>
            <a:xfrm>
              <a:off x="2149560" y="1790640"/>
              <a:ext cx="147600" cy="3786120"/>
            </a:xfrm>
            <a:custGeom>
              <a:avLst/>
              <a:gdLst/>
              <a:ahLst/>
              <a:rect l="l" t="t" r="r" b="b"/>
              <a:pathLst>
                <a:path w="93" h="2385">
                  <a:moveTo>
                    <a:pt x="37" y="2385"/>
                  </a:moveTo>
                  <a:lnTo>
                    <a:pt x="37" y="82"/>
                  </a:lnTo>
                  <a:lnTo>
                    <a:pt x="55" y="82"/>
                  </a:lnTo>
                  <a:lnTo>
                    <a:pt x="55" y="2385"/>
                  </a:lnTo>
                  <a:lnTo>
                    <a:pt x="37" y="2385"/>
                  </a:lnTo>
                  <a:close/>
                  <a:moveTo>
                    <a:pt x="0" y="93"/>
                  </a:moveTo>
                  <a:lnTo>
                    <a:pt x="46" y="0"/>
                  </a:lnTo>
                  <a:lnTo>
                    <a:pt x="93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49560" y="5351400"/>
              <a:ext cx="5105160" cy="149400"/>
            </a:xfrm>
            <a:custGeom>
              <a:avLst/>
              <a:gdLst/>
              <a:ahLst/>
              <a:rect l="l" t="t" r="r" b="b"/>
              <a:pathLst>
                <a:path w="3216" h="94">
                  <a:moveTo>
                    <a:pt x="0" y="38"/>
                  </a:moveTo>
                  <a:lnTo>
                    <a:pt x="3132" y="38"/>
                  </a:lnTo>
                  <a:lnTo>
                    <a:pt x="3132" y="56"/>
                  </a:lnTo>
                  <a:lnTo>
                    <a:pt x="0" y="56"/>
                  </a:lnTo>
                  <a:lnTo>
                    <a:pt x="0" y="38"/>
                  </a:lnTo>
                  <a:close/>
                  <a:moveTo>
                    <a:pt x="3123" y="0"/>
                  </a:moveTo>
                  <a:lnTo>
                    <a:pt x="3216" y="47"/>
                  </a:lnTo>
                  <a:lnTo>
                    <a:pt x="3123" y="94"/>
                  </a:lnTo>
                  <a:lnTo>
                    <a:pt x="31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190520" y="2314800"/>
              <a:ext cx="991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ác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3760" y="578484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01520" y="46926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55720" y="39369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55720" y="43797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9960" y="3044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09960" y="36320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95680" y="40831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2840" y="40068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35280" y="2228760"/>
              <a:ext cx="2079720" cy="1346400"/>
            </a:xfrm>
            <a:custGeom>
              <a:avLst/>
              <a:gdLst/>
              <a:ahLst/>
              <a:rect l="l" t="t" r="r" b="b"/>
              <a:pathLst>
                <a:path w="1310" h="848">
                  <a:moveTo>
                    <a:pt x="715" y="9"/>
                  </a:moveTo>
                  <a:lnTo>
                    <a:pt x="697" y="8"/>
                  </a:lnTo>
                  <a:lnTo>
                    <a:pt x="696" y="8"/>
                  </a:lnTo>
                  <a:lnTo>
                    <a:pt x="696" y="8"/>
                  </a:lnTo>
                  <a:lnTo>
                    <a:pt x="694" y="6"/>
                  </a:lnTo>
                  <a:lnTo>
                    <a:pt x="694" y="5"/>
                  </a:lnTo>
                  <a:lnTo>
                    <a:pt x="694" y="5"/>
                  </a:lnTo>
                  <a:lnTo>
                    <a:pt x="696" y="3"/>
                  </a:lnTo>
                  <a:lnTo>
                    <a:pt x="697" y="2"/>
                  </a:lnTo>
                  <a:lnTo>
                    <a:pt x="697" y="2"/>
                  </a:lnTo>
                  <a:lnTo>
                    <a:pt x="717" y="3"/>
                  </a:lnTo>
                  <a:lnTo>
                    <a:pt x="717" y="3"/>
                  </a:lnTo>
                  <a:lnTo>
                    <a:pt x="718" y="3"/>
                  </a:lnTo>
                  <a:lnTo>
                    <a:pt x="718" y="5"/>
                  </a:lnTo>
                  <a:lnTo>
                    <a:pt x="718" y="6"/>
                  </a:lnTo>
                  <a:lnTo>
                    <a:pt x="718" y="8"/>
                  </a:lnTo>
                  <a:lnTo>
                    <a:pt x="718" y="8"/>
                  </a:lnTo>
                  <a:lnTo>
                    <a:pt x="717" y="9"/>
                  </a:lnTo>
                  <a:lnTo>
                    <a:pt x="715" y="9"/>
                  </a:lnTo>
                  <a:lnTo>
                    <a:pt x="715" y="9"/>
                  </a:lnTo>
                  <a:close/>
                  <a:moveTo>
                    <a:pt x="673" y="8"/>
                  </a:moveTo>
                  <a:lnTo>
                    <a:pt x="655" y="6"/>
                  </a:lnTo>
                  <a:lnTo>
                    <a:pt x="655" y="8"/>
                  </a:lnTo>
                  <a:lnTo>
                    <a:pt x="654" y="6"/>
                  </a:lnTo>
                  <a:lnTo>
                    <a:pt x="652" y="6"/>
                  </a:lnTo>
                  <a:lnTo>
                    <a:pt x="652" y="5"/>
                  </a:lnTo>
                  <a:lnTo>
                    <a:pt x="652" y="5"/>
                  </a:lnTo>
                  <a:lnTo>
                    <a:pt x="652" y="3"/>
                  </a:lnTo>
                  <a:lnTo>
                    <a:pt x="652" y="2"/>
                  </a:lnTo>
                  <a:lnTo>
                    <a:pt x="654" y="2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73" y="2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6" y="3"/>
                  </a:lnTo>
                  <a:lnTo>
                    <a:pt x="676" y="5"/>
                  </a:lnTo>
                  <a:lnTo>
                    <a:pt x="675" y="6"/>
                  </a:lnTo>
                  <a:lnTo>
                    <a:pt x="675" y="8"/>
                  </a:lnTo>
                  <a:lnTo>
                    <a:pt x="673" y="8"/>
                  </a:lnTo>
                  <a:lnTo>
                    <a:pt x="673" y="8"/>
                  </a:lnTo>
                  <a:close/>
                  <a:moveTo>
                    <a:pt x="630" y="8"/>
                  </a:moveTo>
                  <a:lnTo>
                    <a:pt x="612" y="8"/>
                  </a:lnTo>
                  <a:lnTo>
                    <a:pt x="610" y="8"/>
                  </a:lnTo>
                  <a:lnTo>
                    <a:pt x="610" y="8"/>
                  </a:lnTo>
                  <a:lnTo>
                    <a:pt x="609" y="6"/>
                  </a:lnTo>
                  <a:lnTo>
                    <a:pt x="609" y="6"/>
                  </a:lnTo>
                  <a:lnTo>
                    <a:pt x="609" y="5"/>
                  </a:lnTo>
                  <a:lnTo>
                    <a:pt x="609" y="3"/>
                  </a:lnTo>
                  <a:lnTo>
                    <a:pt x="612" y="2"/>
                  </a:lnTo>
                  <a:lnTo>
                    <a:pt x="630" y="2"/>
                  </a:lnTo>
                  <a:lnTo>
                    <a:pt x="631" y="2"/>
                  </a:lnTo>
                  <a:lnTo>
                    <a:pt x="633" y="3"/>
                  </a:lnTo>
                  <a:lnTo>
                    <a:pt x="633" y="5"/>
                  </a:lnTo>
                  <a:lnTo>
                    <a:pt x="633" y="6"/>
                  </a:lnTo>
                  <a:lnTo>
                    <a:pt x="633" y="6"/>
                  </a:lnTo>
                  <a:lnTo>
                    <a:pt x="631" y="8"/>
                  </a:lnTo>
                  <a:lnTo>
                    <a:pt x="630" y="8"/>
                  </a:lnTo>
                  <a:lnTo>
                    <a:pt x="630" y="8"/>
                  </a:lnTo>
                  <a:close/>
                  <a:moveTo>
                    <a:pt x="586" y="9"/>
                  </a:moveTo>
                  <a:lnTo>
                    <a:pt x="568" y="11"/>
                  </a:lnTo>
                  <a:lnTo>
                    <a:pt x="568" y="11"/>
                  </a:lnTo>
                  <a:lnTo>
                    <a:pt x="567" y="11"/>
                  </a:lnTo>
                  <a:lnTo>
                    <a:pt x="565" y="9"/>
                  </a:lnTo>
                  <a:lnTo>
                    <a:pt x="565" y="8"/>
                  </a:lnTo>
                  <a:lnTo>
                    <a:pt x="565" y="8"/>
                  </a:lnTo>
                  <a:lnTo>
                    <a:pt x="567" y="6"/>
                  </a:lnTo>
                  <a:lnTo>
                    <a:pt x="567" y="5"/>
                  </a:lnTo>
                  <a:lnTo>
                    <a:pt x="568" y="5"/>
                  </a:lnTo>
                  <a:lnTo>
                    <a:pt x="586" y="3"/>
                  </a:lnTo>
                  <a:lnTo>
                    <a:pt x="588" y="3"/>
                  </a:lnTo>
                  <a:lnTo>
                    <a:pt x="589" y="5"/>
                  </a:lnTo>
                  <a:lnTo>
                    <a:pt x="589" y="5"/>
                  </a:lnTo>
                  <a:lnTo>
                    <a:pt x="591" y="6"/>
                  </a:lnTo>
                  <a:lnTo>
                    <a:pt x="589" y="8"/>
                  </a:lnTo>
                  <a:lnTo>
                    <a:pt x="589" y="8"/>
                  </a:lnTo>
                  <a:lnTo>
                    <a:pt x="588" y="9"/>
                  </a:lnTo>
                  <a:lnTo>
                    <a:pt x="586" y="9"/>
                  </a:lnTo>
                  <a:lnTo>
                    <a:pt x="586" y="9"/>
                  </a:lnTo>
                  <a:close/>
                  <a:moveTo>
                    <a:pt x="544" y="14"/>
                  </a:moveTo>
                  <a:lnTo>
                    <a:pt x="526" y="15"/>
                  </a:lnTo>
                  <a:lnTo>
                    <a:pt x="525" y="15"/>
                  </a:lnTo>
                  <a:lnTo>
                    <a:pt x="523" y="15"/>
                  </a:lnTo>
                  <a:lnTo>
                    <a:pt x="523" y="14"/>
                  </a:lnTo>
                  <a:lnTo>
                    <a:pt x="522" y="12"/>
                  </a:lnTo>
                  <a:lnTo>
                    <a:pt x="523" y="11"/>
                  </a:lnTo>
                  <a:lnTo>
                    <a:pt x="523" y="11"/>
                  </a:lnTo>
                  <a:lnTo>
                    <a:pt x="525" y="9"/>
                  </a:lnTo>
                  <a:lnTo>
                    <a:pt x="525" y="9"/>
                  </a:lnTo>
                  <a:lnTo>
                    <a:pt x="543" y="8"/>
                  </a:lnTo>
                  <a:lnTo>
                    <a:pt x="544" y="8"/>
                  </a:lnTo>
                  <a:lnTo>
                    <a:pt x="546" y="8"/>
                  </a:lnTo>
                  <a:lnTo>
                    <a:pt x="547" y="9"/>
                  </a:lnTo>
                  <a:lnTo>
                    <a:pt x="547" y="11"/>
                  </a:lnTo>
                  <a:lnTo>
                    <a:pt x="547" y="11"/>
                  </a:lnTo>
                  <a:lnTo>
                    <a:pt x="546" y="12"/>
                  </a:lnTo>
                  <a:lnTo>
                    <a:pt x="546" y="14"/>
                  </a:lnTo>
                  <a:lnTo>
                    <a:pt x="544" y="14"/>
                  </a:lnTo>
                  <a:lnTo>
                    <a:pt x="544" y="14"/>
                  </a:lnTo>
                  <a:close/>
                  <a:moveTo>
                    <a:pt x="502" y="20"/>
                  </a:moveTo>
                  <a:lnTo>
                    <a:pt x="483" y="23"/>
                  </a:lnTo>
                  <a:lnTo>
                    <a:pt x="483" y="23"/>
                  </a:lnTo>
                  <a:lnTo>
                    <a:pt x="481" y="22"/>
                  </a:lnTo>
                  <a:lnTo>
                    <a:pt x="481" y="22"/>
                  </a:lnTo>
                  <a:lnTo>
                    <a:pt x="480" y="20"/>
                  </a:lnTo>
                  <a:lnTo>
                    <a:pt x="480" y="19"/>
                  </a:lnTo>
                  <a:lnTo>
                    <a:pt x="480" y="17"/>
                  </a:lnTo>
                  <a:lnTo>
                    <a:pt x="481" y="17"/>
                  </a:lnTo>
                  <a:lnTo>
                    <a:pt x="483" y="15"/>
                  </a:lnTo>
                  <a:lnTo>
                    <a:pt x="501" y="14"/>
                  </a:lnTo>
                  <a:lnTo>
                    <a:pt x="502" y="14"/>
                  </a:lnTo>
                  <a:lnTo>
                    <a:pt x="502" y="14"/>
                  </a:lnTo>
                  <a:lnTo>
                    <a:pt x="504" y="14"/>
                  </a:lnTo>
                  <a:lnTo>
                    <a:pt x="504" y="15"/>
                  </a:lnTo>
                  <a:lnTo>
                    <a:pt x="504" y="17"/>
                  </a:lnTo>
                  <a:lnTo>
                    <a:pt x="504" y="19"/>
                  </a:lnTo>
                  <a:lnTo>
                    <a:pt x="504" y="19"/>
                  </a:lnTo>
                  <a:lnTo>
                    <a:pt x="502" y="20"/>
                  </a:lnTo>
                  <a:lnTo>
                    <a:pt x="502" y="20"/>
                  </a:lnTo>
                  <a:close/>
                  <a:moveTo>
                    <a:pt x="460" y="26"/>
                  </a:moveTo>
                  <a:lnTo>
                    <a:pt x="442" y="31"/>
                  </a:lnTo>
                  <a:lnTo>
                    <a:pt x="440" y="31"/>
                  </a:lnTo>
                  <a:lnTo>
                    <a:pt x="439" y="31"/>
                  </a:lnTo>
                  <a:lnTo>
                    <a:pt x="437" y="31"/>
                  </a:lnTo>
                  <a:lnTo>
                    <a:pt x="437" y="29"/>
                  </a:lnTo>
                  <a:lnTo>
                    <a:pt x="437" y="28"/>
                  </a:lnTo>
                  <a:lnTo>
                    <a:pt x="437" y="26"/>
                  </a:lnTo>
                  <a:lnTo>
                    <a:pt x="439" y="26"/>
                  </a:lnTo>
                  <a:lnTo>
                    <a:pt x="439" y="25"/>
                  </a:lnTo>
                  <a:lnTo>
                    <a:pt x="458" y="22"/>
                  </a:lnTo>
                  <a:lnTo>
                    <a:pt x="458" y="20"/>
                  </a:lnTo>
                  <a:lnTo>
                    <a:pt x="460" y="22"/>
                  </a:lnTo>
                  <a:lnTo>
                    <a:pt x="461" y="22"/>
                  </a:lnTo>
                  <a:lnTo>
                    <a:pt x="461" y="23"/>
                  </a:lnTo>
                  <a:lnTo>
                    <a:pt x="461" y="25"/>
                  </a:lnTo>
                  <a:lnTo>
                    <a:pt x="461" y="25"/>
                  </a:lnTo>
                  <a:lnTo>
                    <a:pt x="460" y="26"/>
                  </a:lnTo>
                  <a:lnTo>
                    <a:pt x="460" y="26"/>
                  </a:lnTo>
                  <a:lnTo>
                    <a:pt x="460" y="26"/>
                  </a:lnTo>
                  <a:close/>
                  <a:moveTo>
                    <a:pt x="418" y="37"/>
                  </a:moveTo>
                  <a:lnTo>
                    <a:pt x="403" y="40"/>
                  </a:lnTo>
                  <a:lnTo>
                    <a:pt x="400" y="41"/>
                  </a:lnTo>
                  <a:lnTo>
                    <a:pt x="398" y="41"/>
                  </a:lnTo>
                  <a:lnTo>
                    <a:pt x="397" y="41"/>
                  </a:lnTo>
                  <a:lnTo>
                    <a:pt x="397" y="40"/>
                  </a:lnTo>
                  <a:lnTo>
                    <a:pt x="395" y="40"/>
                  </a:lnTo>
                  <a:lnTo>
                    <a:pt x="395" y="38"/>
                  </a:lnTo>
                  <a:lnTo>
                    <a:pt x="395" y="37"/>
                  </a:lnTo>
                  <a:lnTo>
                    <a:pt x="397" y="37"/>
                  </a:lnTo>
                  <a:lnTo>
                    <a:pt x="398" y="35"/>
                  </a:lnTo>
                  <a:lnTo>
                    <a:pt x="401" y="35"/>
                  </a:lnTo>
                  <a:lnTo>
                    <a:pt x="416" y="31"/>
                  </a:lnTo>
                  <a:lnTo>
                    <a:pt x="416" y="31"/>
                  </a:lnTo>
                  <a:lnTo>
                    <a:pt x="418" y="31"/>
                  </a:lnTo>
                  <a:lnTo>
                    <a:pt x="419" y="32"/>
                  </a:lnTo>
                  <a:lnTo>
                    <a:pt x="419" y="34"/>
                  </a:lnTo>
                  <a:lnTo>
                    <a:pt x="419" y="34"/>
                  </a:lnTo>
                  <a:lnTo>
                    <a:pt x="419" y="35"/>
                  </a:lnTo>
                  <a:lnTo>
                    <a:pt x="418" y="37"/>
                  </a:lnTo>
                  <a:lnTo>
                    <a:pt x="418" y="37"/>
                  </a:lnTo>
                  <a:lnTo>
                    <a:pt x="418" y="37"/>
                  </a:lnTo>
                  <a:close/>
                  <a:moveTo>
                    <a:pt x="376" y="49"/>
                  </a:moveTo>
                  <a:lnTo>
                    <a:pt x="358" y="53"/>
                  </a:lnTo>
                  <a:lnTo>
                    <a:pt x="356" y="53"/>
                  </a:lnTo>
                  <a:lnTo>
                    <a:pt x="356" y="53"/>
                  </a:lnTo>
                  <a:lnTo>
                    <a:pt x="355" y="53"/>
                  </a:lnTo>
                  <a:lnTo>
                    <a:pt x="355" y="52"/>
                  </a:lnTo>
                  <a:lnTo>
                    <a:pt x="355" y="50"/>
                  </a:lnTo>
                  <a:lnTo>
                    <a:pt x="355" y="50"/>
                  </a:lnTo>
                  <a:lnTo>
                    <a:pt x="355" y="49"/>
                  </a:lnTo>
                  <a:lnTo>
                    <a:pt x="356" y="49"/>
                  </a:lnTo>
                  <a:lnTo>
                    <a:pt x="374" y="43"/>
                  </a:lnTo>
                  <a:lnTo>
                    <a:pt x="376" y="43"/>
                  </a:lnTo>
                  <a:lnTo>
                    <a:pt x="376" y="43"/>
                  </a:lnTo>
                  <a:lnTo>
                    <a:pt x="377" y="44"/>
                  </a:lnTo>
                  <a:lnTo>
                    <a:pt x="377" y="44"/>
                  </a:lnTo>
                  <a:lnTo>
                    <a:pt x="377" y="46"/>
                  </a:lnTo>
                  <a:lnTo>
                    <a:pt x="377" y="47"/>
                  </a:lnTo>
                  <a:lnTo>
                    <a:pt x="377" y="47"/>
                  </a:lnTo>
                  <a:lnTo>
                    <a:pt x="376" y="49"/>
                  </a:lnTo>
                  <a:lnTo>
                    <a:pt x="376" y="49"/>
                  </a:lnTo>
                  <a:close/>
                  <a:moveTo>
                    <a:pt x="335" y="62"/>
                  </a:moveTo>
                  <a:lnTo>
                    <a:pt x="317" y="68"/>
                  </a:lnTo>
                  <a:lnTo>
                    <a:pt x="317" y="68"/>
                  </a:lnTo>
                  <a:lnTo>
                    <a:pt x="316" y="68"/>
                  </a:lnTo>
                  <a:lnTo>
                    <a:pt x="314" y="68"/>
                  </a:lnTo>
                  <a:lnTo>
                    <a:pt x="314" y="67"/>
                  </a:lnTo>
                  <a:lnTo>
                    <a:pt x="314" y="65"/>
                  </a:lnTo>
                  <a:lnTo>
                    <a:pt x="314" y="65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32" y="56"/>
                  </a:lnTo>
                  <a:lnTo>
                    <a:pt x="334" y="56"/>
                  </a:lnTo>
                  <a:lnTo>
                    <a:pt x="335" y="56"/>
                  </a:lnTo>
                  <a:lnTo>
                    <a:pt x="337" y="56"/>
                  </a:lnTo>
                  <a:lnTo>
                    <a:pt x="337" y="58"/>
                  </a:lnTo>
                  <a:lnTo>
                    <a:pt x="337" y="59"/>
                  </a:lnTo>
                  <a:lnTo>
                    <a:pt x="337" y="61"/>
                  </a:lnTo>
                  <a:lnTo>
                    <a:pt x="337" y="61"/>
                  </a:lnTo>
                  <a:lnTo>
                    <a:pt x="335" y="62"/>
                  </a:lnTo>
                  <a:lnTo>
                    <a:pt x="335" y="62"/>
                  </a:lnTo>
                  <a:close/>
                  <a:moveTo>
                    <a:pt x="295" y="77"/>
                  </a:moveTo>
                  <a:lnTo>
                    <a:pt x="292" y="79"/>
                  </a:lnTo>
                  <a:lnTo>
                    <a:pt x="278" y="85"/>
                  </a:lnTo>
                  <a:lnTo>
                    <a:pt x="277" y="86"/>
                  </a:lnTo>
                  <a:lnTo>
                    <a:pt x="277" y="86"/>
                  </a:lnTo>
                  <a:lnTo>
                    <a:pt x="275" y="85"/>
                  </a:lnTo>
                  <a:lnTo>
                    <a:pt x="274" y="83"/>
                  </a:lnTo>
                  <a:lnTo>
                    <a:pt x="274" y="83"/>
                  </a:lnTo>
                  <a:lnTo>
                    <a:pt x="274" y="82"/>
                  </a:lnTo>
                  <a:lnTo>
                    <a:pt x="275" y="80"/>
                  </a:lnTo>
                  <a:lnTo>
                    <a:pt x="275" y="80"/>
                  </a:lnTo>
                  <a:lnTo>
                    <a:pt x="290" y="73"/>
                  </a:lnTo>
                  <a:lnTo>
                    <a:pt x="293" y="71"/>
                  </a:lnTo>
                  <a:lnTo>
                    <a:pt x="295" y="71"/>
                  </a:lnTo>
                  <a:lnTo>
                    <a:pt x="295" y="71"/>
                  </a:lnTo>
                  <a:lnTo>
                    <a:pt x="296" y="73"/>
                  </a:lnTo>
                  <a:lnTo>
                    <a:pt x="296" y="73"/>
                  </a:lnTo>
                  <a:lnTo>
                    <a:pt x="298" y="74"/>
                  </a:lnTo>
                  <a:lnTo>
                    <a:pt x="296" y="76"/>
                  </a:lnTo>
                  <a:lnTo>
                    <a:pt x="296" y="77"/>
                  </a:lnTo>
                  <a:lnTo>
                    <a:pt x="295" y="77"/>
                  </a:lnTo>
                  <a:lnTo>
                    <a:pt x="295" y="77"/>
                  </a:lnTo>
                  <a:close/>
                  <a:moveTo>
                    <a:pt x="256" y="97"/>
                  </a:moveTo>
                  <a:lnTo>
                    <a:pt x="242" y="103"/>
                  </a:lnTo>
                  <a:lnTo>
                    <a:pt x="241" y="104"/>
                  </a:lnTo>
                  <a:lnTo>
                    <a:pt x="239" y="104"/>
                  </a:lnTo>
                  <a:lnTo>
                    <a:pt x="238" y="104"/>
                  </a:lnTo>
                  <a:lnTo>
                    <a:pt x="236" y="104"/>
                  </a:lnTo>
                  <a:lnTo>
                    <a:pt x="236" y="103"/>
                  </a:lnTo>
                  <a:lnTo>
                    <a:pt x="235" y="101"/>
                  </a:lnTo>
                  <a:lnTo>
                    <a:pt x="235" y="101"/>
                  </a:lnTo>
                  <a:lnTo>
                    <a:pt x="236" y="100"/>
                  </a:lnTo>
                  <a:lnTo>
                    <a:pt x="236" y="98"/>
                  </a:lnTo>
                  <a:lnTo>
                    <a:pt x="239" y="97"/>
                  </a:lnTo>
                  <a:lnTo>
                    <a:pt x="254" y="91"/>
                  </a:lnTo>
                  <a:lnTo>
                    <a:pt x="254" y="91"/>
                  </a:lnTo>
                  <a:lnTo>
                    <a:pt x="256" y="91"/>
                  </a:lnTo>
                  <a:lnTo>
                    <a:pt x="257" y="91"/>
                  </a:lnTo>
                  <a:lnTo>
                    <a:pt x="257" y="92"/>
                  </a:lnTo>
                  <a:lnTo>
                    <a:pt x="259" y="94"/>
                  </a:lnTo>
                  <a:lnTo>
                    <a:pt x="257" y="94"/>
                  </a:lnTo>
                  <a:lnTo>
                    <a:pt x="257" y="95"/>
                  </a:lnTo>
                  <a:lnTo>
                    <a:pt x="256" y="97"/>
                  </a:lnTo>
                  <a:lnTo>
                    <a:pt x="256" y="97"/>
                  </a:lnTo>
                  <a:close/>
                  <a:moveTo>
                    <a:pt x="218" y="116"/>
                  </a:moveTo>
                  <a:lnTo>
                    <a:pt x="203" y="125"/>
                  </a:lnTo>
                  <a:lnTo>
                    <a:pt x="202" y="127"/>
                  </a:lnTo>
                  <a:lnTo>
                    <a:pt x="200" y="127"/>
                  </a:lnTo>
                  <a:lnTo>
                    <a:pt x="199" y="125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200" y="121"/>
                  </a:lnTo>
                  <a:lnTo>
                    <a:pt x="215" y="112"/>
                  </a:lnTo>
                  <a:lnTo>
                    <a:pt x="217" y="110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20" y="112"/>
                  </a:lnTo>
                  <a:lnTo>
                    <a:pt x="220" y="113"/>
                  </a:lnTo>
                  <a:lnTo>
                    <a:pt x="220" y="115"/>
                  </a:lnTo>
                  <a:lnTo>
                    <a:pt x="220" y="116"/>
                  </a:lnTo>
                  <a:lnTo>
                    <a:pt x="218" y="116"/>
                  </a:lnTo>
                  <a:lnTo>
                    <a:pt x="218" y="116"/>
                  </a:lnTo>
                  <a:close/>
                  <a:moveTo>
                    <a:pt x="182" y="139"/>
                  </a:moveTo>
                  <a:lnTo>
                    <a:pt x="167" y="151"/>
                  </a:lnTo>
                  <a:lnTo>
                    <a:pt x="166" y="151"/>
                  </a:lnTo>
                  <a:lnTo>
                    <a:pt x="166" y="151"/>
                  </a:lnTo>
                  <a:lnTo>
                    <a:pt x="164" y="151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4" y="145"/>
                  </a:lnTo>
                  <a:lnTo>
                    <a:pt x="179" y="134"/>
                  </a:lnTo>
                  <a:lnTo>
                    <a:pt x="179" y="134"/>
                  </a:lnTo>
                  <a:lnTo>
                    <a:pt x="181" y="134"/>
                  </a:lnTo>
                  <a:lnTo>
                    <a:pt x="182" y="134"/>
                  </a:lnTo>
                  <a:lnTo>
                    <a:pt x="184" y="136"/>
                  </a:lnTo>
                  <a:lnTo>
                    <a:pt x="184" y="136"/>
                  </a:lnTo>
                  <a:lnTo>
                    <a:pt x="184" y="137"/>
                  </a:lnTo>
                  <a:lnTo>
                    <a:pt x="182" y="139"/>
                  </a:lnTo>
                  <a:lnTo>
                    <a:pt x="182" y="139"/>
                  </a:lnTo>
                  <a:close/>
                  <a:moveTo>
                    <a:pt x="147" y="164"/>
                  </a:moveTo>
                  <a:lnTo>
                    <a:pt x="134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78"/>
                  </a:lnTo>
                  <a:lnTo>
                    <a:pt x="129" y="177"/>
                  </a:lnTo>
                  <a:lnTo>
                    <a:pt x="129" y="175"/>
                  </a:lnTo>
                  <a:lnTo>
                    <a:pt x="128" y="175"/>
                  </a:lnTo>
                  <a:lnTo>
                    <a:pt x="129" y="174"/>
                  </a:lnTo>
                  <a:lnTo>
                    <a:pt x="129" y="172"/>
                  </a:lnTo>
                  <a:lnTo>
                    <a:pt x="143" y="160"/>
                  </a:lnTo>
                  <a:lnTo>
                    <a:pt x="146" y="160"/>
                  </a:lnTo>
                  <a:lnTo>
                    <a:pt x="147" y="160"/>
                  </a:lnTo>
                  <a:lnTo>
                    <a:pt x="147" y="160"/>
                  </a:lnTo>
                  <a:lnTo>
                    <a:pt x="149" y="161"/>
                  </a:lnTo>
                  <a:lnTo>
                    <a:pt x="149" y="163"/>
                  </a:lnTo>
                  <a:lnTo>
                    <a:pt x="149" y="164"/>
                  </a:lnTo>
                  <a:lnTo>
                    <a:pt x="147" y="164"/>
                  </a:lnTo>
                  <a:lnTo>
                    <a:pt x="147" y="164"/>
                  </a:lnTo>
                  <a:close/>
                  <a:moveTo>
                    <a:pt x="114" y="193"/>
                  </a:moveTo>
                  <a:lnTo>
                    <a:pt x="102" y="207"/>
                  </a:lnTo>
                  <a:lnTo>
                    <a:pt x="101" y="207"/>
                  </a:lnTo>
                  <a:lnTo>
                    <a:pt x="101" y="208"/>
                  </a:lnTo>
                  <a:lnTo>
                    <a:pt x="99" y="208"/>
                  </a:lnTo>
                  <a:lnTo>
                    <a:pt x="98" y="207"/>
                  </a:lnTo>
                  <a:lnTo>
                    <a:pt x="98" y="205"/>
                  </a:lnTo>
                  <a:lnTo>
                    <a:pt x="98" y="205"/>
                  </a:lnTo>
                  <a:lnTo>
                    <a:pt x="98" y="204"/>
                  </a:lnTo>
                  <a:lnTo>
                    <a:pt x="98" y="202"/>
                  </a:lnTo>
                  <a:lnTo>
                    <a:pt x="111" y="189"/>
                  </a:lnTo>
                  <a:lnTo>
                    <a:pt x="111" y="189"/>
                  </a:lnTo>
                  <a:lnTo>
                    <a:pt x="113" y="187"/>
                  </a:lnTo>
                  <a:lnTo>
                    <a:pt x="114" y="189"/>
                  </a:lnTo>
                  <a:lnTo>
                    <a:pt x="114" y="189"/>
                  </a:lnTo>
                  <a:lnTo>
                    <a:pt x="116" y="190"/>
                  </a:lnTo>
                  <a:lnTo>
                    <a:pt x="116" y="190"/>
                  </a:lnTo>
                  <a:lnTo>
                    <a:pt x="116" y="192"/>
                  </a:lnTo>
                  <a:lnTo>
                    <a:pt x="114" y="193"/>
                  </a:lnTo>
                  <a:lnTo>
                    <a:pt x="114" y="193"/>
                  </a:lnTo>
                  <a:close/>
                  <a:moveTo>
                    <a:pt x="86" y="225"/>
                  </a:moveTo>
                  <a:lnTo>
                    <a:pt x="84" y="226"/>
                  </a:lnTo>
                  <a:lnTo>
                    <a:pt x="75" y="238"/>
                  </a:lnTo>
                  <a:lnTo>
                    <a:pt x="74" y="240"/>
                  </a:lnTo>
                  <a:lnTo>
                    <a:pt x="72" y="240"/>
                  </a:lnTo>
                  <a:lnTo>
                    <a:pt x="71" y="240"/>
                  </a:lnTo>
                  <a:lnTo>
                    <a:pt x="71" y="240"/>
                  </a:lnTo>
                  <a:lnTo>
                    <a:pt x="69" y="238"/>
                  </a:lnTo>
                  <a:lnTo>
                    <a:pt x="69" y="238"/>
                  </a:lnTo>
                  <a:lnTo>
                    <a:pt x="69" y="237"/>
                  </a:lnTo>
                  <a:lnTo>
                    <a:pt x="69" y="235"/>
                  </a:lnTo>
                  <a:lnTo>
                    <a:pt x="80" y="222"/>
                  </a:lnTo>
                  <a:lnTo>
                    <a:pt x="81" y="220"/>
                  </a:lnTo>
                  <a:lnTo>
                    <a:pt x="83" y="220"/>
                  </a:lnTo>
                  <a:lnTo>
                    <a:pt x="83" y="220"/>
                  </a:lnTo>
                  <a:lnTo>
                    <a:pt x="84" y="220"/>
                  </a:lnTo>
                  <a:lnTo>
                    <a:pt x="86" y="220"/>
                  </a:lnTo>
                  <a:lnTo>
                    <a:pt x="86" y="222"/>
                  </a:lnTo>
                  <a:lnTo>
                    <a:pt x="87" y="223"/>
                  </a:lnTo>
                  <a:lnTo>
                    <a:pt x="86" y="223"/>
                  </a:lnTo>
                  <a:lnTo>
                    <a:pt x="86" y="225"/>
                  </a:lnTo>
                  <a:lnTo>
                    <a:pt x="86" y="225"/>
                  </a:lnTo>
                  <a:close/>
                  <a:moveTo>
                    <a:pt x="60" y="259"/>
                  </a:moveTo>
                  <a:lnTo>
                    <a:pt x="56" y="262"/>
                  </a:lnTo>
                  <a:lnTo>
                    <a:pt x="50" y="274"/>
                  </a:lnTo>
                  <a:lnTo>
                    <a:pt x="50" y="274"/>
                  </a:lnTo>
                  <a:lnTo>
                    <a:pt x="48" y="276"/>
                  </a:lnTo>
                  <a:lnTo>
                    <a:pt x="47" y="276"/>
                  </a:lnTo>
                  <a:lnTo>
                    <a:pt x="47" y="276"/>
                  </a:lnTo>
                  <a:lnTo>
                    <a:pt x="45" y="274"/>
                  </a:lnTo>
                  <a:lnTo>
                    <a:pt x="45" y="273"/>
                  </a:lnTo>
                  <a:lnTo>
                    <a:pt x="44" y="273"/>
                  </a:lnTo>
                  <a:lnTo>
                    <a:pt x="45" y="271"/>
                  </a:lnTo>
                  <a:lnTo>
                    <a:pt x="51" y="259"/>
                  </a:lnTo>
                  <a:lnTo>
                    <a:pt x="54" y="255"/>
                  </a:lnTo>
                  <a:lnTo>
                    <a:pt x="56" y="255"/>
                  </a:lnTo>
                  <a:lnTo>
                    <a:pt x="57" y="253"/>
                  </a:lnTo>
                  <a:lnTo>
                    <a:pt x="57" y="253"/>
                  </a:lnTo>
                  <a:lnTo>
                    <a:pt x="59" y="255"/>
                  </a:lnTo>
                  <a:lnTo>
                    <a:pt x="60" y="255"/>
                  </a:lnTo>
                  <a:lnTo>
                    <a:pt x="60" y="256"/>
                  </a:lnTo>
                  <a:lnTo>
                    <a:pt x="60" y="258"/>
                  </a:lnTo>
                  <a:lnTo>
                    <a:pt x="60" y="259"/>
                  </a:lnTo>
                  <a:lnTo>
                    <a:pt x="60" y="259"/>
                  </a:lnTo>
                  <a:close/>
                  <a:moveTo>
                    <a:pt x="38" y="295"/>
                  </a:moveTo>
                  <a:lnTo>
                    <a:pt x="35" y="301"/>
                  </a:lnTo>
                  <a:lnTo>
                    <a:pt x="30" y="312"/>
                  </a:lnTo>
                  <a:lnTo>
                    <a:pt x="30" y="313"/>
                  </a:lnTo>
                  <a:lnTo>
                    <a:pt x="29" y="313"/>
                  </a:lnTo>
                  <a:lnTo>
                    <a:pt x="27" y="313"/>
                  </a:lnTo>
                  <a:lnTo>
                    <a:pt x="26" y="313"/>
                  </a:lnTo>
                  <a:lnTo>
                    <a:pt x="26" y="313"/>
                  </a:lnTo>
                  <a:lnTo>
                    <a:pt x="24" y="312"/>
                  </a:lnTo>
                  <a:lnTo>
                    <a:pt x="24" y="310"/>
                  </a:lnTo>
                  <a:lnTo>
                    <a:pt x="24" y="309"/>
                  </a:lnTo>
                  <a:lnTo>
                    <a:pt x="30" y="298"/>
                  </a:lnTo>
                  <a:lnTo>
                    <a:pt x="33" y="292"/>
                  </a:lnTo>
                  <a:lnTo>
                    <a:pt x="33" y="292"/>
                  </a:lnTo>
                  <a:lnTo>
                    <a:pt x="35" y="291"/>
                  </a:lnTo>
                  <a:lnTo>
                    <a:pt x="36" y="291"/>
                  </a:lnTo>
                  <a:lnTo>
                    <a:pt x="36" y="291"/>
                  </a:lnTo>
                  <a:lnTo>
                    <a:pt x="38" y="292"/>
                  </a:lnTo>
                  <a:lnTo>
                    <a:pt x="38" y="294"/>
                  </a:lnTo>
                  <a:lnTo>
                    <a:pt x="38" y="294"/>
                  </a:lnTo>
                  <a:lnTo>
                    <a:pt x="38" y="295"/>
                  </a:lnTo>
                  <a:lnTo>
                    <a:pt x="38" y="295"/>
                  </a:lnTo>
                  <a:close/>
                  <a:moveTo>
                    <a:pt x="21" y="335"/>
                  </a:moveTo>
                  <a:lnTo>
                    <a:pt x="18" y="341"/>
                  </a:lnTo>
                  <a:lnTo>
                    <a:pt x="18" y="341"/>
                  </a:lnTo>
                  <a:lnTo>
                    <a:pt x="17" y="353"/>
                  </a:lnTo>
                  <a:lnTo>
                    <a:pt x="15" y="354"/>
                  </a:lnTo>
                  <a:lnTo>
                    <a:pt x="15" y="354"/>
                  </a:lnTo>
                  <a:lnTo>
                    <a:pt x="14" y="354"/>
                  </a:lnTo>
                  <a:lnTo>
                    <a:pt x="12" y="354"/>
                  </a:lnTo>
                  <a:lnTo>
                    <a:pt x="11" y="354"/>
                  </a:lnTo>
                  <a:lnTo>
                    <a:pt x="11" y="353"/>
                  </a:lnTo>
                  <a:lnTo>
                    <a:pt x="11" y="353"/>
                  </a:lnTo>
                  <a:lnTo>
                    <a:pt x="11" y="351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5" y="333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1" y="332"/>
                  </a:lnTo>
                  <a:lnTo>
                    <a:pt x="21" y="333"/>
                  </a:lnTo>
                  <a:lnTo>
                    <a:pt x="21" y="335"/>
                  </a:lnTo>
                  <a:lnTo>
                    <a:pt x="21" y="335"/>
                  </a:lnTo>
                  <a:lnTo>
                    <a:pt x="21" y="335"/>
                  </a:lnTo>
                  <a:close/>
                  <a:moveTo>
                    <a:pt x="11" y="377"/>
                  </a:moveTo>
                  <a:lnTo>
                    <a:pt x="9" y="383"/>
                  </a:lnTo>
                  <a:lnTo>
                    <a:pt x="9" y="383"/>
                  </a:lnTo>
                  <a:lnTo>
                    <a:pt x="8" y="395"/>
                  </a:lnTo>
                  <a:lnTo>
                    <a:pt x="8" y="396"/>
                  </a:lnTo>
                  <a:lnTo>
                    <a:pt x="8" y="396"/>
                  </a:lnTo>
                  <a:lnTo>
                    <a:pt x="6" y="398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3" y="396"/>
                  </a:lnTo>
                  <a:lnTo>
                    <a:pt x="2" y="395"/>
                  </a:lnTo>
                  <a:lnTo>
                    <a:pt x="2" y="393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5" y="375"/>
                  </a:lnTo>
                  <a:lnTo>
                    <a:pt x="5" y="374"/>
                  </a:lnTo>
                  <a:lnTo>
                    <a:pt x="6" y="374"/>
                  </a:lnTo>
                  <a:lnTo>
                    <a:pt x="8" y="372"/>
                  </a:lnTo>
                  <a:lnTo>
                    <a:pt x="8" y="372"/>
                  </a:lnTo>
                  <a:lnTo>
                    <a:pt x="9" y="374"/>
                  </a:lnTo>
                  <a:lnTo>
                    <a:pt x="11" y="374"/>
                  </a:lnTo>
                  <a:lnTo>
                    <a:pt x="11" y="375"/>
                  </a:lnTo>
                  <a:lnTo>
                    <a:pt x="11" y="377"/>
                  </a:lnTo>
                  <a:lnTo>
                    <a:pt x="11" y="377"/>
                  </a:lnTo>
                  <a:close/>
                  <a:moveTo>
                    <a:pt x="6" y="419"/>
                  </a:moveTo>
                  <a:lnTo>
                    <a:pt x="6" y="425"/>
                  </a:lnTo>
                  <a:lnTo>
                    <a:pt x="6" y="425"/>
                  </a:lnTo>
                  <a:lnTo>
                    <a:pt x="6" y="437"/>
                  </a:lnTo>
                  <a:lnTo>
                    <a:pt x="6" y="438"/>
                  </a:lnTo>
                  <a:lnTo>
                    <a:pt x="6" y="440"/>
                  </a:lnTo>
                  <a:lnTo>
                    <a:pt x="5" y="440"/>
                  </a:lnTo>
                  <a:lnTo>
                    <a:pt x="5" y="440"/>
                  </a:lnTo>
                  <a:lnTo>
                    <a:pt x="3" y="440"/>
                  </a:lnTo>
                  <a:lnTo>
                    <a:pt x="2" y="440"/>
                  </a:lnTo>
                  <a:lnTo>
                    <a:pt x="0" y="438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19"/>
                  </a:lnTo>
                  <a:lnTo>
                    <a:pt x="0" y="417"/>
                  </a:lnTo>
                  <a:lnTo>
                    <a:pt x="2" y="416"/>
                  </a:lnTo>
                  <a:lnTo>
                    <a:pt x="2" y="416"/>
                  </a:lnTo>
                  <a:lnTo>
                    <a:pt x="3" y="416"/>
                  </a:lnTo>
                  <a:lnTo>
                    <a:pt x="5" y="416"/>
                  </a:lnTo>
                  <a:lnTo>
                    <a:pt x="6" y="417"/>
                  </a:lnTo>
                  <a:lnTo>
                    <a:pt x="6" y="417"/>
                  </a:lnTo>
                  <a:lnTo>
                    <a:pt x="6" y="419"/>
                  </a:lnTo>
                  <a:lnTo>
                    <a:pt x="6" y="419"/>
                  </a:lnTo>
                  <a:close/>
                  <a:moveTo>
                    <a:pt x="9" y="461"/>
                  </a:moveTo>
                  <a:lnTo>
                    <a:pt x="9" y="467"/>
                  </a:lnTo>
                  <a:lnTo>
                    <a:pt x="9" y="467"/>
                  </a:lnTo>
                  <a:lnTo>
                    <a:pt x="12" y="479"/>
                  </a:lnTo>
                  <a:lnTo>
                    <a:pt x="12" y="481"/>
                  </a:lnTo>
                  <a:lnTo>
                    <a:pt x="12" y="482"/>
                  </a:lnTo>
                  <a:lnTo>
                    <a:pt x="11" y="482"/>
                  </a:lnTo>
                  <a:lnTo>
                    <a:pt x="9" y="484"/>
                  </a:lnTo>
                  <a:lnTo>
                    <a:pt x="9" y="484"/>
                  </a:lnTo>
                  <a:lnTo>
                    <a:pt x="8" y="484"/>
                  </a:lnTo>
                  <a:lnTo>
                    <a:pt x="6" y="482"/>
                  </a:lnTo>
                  <a:lnTo>
                    <a:pt x="6" y="481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2"/>
                  </a:lnTo>
                  <a:lnTo>
                    <a:pt x="3" y="461"/>
                  </a:lnTo>
                  <a:lnTo>
                    <a:pt x="3" y="459"/>
                  </a:lnTo>
                  <a:lnTo>
                    <a:pt x="5" y="459"/>
                  </a:lnTo>
                  <a:lnTo>
                    <a:pt x="6" y="459"/>
                  </a:lnTo>
                  <a:lnTo>
                    <a:pt x="6" y="459"/>
                  </a:lnTo>
                  <a:lnTo>
                    <a:pt x="8" y="459"/>
                  </a:lnTo>
                  <a:lnTo>
                    <a:pt x="9" y="461"/>
                  </a:lnTo>
                  <a:lnTo>
                    <a:pt x="9" y="461"/>
                  </a:lnTo>
                  <a:lnTo>
                    <a:pt x="9" y="461"/>
                  </a:lnTo>
                  <a:close/>
                  <a:moveTo>
                    <a:pt x="18" y="503"/>
                  </a:moveTo>
                  <a:lnTo>
                    <a:pt x="18" y="509"/>
                  </a:lnTo>
                  <a:lnTo>
                    <a:pt x="18" y="508"/>
                  </a:lnTo>
                  <a:lnTo>
                    <a:pt x="24" y="521"/>
                  </a:lnTo>
                  <a:lnTo>
                    <a:pt x="24" y="523"/>
                  </a:lnTo>
                  <a:lnTo>
                    <a:pt x="24" y="523"/>
                  </a:lnTo>
                  <a:lnTo>
                    <a:pt x="21" y="524"/>
                  </a:lnTo>
                  <a:lnTo>
                    <a:pt x="21" y="526"/>
                  </a:lnTo>
                  <a:lnTo>
                    <a:pt x="20" y="524"/>
                  </a:lnTo>
                  <a:lnTo>
                    <a:pt x="18" y="524"/>
                  </a:lnTo>
                  <a:lnTo>
                    <a:pt x="18" y="523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2" y="505"/>
                  </a:lnTo>
                  <a:lnTo>
                    <a:pt x="12" y="503"/>
                  </a:lnTo>
                  <a:lnTo>
                    <a:pt x="12" y="503"/>
                  </a:lnTo>
                  <a:lnTo>
                    <a:pt x="12" y="502"/>
                  </a:lnTo>
                  <a:lnTo>
                    <a:pt x="14" y="502"/>
                  </a:lnTo>
                  <a:lnTo>
                    <a:pt x="15" y="502"/>
                  </a:lnTo>
                  <a:lnTo>
                    <a:pt x="17" y="502"/>
                  </a:lnTo>
                  <a:lnTo>
                    <a:pt x="17" y="503"/>
                  </a:lnTo>
                  <a:lnTo>
                    <a:pt x="18" y="503"/>
                  </a:lnTo>
                  <a:lnTo>
                    <a:pt x="18" y="503"/>
                  </a:lnTo>
                  <a:close/>
                  <a:moveTo>
                    <a:pt x="33" y="544"/>
                  </a:moveTo>
                  <a:lnTo>
                    <a:pt x="35" y="548"/>
                  </a:lnTo>
                  <a:lnTo>
                    <a:pt x="41" y="560"/>
                  </a:lnTo>
                  <a:lnTo>
                    <a:pt x="41" y="560"/>
                  </a:lnTo>
                  <a:lnTo>
                    <a:pt x="41" y="562"/>
                  </a:lnTo>
                  <a:lnTo>
                    <a:pt x="41" y="563"/>
                  </a:lnTo>
                  <a:lnTo>
                    <a:pt x="39" y="563"/>
                  </a:lnTo>
                  <a:lnTo>
                    <a:pt x="39" y="565"/>
                  </a:lnTo>
                  <a:lnTo>
                    <a:pt x="38" y="565"/>
                  </a:lnTo>
                  <a:lnTo>
                    <a:pt x="36" y="563"/>
                  </a:lnTo>
                  <a:lnTo>
                    <a:pt x="36" y="563"/>
                  </a:lnTo>
                  <a:lnTo>
                    <a:pt x="29" y="551"/>
                  </a:lnTo>
                  <a:lnTo>
                    <a:pt x="27" y="545"/>
                  </a:lnTo>
                  <a:lnTo>
                    <a:pt x="27" y="545"/>
                  </a:lnTo>
                  <a:lnTo>
                    <a:pt x="27" y="544"/>
                  </a:lnTo>
                  <a:lnTo>
                    <a:pt x="27" y="542"/>
                  </a:lnTo>
                  <a:lnTo>
                    <a:pt x="29" y="542"/>
                  </a:lnTo>
                  <a:lnTo>
                    <a:pt x="30" y="542"/>
                  </a:lnTo>
                  <a:lnTo>
                    <a:pt x="32" y="542"/>
                  </a:lnTo>
                  <a:lnTo>
                    <a:pt x="32" y="542"/>
                  </a:lnTo>
                  <a:lnTo>
                    <a:pt x="33" y="544"/>
                  </a:lnTo>
                  <a:lnTo>
                    <a:pt x="33" y="544"/>
                  </a:lnTo>
                  <a:close/>
                  <a:moveTo>
                    <a:pt x="53" y="581"/>
                  </a:moveTo>
                  <a:lnTo>
                    <a:pt x="56" y="587"/>
                  </a:lnTo>
                  <a:lnTo>
                    <a:pt x="63" y="596"/>
                  </a:lnTo>
                  <a:lnTo>
                    <a:pt x="65" y="598"/>
                  </a:lnTo>
                  <a:lnTo>
                    <a:pt x="65" y="598"/>
                  </a:lnTo>
                  <a:lnTo>
                    <a:pt x="63" y="599"/>
                  </a:lnTo>
                  <a:lnTo>
                    <a:pt x="63" y="601"/>
                  </a:lnTo>
                  <a:lnTo>
                    <a:pt x="62" y="601"/>
                  </a:lnTo>
                  <a:lnTo>
                    <a:pt x="60" y="601"/>
                  </a:lnTo>
                  <a:lnTo>
                    <a:pt x="59" y="601"/>
                  </a:lnTo>
                  <a:lnTo>
                    <a:pt x="59" y="599"/>
                  </a:lnTo>
                  <a:lnTo>
                    <a:pt x="51" y="590"/>
                  </a:lnTo>
                  <a:lnTo>
                    <a:pt x="48" y="584"/>
                  </a:lnTo>
                  <a:lnTo>
                    <a:pt x="48" y="583"/>
                  </a:lnTo>
                  <a:lnTo>
                    <a:pt x="48" y="581"/>
                  </a:lnTo>
                  <a:lnTo>
                    <a:pt x="48" y="581"/>
                  </a:lnTo>
                  <a:lnTo>
                    <a:pt x="50" y="580"/>
                  </a:lnTo>
                  <a:lnTo>
                    <a:pt x="50" y="580"/>
                  </a:lnTo>
                  <a:lnTo>
                    <a:pt x="51" y="580"/>
                  </a:lnTo>
                  <a:lnTo>
                    <a:pt x="53" y="580"/>
                  </a:lnTo>
                  <a:lnTo>
                    <a:pt x="53" y="581"/>
                  </a:lnTo>
                  <a:lnTo>
                    <a:pt x="53" y="581"/>
                  </a:lnTo>
                  <a:close/>
                  <a:moveTo>
                    <a:pt x="78" y="616"/>
                  </a:moveTo>
                  <a:lnTo>
                    <a:pt x="84" y="623"/>
                  </a:lnTo>
                  <a:lnTo>
                    <a:pt x="90" y="630"/>
                  </a:lnTo>
                  <a:lnTo>
                    <a:pt x="90" y="631"/>
                  </a:lnTo>
                  <a:lnTo>
                    <a:pt x="90" y="633"/>
                  </a:lnTo>
                  <a:lnTo>
                    <a:pt x="90" y="633"/>
                  </a:lnTo>
                  <a:lnTo>
                    <a:pt x="90" y="634"/>
                  </a:lnTo>
                  <a:lnTo>
                    <a:pt x="89" y="634"/>
                  </a:lnTo>
                  <a:lnTo>
                    <a:pt x="87" y="636"/>
                  </a:lnTo>
                  <a:lnTo>
                    <a:pt x="87" y="634"/>
                  </a:lnTo>
                  <a:lnTo>
                    <a:pt x="86" y="634"/>
                  </a:lnTo>
                  <a:lnTo>
                    <a:pt x="80" y="627"/>
                  </a:lnTo>
                  <a:lnTo>
                    <a:pt x="74" y="620"/>
                  </a:lnTo>
                  <a:lnTo>
                    <a:pt x="72" y="619"/>
                  </a:lnTo>
                  <a:lnTo>
                    <a:pt x="72" y="617"/>
                  </a:lnTo>
                  <a:lnTo>
                    <a:pt x="74" y="616"/>
                  </a:lnTo>
                  <a:lnTo>
                    <a:pt x="74" y="614"/>
                  </a:lnTo>
                  <a:lnTo>
                    <a:pt x="75" y="614"/>
                  </a:lnTo>
                  <a:lnTo>
                    <a:pt x="77" y="614"/>
                  </a:lnTo>
                  <a:lnTo>
                    <a:pt x="77" y="614"/>
                  </a:lnTo>
                  <a:lnTo>
                    <a:pt x="78" y="616"/>
                  </a:lnTo>
                  <a:lnTo>
                    <a:pt x="78" y="616"/>
                  </a:lnTo>
                  <a:close/>
                  <a:moveTo>
                    <a:pt x="107" y="648"/>
                  </a:moveTo>
                  <a:lnTo>
                    <a:pt x="116" y="658"/>
                  </a:lnTo>
                  <a:lnTo>
                    <a:pt x="120" y="661"/>
                  </a:lnTo>
                  <a:lnTo>
                    <a:pt x="120" y="661"/>
                  </a:lnTo>
                  <a:lnTo>
                    <a:pt x="120" y="663"/>
                  </a:lnTo>
                  <a:lnTo>
                    <a:pt x="120" y="664"/>
                  </a:lnTo>
                  <a:lnTo>
                    <a:pt x="120" y="666"/>
                  </a:lnTo>
                  <a:lnTo>
                    <a:pt x="119" y="666"/>
                  </a:lnTo>
                  <a:lnTo>
                    <a:pt x="117" y="666"/>
                  </a:lnTo>
                  <a:lnTo>
                    <a:pt x="117" y="666"/>
                  </a:lnTo>
                  <a:lnTo>
                    <a:pt x="116" y="666"/>
                  </a:lnTo>
                  <a:lnTo>
                    <a:pt x="111" y="663"/>
                  </a:lnTo>
                  <a:lnTo>
                    <a:pt x="102" y="652"/>
                  </a:lnTo>
                  <a:lnTo>
                    <a:pt x="102" y="651"/>
                  </a:lnTo>
                  <a:lnTo>
                    <a:pt x="102" y="649"/>
                  </a:lnTo>
                  <a:lnTo>
                    <a:pt x="102" y="649"/>
                  </a:lnTo>
                  <a:lnTo>
                    <a:pt x="102" y="648"/>
                  </a:lnTo>
                  <a:lnTo>
                    <a:pt x="104" y="648"/>
                  </a:lnTo>
                  <a:lnTo>
                    <a:pt x="105" y="646"/>
                  </a:lnTo>
                  <a:lnTo>
                    <a:pt x="105" y="648"/>
                  </a:lnTo>
                  <a:lnTo>
                    <a:pt x="107" y="648"/>
                  </a:lnTo>
                  <a:lnTo>
                    <a:pt x="107" y="648"/>
                  </a:lnTo>
                  <a:close/>
                  <a:moveTo>
                    <a:pt x="138" y="676"/>
                  </a:moveTo>
                  <a:lnTo>
                    <a:pt x="152" y="690"/>
                  </a:lnTo>
                  <a:lnTo>
                    <a:pt x="154" y="690"/>
                  </a:lnTo>
                  <a:lnTo>
                    <a:pt x="154" y="691"/>
                  </a:lnTo>
                  <a:lnTo>
                    <a:pt x="154" y="693"/>
                  </a:lnTo>
                  <a:lnTo>
                    <a:pt x="154" y="693"/>
                  </a:lnTo>
                  <a:lnTo>
                    <a:pt x="152" y="694"/>
                  </a:lnTo>
                  <a:lnTo>
                    <a:pt x="151" y="694"/>
                  </a:lnTo>
                  <a:lnTo>
                    <a:pt x="149" y="694"/>
                  </a:lnTo>
                  <a:lnTo>
                    <a:pt x="149" y="694"/>
                  </a:lnTo>
                  <a:lnTo>
                    <a:pt x="135" y="682"/>
                  </a:lnTo>
                  <a:lnTo>
                    <a:pt x="134" y="681"/>
                  </a:lnTo>
                  <a:lnTo>
                    <a:pt x="134" y="679"/>
                  </a:lnTo>
                  <a:lnTo>
                    <a:pt x="134" y="678"/>
                  </a:lnTo>
                  <a:lnTo>
                    <a:pt x="134" y="678"/>
                  </a:lnTo>
                  <a:lnTo>
                    <a:pt x="135" y="676"/>
                  </a:lnTo>
                  <a:lnTo>
                    <a:pt x="137" y="676"/>
                  </a:lnTo>
                  <a:lnTo>
                    <a:pt x="137" y="676"/>
                  </a:lnTo>
                  <a:lnTo>
                    <a:pt x="138" y="676"/>
                  </a:lnTo>
                  <a:lnTo>
                    <a:pt x="138" y="676"/>
                  </a:lnTo>
                  <a:close/>
                  <a:moveTo>
                    <a:pt x="173" y="703"/>
                  </a:moveTo>
                  <a:lnTo>
                    <a:pt x="188" y="714"/>
                  </a:lnTo>
                  <a:lnTo>
                    <a:pt x="188" y="715"/>
                  </a:lnTo>
                  <a:lnTo>
                    <a:pt x="190" y="715"/>
                  </a:lnTo>
                  <a:lnTo>
                    <a:pt x="190" y="717"/>
                  </a:lnTo>
                  <a:lnTo>
                    <a:pt x="188" y="718"/>
                  </a:lnTo>
                  <a:lnTo>
                    <a:pt x="188" y="718"/>
                  </a:lnTo>
                  <a:lnTo>
                    <a:pt x="187" y="720"/>
                  </a:lnTo>
                  <a:lnTo>
                    <a:pt x="185" y="720"/>
                  </a:lnTo>
                  <a:lnTo>
                    <a:pt x="184" y="718"/>
                  </a:lnTo>
                  <a:lnTo>
                    <a:pt x="169" y="708"/>
                  </a:lnTo>
                  <a:lnTo>
                    <a:pt x="169" y="708"/>
                  </a:lnTo>
                  <a:lnTo>
                    <a:pt x="167" y="706"/>
                  </a:lnTo>
                  <a:lnTo>
                    <a:pt x="167" y="705"/>
                  </a:lnTo>
                  <a:lnTo>
                    <a:pt x="169" y="703"/>
                  </a:lnTo>
                  <a:lnTo>
                    <a:pt x="169" y="703"/>
                  </a:lnTo>
                  <a:lnTo>
                    <a:pt x="170" y="703"/>
                  </a:lnTo>
                  <a:lnTo>
                    <a:pt x="172" y="703"/>
                  </a:lnTo>
                  <a:lnTo>
                    <a:pt x="173" y="703"/>
                  </a:lnTo>
                  <a:lnTo>
                    <a:pt x="173" y="703"/>
                  </a:lnTo>
                  <a:close/>
                  <a:moveTo>
                    <a:pt x="209" y="727"/>
                  </a:moveTo>
                  <a:lnTo>
                    <a:pt x="224" y="736"/>
                  </a:lnTo>
                  <a:lnTo>
                    <a:pt x="226" y="736"/>
                  </a:lnTo>
                  <a:lnTo>
                    <a:pt x="226" y="738"/>
                  </a:lnTo>
                  <a:lnTo>
                    <a:pt x="226" y="739"/>
                  </a:lnTo>
                  <a:lnTo>
                    <a:pt x="226" y="741"/>
                  </a:lnTo>
                  <a:lnTo>
                    <a:pt x="224" y="741"/>
                  </a:lnTo>
                  <a:lnTo>
                    <a:pt x="224" y="742"/>
                  </a:lnTo>
                  <a:lnTo>
                    <a:pt x="223" y="742"/>
                  </a:lnTo>
                  <a:lnTo>
                    <a:pt x="221" y="741"/>
                  </a:lnTo>
                  <a:lnTo>
                    <a:pt x="205" y="732"/>
                  </a:lnTo>
                  <a:lnTo>
                    <a:pt x="205" y="732"/>
                  </a:lnTo>
                  <a:lnTo>
                    <a:pt x="203" y="730"/>
                  </a:lnTo>
                  <a:lnTo>
                    <a:pt x="203" y="729"/>
                  </a:lnTo>
                  <a:lnTo>
                    <a:pt x="205" y="727"/>
                  </a:lnTo>
                  <a:lnTo>
                    <a:pt x="205" y="727"/>
                  </a:lnTo>
                  <a:lnTo>
                    <a:pt x="206" y="727"/>
                  </a:lnTo>
                  <a:lnTo>
                    <a:pt x="208" y="726"/>
                  </a:lnTo>
                  <a:lnTo>
                    <a:pt x="209" y="727"/>
                  </a:lnTo>
                  <a:lnTo>
                    <a:pt x="209" y="727"/>
                  </a:lnTo>
                  <a:close/>
                  <a:moveTo>
                    <a:pt x="245" y="748"/>
                  </a:moveTo>
                  <a:lnTo>
                    <a:pt x="262" y="756"/>
                  </a:lnTo>
                  <a:lnTo>
                    <a:pt x="263" y="757"/>
                  </a:lnTo>
                  <a:lnTo>
                    <a:pt x="263" y="757"/>
                  </a:lnTo>
                  <a:lnTo>
                    <a:pt x="263" y="759"/>
                  </a:lnTo>
                  <a:lnTo>
                    <a:pt x="263" y="760"/>
                  </a:lnTo>
                  <a:lnTo>
                    <a:pt x="263" y="762"/>
                  </a:lnTo>
                  <a:lnTo>
                    <a:pt x="262" y="762"/>
                  </a:lnTo>
                  <a:lnTo>
                    <a:pt x="260" y="762"/>
                  </a:lnTo>
                  <a:lnTo>
                    <a:pt x="259" y="762"/>
                  </a:lnTo>
                  <a:lnTo>
                    <a:pt x="242" y="754"/>
                  </a:lnTo>
                  <a:lnTo>
                    <a:pt x="242" y="753"/>
                  </a:lnTo>
                  <a:lnTo>
                    <a:pt x="241" y="751"/>
                  </a:lnTo>
                  <a:lnTo>
                    <a:pt x="241" y="751"/>
                  </a:lnTo>
                  <a:lnTo>
                    <a:pt x="241" y="750"/>
                  </a:lnTo>
                  <a:lnTo>
                    <a:pt x="242" y="748"/>
                  </a:lnTo>
                  <a:lnTo>
                    <a:pt x="244" y="748"/>
                  </a:lnTo>
                  <a:lnTo>
                    <a:pt x="244" y="748"/>
                  </a:lnTo>
                  <a:lnTo>
                    <a:pt x="245" y="748"/>
                  </a:lnTo>
                  <a:lnTo>
                    <a:pt x="245" y="748"/>
                  </a:lnTo>
                  <a:close/>
                  <a:moveTo>
                    <a:pt x="284" y="766"/>
                  </a:moveTo>
                  <a:lnTo>
                    <a:pt x="292" y="771"/>
                  </a:lnTo>
                  <a:lnTo>
                    <a:pt x="301" y="774"/>
                  </a:lnTo>
                  <a:lnTo>
                    <a:pt x="302" y="775"/>
                  </a:lnTo>
                  <a:lnTo>
                    <a:pt x="302" y="775"/>
                  </a:lnTo>
                  <a:lnTo>
                    <a:pt x="304" y="777"/>
                  </a:lnTo>
                  <a:lnTo>
                    <a:pt x="302" y="779"/>
                  </a:lnTo>
                  <a:lnTo>
                    <a:pt x="302" y="780"/>
                  </a:lnTo>
                  <a:lnTo>
                    <a:pt x="301" y="780"/>
                  </a:lnTo>
                  <a:lnTo>
                    <a:pt x="301" y="780"/>
                  </a:lnTo>
                  <a:lnTo>
                    <a:pt x="299" y="780"/>
                  </a:lnTo>
                  <a:lnTo>
                    <a:pt x="289" y="777"/>
                  </a:lnTo>
                  <a:lnTo>
                    <a:pt x="281" y="772"/>
                  </a:lnTo>
                  <a:lnTo>
                    <a:pt x="281" y="772"/>
                  </a:lnTo>
                  <a:lnTo>
                    <a:pt x="280" y="771"/>
                  </a:lnTo>
                  <a:lnTo>
                    <a:pt x="280" y="769"/>
                  </a:lnTo>
                  <a:lnTo>
                    <a:pt x="280" y="768"/>
                  </a:lnTo>
                  <a:lnTo>
                    <a:pt x="281" y="768"/>
                  </a:lnTo>
                  <a:lnTo>
                    <a:pt x="283" y="766"/>
                  </a:lnTo>
                  <a:lnTo>
                    <a:pt x="283" y="766"/>
                  </a:lnTo>
                  <a:lnTo>
                    <a:pt x="284" y="766"/>
                  </a:lnTo>
                  <a:lnTo>
                    <a:pt x="284" y="766"/>
                  </a:lnTo>
                  <a:close/>
                  <a:moveTo>
                    <a:pt x="325" y="783"/>
                  </a:moveTo>
                  <a:lnTo>
                    <a:pt x="341" y="791"/>
                  </a:lnTo>
                  <a:lnTo>
                    <a:pt x="343" y="791"/>
                  </a:lnTo>
                  <a:lnTo>
                    <a:pt x="343" y="792"/>
                  </a:lnTo>
                  <a:lnTo>
                    <a:pt x="343" y="794"/>
                  </a:lnTo>
                  <a:lnTo>
                    <a:pt x="343" y="794"/>
                  </a:lnTo>
                  <a:lnTo>
                    <a:pt x="343" y="795"/>
                  </a:lnTo>
                  <a:lnTo>
                    <a:pt x="341" y="795"/>
                  </a:lnTo>
                  <a:lnTo>
                    <a:pt x="340" y="797"/>
                  </a:lnTo>
                  <a:lnTo>
                    <a:pt x="340" y="795"/>
                  </a:lnTo>
                  <a:lnTo>
                    <a:pt x="322" y="789"/>
                  </a:lnTo>
                  <a:lnTo>
                    <a:pt x="320" y="789"/>
                  </a:lnTo>
                  <a:lnTo>
                    <a:pt x="320" y="788"/>
                  </a:lnTo>
                  <a:lnTo>
                    <a:pt x="320" y="786"/>
                  </a:lnTo>
                  <a:lnTo>
                    <a:pt x="320" y="785"/>
                  </a:lnTo>
                  <a:lnTo>
                    <a:pt x="320" y="785"/>
                  </a:lnTo>
                  <a:lnTo>
                    <a:pt x="322" y="783"/>
                  </a:lnTo>
                  <a:lnTo>
                    <a:pt x="323" y="783"/>
                  </a:lnTo>
                  <a:lnTo>
                    <a:pt x="325" y="783"/>
                  </a:lnTo>
                  <a:lnTo>
                    <a:pt x="325" y="783"/>
                  </a:lnTo>
                  <a:close/>
                  <a:moveTo>
                    <a:pt x="364" y="798"/>
                  </a:moveTo>
                  <a:lnTo>
                    <a:pt x="382" y="803"/>
                  </a:lnTo>
                  <a:lnTo>
                    <a:pt x="383" y="804"/>
                  </a:lnTo>
                  <a:lnTo>
                    <a:pt x="385" y="806"/>
                  </a:lnTo>
                  <a:lnTo>
                    <a:pt x="385" y="807"/>
                  </a:lnTo>
                  <a:lnTo>
                    <a:pt x="383" y="809"/>
                  </a:lnTo>
                  <a:lnTo>
                    <a:pt x="383" y="809"/>
                  </a:lnTo>
                  <a:lnTo>
                    <a:pt x="382" y="809"/>
                  </a:lnTo>
                  <a:lnTo>
                    <a:pt x="380" y="809"/>
                  </a:lnTo>
                  <a:lnTo>
                    <a:pt x="362" y="804"/>
                  </a:lnTo>
                  <a:lnTo>
                    <a:pt x="362" y="803"/>
                  </a:lnTo>
                  <a:lnTo>
                    <a:pt x="361" y="803"/>
                  </a:lnTo>
                  <a:lnTo>
                    <a:pt x="361" y="801"/>
                  </a:lnTo>
                  <a:lnTo>
                    <a:pt x="361" y="800"/>
                  </a:lnTo>
                  <a:lnTo>
                    <a:pt x="361" y="798"/>
                  </a:lnTo>
                  <a:lnTo>
                    <a:pt x="362" y="798"/>
                  </a:lnTo>
                  <a:lnTo>
                    <a:pt x="364" y="798"/>
                  </a:lnTo>
                  <a:lnTo>
                    <a:pt x="364" y="798"/>
                  </a:lnTo>
                  <a:lnTo>
                    <a:pt x="364" y="798"/>
                  </a:lnTo>
                  <a:close/>
                  <a:moveTo>
                    <a:pt x="406" y="810"/>
                  </a:moveTo>
                  <a:lnTo>
                    <a:pt x="424" y="815"/>
                  </a:lnTo>
                  <a:lnTo>
                    <a:pt x="425" y="815"/>
                  </a:lnTo>
                  <a:lnTo>
                    <a:pt x="425" y="816"/>
                  </a:lnTo>
                  <a:lnTo>
                    <a:pt x="425" y="818"/>
                  </a:lnTo>
                  <a:lnTo>
                    <a:pt x="425" y="818"/>
                  </a:lnTo>
                  <a:lnTo>
                    <a:pt x="425" y="819"/>
                  </a:lnTo>
                  <a:lnTo>
                    <a:pt x="424" y="821"/>
                  </a:lnTo>
                  <a:lnTo>
                    <a:pt x="424" y="821"/>
                  </a:lnTo>
                  <a:lnTo>
                    <a:pt x="422" y="821"/>
                  </a:lnTo>
                  <a:lnTo>
                    <a:pt x="404" y="816"/>
                  </a:lnTo>
                  <a:lnTo>
                    <a:pt x="403" y="816"/>
                  </a:lnTo>
                  <a:lnTo>
                    <a:pt x="403" y="815"/>
                  </a:lnTo>
                  <a:lnTo>
                    <a:pt x="401" y="813"/>
                  </a:lnTo>
                  <a:lnTo>
                    <a:pt x="401" y="813"/>
                  </a:lnTo>
                  <a:lnTo>
                    <a:pt x="403" y="812"/>
                  </a:lnTo>
                  <a:lnTo>
                    <a:pt x="403" y="810"/>
                  </a:lnTo>
                  <a:lnTo>
                    <a:pt x="404" y="810"/>
                  </a:lnTo>
                  <a:lnTo>
                    <a:pt x="406" y="810"/>
                  </a:lnTo>
                  <a:lnTo>
                    <a:pt x="406" y="810"/>
                  </a:lnTo>
                  <a:close/>
                  <a:moveTo>
                    <a:pt x="448" y="821"/>
                  </a:moveTo>
                  <a:lnTo>
                    <a:pt x="461" y="824"/>
                  </a:lnTo>
                  <a:lnTo>
                    <a:pt x="466" y="824"/>
                  </a:lnTo>
                  <a:lnTo>
                    <a:pt x="466" y="825"/>
                  </a:lnTo>
                  <a:lnTo>
                    <a:pt x="468" y="825"/>
                  </a:lnTo>
                  <a:lnTo>
                    <a:pt x="468" y="827"/>
                  </a:lnTo>
                  <a:lnTo>
                    <a:pt x="468" y="827"/>
                  </a:lnTo>
                  <a:lnTo>
                    <a:pt x="468" y="828"/>
                  </a:lnTo>
                  <a:lnTo>
                    <a:pt x="468" y="830"/>
                  </a:lnTo>
                  <a:lnTo>
                    <a:pt x="466" y="830"/>
                  </a:lnTo>
                  <a:lnTo>
                    <a:pt x="465" y="830"/>
                  </a:lnTo>
                  <a:lnTo>
                    <a:pt x="461" y="830"/>
                  </a:lnTo>
                  <a:lnTo>
                    <a:pt x="446" y="827"/>
                  </a:lnTo>
                  <a:lnTo>
                    <a:pt x="445" y="825"/>
                  </a:lnTo>
                  <a:lnTo>
                    <a:pt x="445" y="825"/>
                  </a:lnTo>
                  <a:lnTo>
                    <a:pt x="443" y="824"/>
                  </a:lnTo>
                  <a:lnTo>
                    <a:pt x="443" y="822"/>
                  </a:lnTo>
                  <a:lnTo>
                    <a:pt x="445" y="821"/>
                  </a:lnTo>
                  <a:lnTo>
                    <a:pt x="445" y="821"/>
                  </a:lnTo>
                  <a:lnTo>
                    <a:pt x="446" y="821"/>
                  </a:lnTo>
                  <a:lnTo>
                    <a:pt x="448" y="821"/>
                  </a:lnTo>
                  <a:lnTo>
                    <a:pt x="448" y="821"/>
                  </a:lnTo>
                  <a:close/>
                  <a:moveTo>
                    <a:pt x="490" y="828"/>
                  </a:moveTo>
                  <a:lnTo>
                    <a:pt x="508" y="831"/>
                  </a:lnTo>
                  <a:lnTo>
                    <a:pt x="510" y="831"/>
                  </a:lnTo>
                  <a:lnTo>
                    <a:pt x="510" y="833"/>
                  </a:lnTo>
                  <a:lnTo>
                    <a:pt x="511" y="833"/>
                  </a:lnTo>
                  <a:lnTo>
                    <a:pt x="511" y="834"/>
                  </a:lnTo>
                  <a:lnTo>
                    <a:pt x="510" y="836"/>
                  </a:lnTo>
                  <a:lnTo>
                    <a:pt x="510" y="837"/>
                  </a:lnTo>
                  <a:lnTo>
                    <a:pt x="508" y="837"/>
                  </a:lnTo>
                  <a:lnTo>
                    <a:pt x="507" y="837"/>
                  </a:lnTo>
                  <a:lnTo>
                    <a:pt x="489" y="834"/>
                  </a:lnTo>
                  <a:lnTo>
                    <a:pt x="487" y="834"/>
                  </a:lnTo>
                  <a:lnTo>
                    <a:pt x="487" y="833"/>
                  </a:lnTo>
                  <a:lnTo>
                    <a:pt x="487" y="831"/>
                  </a:lnTo>
                  <a:lnTo>
                    <a:pt x="487" y="831"/>
                  </a:lnTo>
                  <a:lnTo>
                    <a:pt x="487" y="830"/>
                  </a:lnTo>
                  <a:lnTo>
                    <a:pt x="487" y="828"/>
                  </a:lnTo>
                  <a:lnTo>
                    <a:pt x="489" y="828"/>
                  </a:lnTo>
                  <a:lnTo>
                    <a:pt x="490" y="828"/>
                  </a:lnTo>
                  <a:lnTo>
                    <a:pt x="490" y="828"/>
                  </a:lnTo>
                  <a:close/>
                  <a:moveTo>
                    <a:pt x="532" y="834"/>
                  </a:moveTo>
                  <a:lnTo>
                    <a:pt x="550" y="836"/>
                  </a:lnTo>
                  <a:lnTo>
                    <a:pt x="552" y="837"/>
                  </a:lnTo>
                  <a:lnTo>
                    <a:pt x="553" y="837"/>
                  </a:lnTo>
                  <a:lnTo>
                    <a:pt x="553" y="839"/>
                  </a:lnTo>
                  <a:lnTo>
                    <a:pt x="553" y="840"/>
                  </a:lnTo>
                  <a:lnTo>
                    <a:pt x="553" y="840"/>
                  </a:lnTo>
                  <a:lnTo>
                    <a:pt x="553" y="842"/>
                  </a:lnTo>
                  <a:lnTo>
                    <a:pt x="552" y="842"/>
                  </a:lnTo>
                  <a:lnTo>
                    <a:pt x="550" y="843"/>
                  </a:lnTo>
                  <a:lnTo>
                    <a:pt x="532" y="840"/>
                  </a:lnTo>
                  <a:lnTo>
                    <a:pt x="531" y="840"/>
                  </a:lnTo>
                  <a:lnTo>
                    <a:pt x="529" y="840"/>
                  </a:lnTo>
                  <a:lnTo>
                    <a:pt x="529" y="839"/>
                  </a:lnTo>
                  <a:lnTo>
                    <a:pt x="529" y="837"/>
                  </a:lnTo>
                  <a:lnTo>
                    <a:pt x="529" y="836"/>
                  </a:lnTo>
                  <a:lnTo>
                    <a:pt x="531" y="836"/>
                  </a:lnTo>
                  <a:lnTo>
                    <a:pt x="531" y="834"/>
                  </a:lnTo>
                  <a:lnTo>
                    <a:pt x="532" y="834"/>
                  </a:lnTo>
                  <a:lnTo>
                    <a:pt x="532" y="834"/>
                  </a:lnTo>
                  <a:close/>
                  <a:moveTo>
                    <a:pt x="576" y="839"/>
                  </a:moveTo>
                  <a:lnTo>
                    <a:pt x="589" y="840"/>
                  </a:lnTo>
                  <a:lnTo>
                    <a:pt x="594" y="840"/>
                  </a:lnTo>
                  <a:lnTo>
                    <a:pt x="595" y="840"/>
                  </a:lnTo>
                  <a:lnTo>
                    <a:pt x="595" y="842"/>
                  </a:lnTo>
                  <a:lnTo>
                    <a:pt x="597" y="842"/>
                  </a:lnTo>
                  <a:lnTo>
                    <a:pt x="597" y="843"/>
                  </a:lnTo>
                  <a:lnTo>
                    <a:pt x="597" y="845"/>
                  </a:lnTo>
                  <a:lnTo>
                    <a:pt x="595" y="846"/>
                  </a:lnTo>
                  <a:lnTo>
                    <a:pt x="595" y="846"/>
                  </a:lnTo>
                  <a:lnTo>
                    <a:pt x="594" y="846"/>
                  </a:lnTo>
                  <a:lnTo>
                    <a:pt x="589" y="846"/>
                  </a:lnTo>
                  <a:lnTo>
                    <a:pt x="574" y="845"/>
                  </a:lnTo>
                  <a:lnTo>
                    <a:pt x="574" y="845"/>
                  </a:lnTo>
                  <a:lnTo>
                    <a:pt x="573" y="843"/>
                  </a:lnTo>
                  <a:lnTo>
                    <a:pt x="573" y="843"/>
                  </a:lnTo>
                  <a:lnTo>
                    <a:pt x="571" y="842"/>
                  </a:lnTo>
                  <a:lnTo>
                    <a:pt x="573" y="839"/>
                  </a:lnTo>
                  <a:lnTo>
                    <a:pt x="574" y="839"/>
                  </a:lnTo>
                  <a:lnTo>
                    <a:pt x="576" y="839"/>
                  </a:lnTo>
                  <a:lnTo>
                    <a:pt x="576" y="839"/>
                  </a:lnTo>
                  <a:close/>
                  <a:moveTo>
                    <a:pt x="618" y="840"/>
                  </a:moveTo>
                  <a:lnTo>
                    <a:pt x="637" y="842"/>
                  </a:lnTo>
                  <a:lnTo>
                    <a:pt x="637" y="842"/>
                  </a:lnTo>
                  <a:lnTo>
                    <a:pt x="639" y="843"/>
                  </a:lnTo>
                  <a:lnTo>
                    <a:pt x="640" y="843"/>
                  </a:lnTo>
                  <a:lnTo>
                    <a:pt x="640" y="845"/>
                  </a:lnTo>
                  <a:lnTo>
                    <a:pt x="639" y="846"/>
                  </a:lnTo>
                  <a:lnTo>
                    <a:pt x="639" y="846"/>
                  </a:lnTo>
                  <a:lnTo>
                    <a:pt x="637" y="848"/>
                  </a:lnTo>
                  <a:lnTo>
                    <a:pt x="637" y="848"/>
                  </a:lnTo>
                  <a:lnTo>
                    <a:pt x="618" y="848"/>
                  </a:lnTo>
                  <a:lnTo>
                    <a:pt x="616" y="846"/>
                  </a:lnTo>
                  <a:lnTo>
                    <a:pt x="616" y="846"/>
                  </a:lnTo>
                  <a:lnTo>
                    <a:pt x="615" y="845"/>
                  </a:lnTo>
                  <a:lnTo>
                    <a:pt x="615" y="845"/>
                  </a:lnTo>
                  <a:lnTo>
                    <a:pt x="615" y="843"/>
                  </a:lnTo>
                  <a:lnTo>
                    <a:pt x="616" y="842"/>
                  </a:lnTo>
                  <a:lnTo>
                    <a:pt x="618" y="842"/>
                  </a:lnTo>
                  <a:lnTo>
                    <a:pt x="618" y="840"/>
                  </a:lnTo>
                  <a:lnTo>
                    <a:pt x="618" y="840"/>
                  </a:lnTo>
                  <a:close/>
                  <a:moveTo>
                    <a:pt x="661" y="842"/>
                  </a:moveTo>
                  <a:lnTo>
                    <a:pt x="679" y="842"/>
                  </a:lnTo>
                  <a:lnTo>
                    <a:pt x="681" y="842"/>
                  </a:lnTo>
                  <a:lnTo>
                    <a:pt x="682" y="842"/>
                  </a:lnTo>
                  <a:lnTo>
                    <a:pt x="682" y="843"/>
                  </a:lnTo>
                  <a:lnTo>
                    <a:pt x="682" y="845"/>
                  </a:lnTo>
                  <a:lnTo>
                    <a:pt x="682" y="846"/>
                  </a:lnTo>
                  <a:lnTo>
                    <a:pt x="682" y="846"/>
                  </a:lnTo>
                  <a:lnTo>
                    <a:pt x="681" y="848"/>
                  </a:lnTo>
                  <a:lnTo>
                    <a:pt x="679" y="848"/>
                  </a:lnTo>
                  <a:lnTo>
                    <a:pt x="661" y="848"/>
                  </a:lnTo>
                  <a:lnTo>
                    <a:pt x="660" y="848"/>
                  </a:lnTo>
                  <a:lnTo>
                    <a:pt x="660" y="848"/>
                  </a:lnTo>
                  <a:lnTo>
                    <a:pt x="658" y="846"/>
                  </a:lnTo>
                  <a:lnTo>
                    <a:pt x="658" y="845"/>
                  </a:lnTo>
                  <a:lnTo>
                    <a:pt x="658" y="845"/>
                  </a:lnTo>
                  <a:lnTo>
                    <a:pt x="658" y="843"/>
                  </a:lnTo>
                  <a:lnTo>
                    <a:pt x="660" y="842"/>
                  </a:lnTo>
                  <a:lnTo>
                    <a:pt x="661" y="842"/>
                  </a:lnTo>
                  <a:lnTo>
                    <a:pt x="661" y="842"/>
                  </a:lnTo>
                  <a:close/>
                  <a:moveTo>
                    <a:pt x="703" y="840"/>
                  </a:moveTo>
                  <a:lnTo>
                    <a:pt x="723" y="840"/>
                  </a:lnTo>
                  <a:lnTo>
                    <a:pt x="723" y="840"/>
                  </a:lnTo>
                  <a:lnTo>
                    <a:pt x="724" y="840"/>
                  </a:lnTo>
                  <a:lnTo>
                    <a:pt x="724" y="840"/>
                  </a:lnTo>
                  <a:lnTo>
                    <a:pt x="726" y="842"/>
                  </a:lnTo>
                  <a:lnTo>
                    <a:pt x="726" y="843"/>
                  </a:lnTo>
                  <a:lnTo>
                    <a:pt x="726" y="845"/>
                  </a:lnTo>
                  <a:lnTo>
                    <a:pt x="726" y="845"/>
                  </a:lnTo>
                  <a:lnTo>
                    <a:pt x="724" y="846"/>
                  </a:lnTo>
                  <a:lnTo>
                    <a:pt x="723" y="846"/>
                  </a:lnTo>
                  <a:lnTo>
                    <a:pt x="723" y="846"/>
                  </a:lnTo>
                  <a:lnTo>
                    <a:pt x="705" y="846"/>
                  </a:lnTo>
                  <a:lnTo>
                    <a:pt x="703" y="846"/>
                  </a:lnTo>
                  <a:lnTo>
                    <a:pt x="702" y="846"/>
                  </a:lnTo>
                  <a:lnTo>
                    <a:pt x="702" y="845"/>
                  </a:lnTo>
                  <a:lnTo>
                    <a:pt x="702" y="843"/>
                  </a:lnTo>
                  <a:lnTo>
                    <a:pt x="702" y="843"/>
                  </a:lnTo>
                  <a:lnTo>
                    <a:pt x="702" y="842"/>
                  </a:lnTo>
                  <a:lnTo>
                    <a:pt x="703" y="840"/>
                  </a:lnTo>
                  <a:lnTo>
                    <a:pt x="703" y="840"/>
                  </a:lnTo>
                  <a:lnTo>
                    <a:pt x="703" y="840"/>
                  </a:lnTo>
                  <a:close/>
                  <a:moveTo>
                    <a:pt x="747" y="837"/>
                  </a:moveTo>
                  <a:lnTo>
                    <a:pt x="765" y="836"/>
                  </a:lnTo>
                  <a:lnTo>
                    <a:pt x="766" y="836"/>
                  </a:lnTo>
                  <a:lnTo>
                    <a:pt x="768" y="837"/>
                  </a:lnTo>
                  <a:lnTo>
                    <a:pt x="768" y="837"/>
                  </a:lnTo>
                  <a:lnTo>
                    <a:pt x="769" y="839"/>
                  </a:lnTo>
                  <a:lnTo>
                    <a:pt x="769" y="840"/>
                  </a:lnTo>
                  <a:lnTo>
                    <a:pt x="768" y="840"/>
                  </a:lnTo>
                  <a:lnTo>
                    <a:pt x="768" y="842"/>
                  </a:lnTo>
                  <a:lnTo>
                    <a:pt x="766" y="842"/>
                  </a:lnTo>
                  <a:lnTo>
                    <a:pt x="747" y="843"/>
                  </a:lnTo>
                  <a:lnTo>
                    <a:pt x="747" y="843"/>
                  </a:lnTo>
                  <a:lnTo>
                    <a:pt x="745" y="843"/>
                  </a:lnTo>
                  <a:lnTo>
                    <a:pt x="744" y="842"/>
                  </a:lnTo>
                  <a:lnTo>
                    <a:pt x="744" y="840"/>
                  </a:lnTo>
                  <a:lnTo>
                    <a:pt x="744" y="840"/>
                  </a:lnTo>
                  <a:lnTo>
                    <a:pt x="745" y="839"/>
                  </a:lnTo>
                  <a:lnTo>
                    <a:pt x="745" y="837"/>
                  </a:lnTo>
                  <a:lnTo>
                    <a:pt x="747" y="837"/>
                  </a:lnTo>
                  <a:lnTo>
                    <a:pt x="747" y="837"/>
                  </a:lnTo>
                  <a:close/>
                  <a:moveTo>
                    <a:pt x="789" y="833"/>
                  </a:moveTo>
                  <a:lnTo>
                    <a:pt x="809" y="830"/>
                  </a:lnTo>
                  <a:lnTo>
                    <a:pt x="809" y="830"/>
                  </a:lnTo>
                  <a:lnTo>
                    <a:pt x="810" y="831"/>
                  </a:lnTo>
                  <a:lnTo>
                    <a:pt x="812" y="831"/>
                  </a:lnTo>
                  <a:lnTo>
                    <a:pt x="812" y="833"/>
                  </a:lnTo>
                  <a:lnTo>
                    <a:pt x="812" y="834"/>
                  </a:lnTo>
                  <a:lnTo>
                    <a:pt x="812" y="836"/>
                  </a:lnTo>
                  <a:lnTo>
                    <a:pt x="810" y="836"/>
                  </a:lnTo>
                  <a:lnTo>
                    <a:pt x="809" y="836"/>
                  </a:lnTo>
                  <a:lnTo>
                    <a:pt x="791" y="839"/>
                  </a:lnTo>
                  <a:lnTo>
                    <a:pt x="789" y="839"/>
                  </a:lnTo>
                  <a:lnTo>
                    <a:pt x="789" y="839"/>
                  </a:lnTo>
                  <a:lnTo>
                    <a:pt x="788" y="839"/>
                  </a:lnTo>
                  <a:lnTo>
                    <a:pt x="788" y="837"/>
                  </a:lnTo>
                  <a:lnTo>
                    <a:pt x="788" y="836"/>
                  </a:lnTo>
                  <a:lnTo>
                    <a:pt x="788" y="834"/>
                  </a:lnTo>
                  <a:lnTo>
                    <a:pt x="789" y="834"/>
                  </a:lnTo>
                  <a:lnTo>
                    <a:pt x="789" y="833"/>
                  </a:lnTo>
                  <a:lnTo>
                    <a:pt x="789" y="833"/>
                  </a:lnTo>
                  <a:close/>
                  <a:moveTo>
                    <a:pt x="833" y="827"/>
                  </a:moveTo>
                  <a:lnTo>
                    <a:pt x="849" y="824"/>
                  </a:lnTo>
                  <a:lnTo>
                    <a:pt x="851" y="824"/>
                  </a:lnTo>
                  <a:lnTo>
                    <a:pt x="852" y="824"/>
                  </a:lnTo>
                  <a:lnTo>
                    <a:pt x="852" y="824"/>
                  </a:lnTo>
                  <a:lnTo>
                    <a:pt x="854" y="824"/>
                  </a:lnTo>
                  <a:lnTo>
                    <a:pt x="854" y="825"/>
                  </a:lnTo>
                  <a:lnTo>
                    <a:pt x="854" y="827"/>
                  </a:lnTo>
                  <a:lnTo>
                    <a:pt x="854" y="828"/>
                  </a:lnTo>
                  <a:lnTo>
                    <a:pt x="854" y="828"/>
                  </a:lnTo>
                  <a:lnTo>
                    <a:pt x="852" y="830"/>
                  </a:lnTo>
                  <a:lnTo>
                    <a:pt x="851" y="830"/>
                  </a:lnTo>
                  <a:lnTo>
                    <a:pt x="834" y="833"/>
                  </a:lnTo>
                  <a:lnTo>
                    <a:pt x="833" y="833"/>
                  </a:lnTo>
                  <a:lnTo>
                    <a:pt x="831" y="831"/>
                  </a:lnTo>
                  <a:lnTo>
                    <a:pt x="830" y="831"/>
                  </a:lnTo>
                  <a:lnTo>
                    <a:pt x="830" y="830"/>
                  </a:lnTo>
                  <a:lnTo>
                    <a:pt x="830" y="828"/>
                  </a:lnTo>
                  <a:lnTo>
                    <a:pt x="831" y="828"/>
                  </a:lnTo>
                  <a:lnTo>
                    <a:pt x="831" y="827"/>
                  </a:lnTo>
                  <a:lnTo>
                    <a:pt x="833" y="827"/>
                  </a:lnTo>
                  <a:lnTo>
                    <a:pt x="833" y="827"/>
                  </a:lnTo>
                  <a:close/>
                  <a:moveTo>
                    <a:pt x="875" y="818"/>
                  </a:moveTo>
                  <a:lnTo>
                    <a:pt x="893" y="813"/>
                  </a:lnTo>
                  <a:lnTo>
                    <a:pt x="894" y="813"/>
                  </a:lnTo>
                  <a:lnTo>
                    <a:pt x="894" y="813"/>
                  </a:lnTo>
                  <a:lnTo>
                    <a:pt x="896" y="815"/>
                  </a:lnTo>
                  <a:lnTo>
                    <a:pt x="896" y="816"/>
                  </a:lnTo>
                  <a:lnTo>
                    <a:pt x="896" y="818"/>
                  </a:lnTo>
                  <a:lnTo>
                    <a:pt x="896" y="818"/>
                  </a:lnTo>
                  <a:lnTo>
                    <a:pt x="896" y="819"/>
                  </a:lnTo>
                  <a:lnTo>
                    <a:pt x="894" y="819"/>
                  </a:lnTo>
                  <a:lnTo>
                    <a:pt x="876" y="824"/>
                  </a:lnTo>
                  <a:lnTo>
                    <a:pt x="875" y="824"/>
                  </a:lnTo>
                  <a:lnTo>
                    <a:pt x="873" y="824"/>
                  </a:lnTo>
                  <a:lnTo>
                    <a:pt x="873" y="822"/>
                  </a:lnTo>
                  <a:lnTo>
                    <a:pt x="872" y="821"/>
                  </a:lnTo>
                  <a:lnTo>
                    <a:pt x="872" y="821"/>
                  </a:lnTo>
                  <a:lnTo>
                    <a:pt x="873" y="819"/>
                  </a:lnTo>
                  <a:lnTo>
                    <a:pt x="873" y="818"/>
                  </a:lnTo>
                  <a:lnTo>
                    <a:pt x="875" y="818"/>
                  </a:lnTo>
                  <a:lnTo>
                    <a:pt x="875" y="818"/>
                  </a:lnTo>
                  <a:close/>
                  <a:moveTo>
                    <a:pt x="917" y="807"/>
                  </a:moveTo>
                  <a:lnTo>
                    <a:pt x="933" y="803"/>
                  </a:lnTo>
                  <a:lnTo>
                    <a:pt x="935" y="801"/>
                  </a:lnTo>
                  <a:lnTo>
                    <a:pt x="936" y="803"/>
                  </a:lnTo>
                  <a:lnTo>
                    <a:pt x="938" y="803"/>
                  </a:lnTo>
                  <a:lnTo>
                    <a:pt x="938" y="804"/>
                  </a:lnTo>
                  <a:lnTo>
                    <a:pt x="938" y="806"/>
                  </a:lnTo>
                  <a:lnTo>
                    <a:pt x="938" y="806"/>
                  </a:lnTo>
                  <a:lnTo>
                    <a:pt x="936" y="807"/>
                  </a:lnTo>
                  <a:lnTo>
                    <a:pt x="936" y="807"/>
                  </a:lnTo>
                  <a:lnTo>
                    <a:pt x="918" y="813"/>
                  </a:lnTo>
                  <a:lnTo>
                    <a:pt x="917" y="813"/>
                  </a:lnTo>
                  <a:lnTo>
                    <a:pt x="915" y="813"/>
                  </a:lnTo>
                  <a:lnTo>
                    <a:pt x="915" y="812"/>
                  </a:lnTo>
                  <a:lnTo>
                    <a:pt x="914" y="812"/>
                  </a:lnTo>
                  <a:lnTo>
                    <a:pt x="914" y="810"/>
                  </a:lnTo>
                  <a:lnTo>
                    <a:pt x="914" y="809"/>
                  </a:lnTo>
                  <a:lnTo>
                    <a:pt x="915" y="807"/>
                  </a:lnTo>
                  <a:lnTo>
                    <a:pt x="917" y="807"/>
                  </a:lnTo>
                  <a:lnTo>
                    <a:pt x="917" y="807"/>
                  </a:lnTo>
                  <a:close/>
                  <a:moveTo>
                    <a:pt x="957" y="795"/>
                  </a:moveTo>
                  <a:lnTo>
                    <a:pt x="966" y="792"/>
                  </a:lnTo>
                  <a:lnTo>
                    <a:pt x="975" y="789"/>
                  </a:lnTo>
                  <a:lnTo>
                    <a:pt x="975" y="788"/>
                  </a:lnTo>
                  <a:lnTo>
                    <a:pt x="977" y="788"/>
                  </a:lnTo>
                  <a:lnTo>
                    <a:pt x="978" y="789"/>
                  </a:lnTo>
                  <a:lnTo>
                    <a:pt x="978" y="791"/>
                  </a:lnTo>
                  <a:lnTo>
                    <a:pt x="978" y="791"/>
                  </a:lnTo>
                  <a:lnTo>
                    <a:pt x="978" y="792"/>
                  </a:lnTo>
                  <a:lnTo>
                    <a:pt x="978" y="794"/>
                  </a:lnTo>
                  <a:lnTo>
                    <a:pt x="977" y="794"/>
                  </a:lnTo>
                  <a:lnTo>
                    <a:pt x="968" y="798"/>
                  </a:lnTo>
                  <a:lnTo>
                    <a:pt x="959" y="800"/>
                  </a:lnTo>
                  <a:lnTo>
                    <a:pt x="959" y="801"/>
                  </a:lnTo>
                  <a:lnTo>
                    <a:pt x="957" y="800"/>
                  </a:lnTo>
                  <a:lnTo>
                    <a:pt x="956" y="800"/>
                  </a:lnTo>
                  <a:lnTo>
                    <a:pt x="956" y="798"/>
                  </a:lnTo>
                  <a:lnTo>
                    <a:pt x="956" y="797"/>
                  </a:lnTo>
                  <a:lnTo>
                    <a:pt x="956" y="797"/>
                  </a:lnTo>
                  <a:lnTo>
                    <a:pt x="956" y="795"/>
                  </a:lnTo>
                  <a:lnTo>
                    <a:pt x="957" y="795"/>
                  </a:lnTo>
                  <a:lnTo>
                    <a:pt x="957" y="795"/>
                  </a:lnTo>
                  <a:close/>
                  <a:moveTo>
                    <a:pt x="998" y="779"/>
                  </a:moveTo>
                  <a:lnTo>
                    <a:pt x="1014" y="772"/>
                  </a:lnTo>
                  <a:lnTo>
                    <a:pt x="1016" y="772"/>
                  </a:lnTo>
                  <a:lnTo>
                    <a:pt x="1017" y="772"/>
                  </a:lnTo>
                  <a:lnTo>
                    <a:pt x="1019" y="772"/>
                  </a:lnTo>
                  <a:lnTo>
                    <a:pt x="1019" y="774"/>
                  </a:lnTo>
                  <a:lnTo>
                    <a:pt x="1019" y="775"/>
                  </a:lnTo>
                  <a:lnTo>
                    <a:pt x="1019" y="777"/>
                  </a:lnTo>
                  <a:lnTo>
                    <a:pt x="1017" y="779"/>
                  </a:lnTo>
                  <a:lnTo>
                    <a:pt x="999" y="785"/>
                  </a:lnTo>
                  <a:lnTo>
                    <a:pt x="998" y="785"/>
                  </a:lnTo>
                  <a:lnTo>
                    <a:pt x="998" y="785"/>
                  </a:lnTo>
                  <a:lnTo>
                    <a:pt x="996" y="785"/>
                  </a:lnTo>
                  <a:lnTo>
                    <a:pt x="996" y="783"/>
                  </a:lnTo>
                  <a:lnTo>
                    <a:pt x="995" y="782"/>
                  </a:lnTo>
                  <a:lnTo>
                    <a:pt x="996" y="782"/>
                  </a:lnTo>
                  <a:lnTo>
                    <a:pt x="996" y="780"/>
                  </a:lnTo>
                  <a:lnTo>
                    <a:pt x="998" y="779"/>
                  </a:lnTo>
                  <a:lnTo>
                    <a:pt x="998" y="779"/>
                  </a:lnTo>
                  <a:close/>
                  <a:moveTo>
                    <a:pt x="1037" y="762"/>
                  </a:moveTo>
                  <a:lnTo>
                    <a:pt x="1053" y="754"/>
                  </a:lnTo>
                  <a:lnTo>
                    <a:pt x="1055" y="754"/>
                  </a:lnTo>
                  <a:lnTo>
                    <a:pt x="1056" y="754"/>
                  </a:lnTo>
                  <a:lnTo>
                    <a:pt x="1056" y="754"/>
                  </a:lnTo>
                  <a:lnTo>
                    <a:pt x="1058" y="756"/>
                  </a:lnTo>
                  <a:lnTo>
                    <a:pt x="1058" y="757"/>
                  </a:lnTo>
                  <a:lnTo>
                    <a:pt x="1058" y="757"/>
                  </a:lnTo>
                  <a:lnTo>
                    <a:pt x="1058" y="759"/>
                  </a:lnTo>
                  <a:lnTo>
                    <a:pt x="1056" y="760"/>
                  </a:lnTo>
                  <a:lnTo>
                    <a:pt x="1040" y="768"/>
                  </a:lnTo>
                  <a:lnTo>
                    <a:pt x="1038" y="768"/>
                  </a:lnTo>
                  <a:lnTo>
                    <a:pt x="1037" y="768"/>
                  </a:lnTo>
                  <a:lnTo>
                    <a:pt x="1037" y="768"/>
                  </a:lnTo>
                  <a:lnTo>
                    <a:pt x="1035" y="766"/>
                  </a:lnTo>
                  <a:lnTo>
                    <a:pt x="1035" y="765"/>
                  </a:lnTo>
                  <a:lnTo>
                    <a:pt x="1035" y="763"/>
                  </a:lnTo>
                  <a:lnTo>
                    <a:pt x="1035" y="763"/>
                  </a:lnTo>
                  <a:lnTo>
                    <a:pt x="1037" y="762"/>
                  </a:lnTo>
                  <a:lnTo>
                    <a:pt x="1037" y="762"/>
                  </a:lnTo>
                  <a:close/>
                  <a:moveTo>
                    <a:pt x="1076" y="742"/>
                  </a:moveTo>
                  <a:lnTo>
                    <a:pt x="1091" y="733"/>
                  </a:lnTo>
                  <a:lnTo>
                    <a:pt x="1093" y="733"/>
                  </a:lnTo>
                  <a:lnTo>
                    <a:pt x="1094" y="733"/>
                  </a:lnTo>
                  <a:lnTo>
                    <a:pt x="1096" y="733"/>
                  </a:lnTo>
                  <a:lnTo>
                    <a:pt x="1096" y="735"/>
                  </a:lnTo>
                  <a:lnTo>
                    <a:pt x="1096" y="736"/>
                  </a:lnTo>
                  <a:lnTo>
                    <a:pt x="1096" y="736"/>
                  </a:lnTo>
                  <a:lnTo>
                    <a:pt x="1096" y="738"/>
                  </a:lnTo>
                  <a:lnTo>
                    <a:pt x="1094" y="739"/>
                  </a:lnTo>
                  <a:lnTo>
                    <a:pt x="1079" y="748"/>
                  </a:lnTo>
                  <a:lnTo>
                    <a:pt x="1077" y="748"/>
                  </a:lnTo>
                  <a:lnTo>
                    <a:pt x="1076" y="748"/>
                  </a:lnTo>
                  <a:lnTo>
                    <a:pt x="1076" y="748"/>
                  </a:lnTo>
                  <a:lnTo>
                    <a:pt x="1074" y="747"/>
                  </a:lnTo>
                  <a:lnTo>
                    <a:pt x="1074" y="747"/>
                  </a:lnTo>
                  <a:lnTo>
                    <a:pt x="1074" y="745"/>
                  </a:lnTo>
                  <a:lnTo>
                    <a:pt x="1074" y="744"/>
                  </a:lnTo>
                  <a:lnTo>
                    <a:pt x="1076" y="742"/>
                  </a:lnTo>
                  <a:lnTo>
                    <a:pt x="1076" y="742"/>
                  </a:lnTo>
                  <a:close/>
                  <a:moveTo>
                    <a:pt x="1112" y="721"/>
                  </a:moveTo>
                  <a:lnTo>
                    <a:pt x="1115" y="720"/>
                  </a:lnTo>
                  <a:lnTo>
                    <a:pt x="1127" y="711"/>
                  </a:lnTo>
                  <a:lnTo>
                    <a:pt x="1129" y="711"/>
                  </a:lnTo>
                  <a:lnTo>
                    <a:pt x="1130" y="711"/>
                  </a:lnTo>
                  <a:lnTo>
                    <a:pt x="1132" y="711"/>
                  </a:lnTo>
                  <a:lnTo>
                    <a:pt x="1132" y="711"/>
                  </a:lnTo>
                  <a:lnTo>
                    <a:pt x="1133" y="712"/>
                  </a:lnTo>
                  <a:lnTo>
                    <a:pt x="1133" y="714"/>
                  </a:lnTo>
                  <a:lnTo>
                    <a:pt x="1132" y="715"/>
                  </a:lnTo>
                  <a:lnTo>
                    <a:pt x="1132" y="715"/>
                  </a:lnTo>
                  <a:lnTo>
                    <a:pt x="1120" y="724"/>
                  </a:lnTo>
                  <a:lnTo>
                    <a:pt x="1115" y="726"/>
                  </a:lnTo>
                  <a:lnTo>
                    <a:pt x="1115" y="727"/>
                  </a:lnTo>
                  <a:lnTo>
                    <a:pt x="1114" y="727"/>
                  </a:lnTo>
                  <a:lnTo>
                    <a:pt x="1112" y="726"/>
                  </a:lnTo>
                  <a:lnTo>
                    <a:pt x="1112" y="726"/>
                  </a:lnTo>
                  <a:lnTo>
                    <a:pt x="1111" y="724"/>
                  </a:lnTo>
                  <a:lnTo>
                    <a:pt x="1111" y="723"/>
                  </a:lnTo>
                  <a:lnTo>
                    <a:pt x="1112" y="721"/>
                  </a:lnTo>
                  <a:lnTo>
                    <a:pt x="1112" y="721"/>
                  </a:lnTo>
                  <a:lnTo>
                    <a:pt x="1112" y="721"/>
                  </a:lnTo>
                  <a:close/>
                  <a:moveTo>
                    <a:pt x="1148" y="696"/>
                  </a:moveTo>
                  <a:lnTo>
                    <a:pt x="1157" y="690"/>
                  </a:lnTo>
                  <a:lnTo>
                    <a:pt x="1163" y="685"/>
                  </a:lnTo>
                  <a:lnTo>
                    <a:pt x="1163" y="685"/>
                  </a:lnTo>
                  <a:lnTo>
                    <a:pt x="1165" y="685"/>
                  </a:lnTo>
                  <a:lnTo>
                    <a:pt x="1166" y="685"/>
                  </a:lnTo>
                  <a:lnTo>
                    <a:pt x="1166" y="685"/>
                  </a:lnTo>
                  <a:lnTo>
                    <a:pt x="1168" y="687"/>
                  </a:lnTo>
                  <a:lnTo>
                    <a:pt x="1168" y="688"/>
                  </a:lnTo>
                  <a:lnTo>
                    <a:pt x="1168" y="690"/>
                  </a:lnTo>
                  <a:lnTo>
                    <a:pt x="1166" y="690"/>
                  </a:lnTo>
                  <a:lnTo>
                    <a:pt x="1160" y="694"/>
                  </a:lnTo>
                  <a:lnTo>
                    <a:pt x="1151" y="702"/>
                  </a:lnTo>
                  <a:lnTo>
                    <a:pt x="1150" y="702"/>
                  </a:lnTo>
                  <a:lnTo>
                    <a:pt x="1150" y="702"/>
                  </a:lnTo>
                  <a:lnTo>
                    <a:pt x="1148" y="702"/>
                  </a:lnTo>
                  <a:lnTo>
                    <a:pt x="1147" y="700"/>
                  </a:lnTo>
                  <a:lnTo>
                    <a:pt x="1147" y="700"/>
                  </a:lnTo>
                  <a:lnTo>
                    <a:pt x="1147" y="699"/>
                  </a:lnTo>
                  <a:lnTo>
                    <a:pt x="1148" y="696"/>
                  </a:lnTo>
                  <a:lnTo>
                    <a:pt x="1148" y="696"/>
                  </a:lnTo>
                  <a:close/>
                  <a:moveTo>
                    <a:pt x="1181" y="669"/>
                  </a:moveTo>
                  <a:lnTo>
                    <a:pt x="1195" y="657"/>
                  </a:lnTo>
                  <a:lnTo>
                    <a:pt x="1195" y="657"/>
                  </a:lnTo>
                  <a:lnTo>
                    <a:pt x="1195" y="657"/>
                  </a:lnTo>
                  <a:lnTo>
                    <a:pt x="1196" y="657"/>
                  </a:lnTo>
                  <a:lnTo>
                    <a:pt x="1196" y="657"/>
                  </a:lnTo>
                  <a:lnTo>
                    <a:pt x="1198" y="657"/>
                  </a:lnTo>
                  <a:lnTo>
                    <a:pt x="1199" y="657"/>
                  </a:lnTo>
                  <a:lnTo>
                    <a:pt x="1201" y="658"/>
                  </a:lnTo>
                  <a:lnTo>
                    <a:pt x="1201" y="660"/>
                  </a:lnTo>
                  <a:lnTo>
                    <a:pt x="1201" y="661"/>
                  </a:lnTo>
                  <a:lnTo>
                    <a:pt x="1199" y="661"/>
                  </a:lnTo>
                  <a:lnTo>
                    <a:pt x="1199" y="663"/>
                  </a:lnTo>
                  <a:lnTo>
                    <a:pt x="1186" y="673"/>
                  </a:lnTo>
                  <a:lnTo>
                    <a:pt x="1184" y="675"/>
                  </a:lnTo>
                  <a:lnTo>
                    <a:pt x="1183" y="675"/>
                  </a:lnTo>
                  <a:lnTo>
                    <a:pt x="1181" y="675"/>
                  </a:lnTo>
                  <a:lnTo>
                    <a:pt x="1181" y="673"/>
                  </a:lnTo>
                  <a:lnTo>
                    <a:pt x="1180" y="673"/>
                  </a:lnTo>
                  <a:lnTo>
                    <a:pt x="1180" y="672"/>
                  </a:lnTo>
                  <a:lnTo>
                    <a:pt x="1180" y="670"/>
                  </a:lnTo>
                  <a:lnTo>
                    <a:pt x="1181" y="669"/>
                  </a:lnTo>
                  <a:lnTo>
                    <a:pt x="1181" y="669"/>
                  </a:lnTo>
                  <a:close/>
                  <a:moveTo>
                    <a:pt x="1211" y="640"/>
                  </a:moveTo>
                  <a:lnTo>
                    <a:pt x="1225" y="627"/>
                  </a:lnTo>
                  <a:lnTo>
                    <a:pt x="1226" y="625"/>
                  </a:lnTo>
                  <a:lnTo>
                    <a:pt x="1226" y="625"/>
                  </a:lnTo>
                  <a:lnTo>
                    <a:pt x="1228" y="625"/>
                  </a:lnTo>
                  <a:lnTo>
                    <a:pt x="1229" y="627"/>
                  </a:lnTo>
                  <a:lnTo>
                    <a:pt x="1229" y="627"/>
                  </a:lnTo>
                  <a:lnTo>
                    <a:pt x="1229" y="628"/>
                  </a:lnTo>
                  <a:lnTo>
                    <a:pt x="1229" y="630"/>
                  </a:lnTo>
                  <a:lnTo>
                    <a:pt x="1229" y="630"/>
                  </a:lnTo>
                  <a:lnTo>
                    <a:pt x="1216" y="643"/>
                  </a:lnTo>
                  <a:lnTo>
                    <a:pt x="1216" y="645"/>
                  </a:lnTo>
                  <a:lnTo>
                    <a:pt x="1214" y="645"/>
                  </a:lnTo>
                  <a:lnTo>
                    <a:pt x="1213" y="645"/>
                  </a:lnTo>
                  <a:lnTo>
                    <a:pt x="1213" y="643"/>
                  </a:lnTo>
                  <a:lnTo>
                    <a:pt x="1211" y="643"/>
                  </a:lnTo>
                  <a:lnTo>
                    <a:pt x="1211" y="642"/>
                  </a:lnTo>
                  <a:lnTo>
                    <a:pt x="1211" y="640"/>
                  </a:lnTo>
                  <a:lnTo>
                    <a:pt x="1211" y="640"/>
                  </a:lnTo>
                  <a:lnTo>
                    <a:pt x="1211" y="640"/>
                  </a:lnTo>
                  <a:close/>
                  <a:moveTo>
                    <a:pt x="1240" y="607"/>
                  </a:moveTo>
                  <a:lnTo>
                    <a:pt x="1250" y="592"/>
                  </a:lnTo>
                  <a:lnTo>
                    <a:pt x="1252" y="592"/>
                  </a:lnTo>
                  <a:lnTo>
                    <a:pt x="1253" y="590"/>
                  </a:lnTo>
                  <a:lnTo>
                    <a:pt x="1253" y="590"/>
                  </a:lnTo>
                  <a:lnTo>
                    <a:pt x="1255" y="592"/>
                  </a:lnTo>
                  <a:lnTo>
                    <a:pt x="1256" y="592"/>
                  </a:lnTo>
                  <a:lnTo>
                    <a:pt x="1256" y="593"/>
                  </a:lnTo>
                  <a:lnTo>
                    <a:pt x="1256" y="595"/>
                  </a:lnTo>
                  <a:lnTo>
                    <a:pt x="1256" y="596"/>
                  </a:lnTo>
                  <a:lnTo>
                    <a:pt x="1244" y="610"/>
                  </a:lnTo>
                  <a:lnTo>
                    <a:pt x="1243" y="611"/>
                  </a:lnTo>
                  <a:lnTo>
                    <a:pt x="1243" y="611"/>
                  </a:lnTo>
                  <a:lnTo>
                    <a:pt x="1241" y="611"/>
                  </a:lnTo>
                  <a:lnTo>
                    <a:pt x="1240" y="611"/>
                  </a:lnTo>
                  <a:lnTo>
                    <a:pt x="1240" y="610"/>
                  </a:lnTo>
                  <a:lnTo>
                    <a:pt x="1240" y="608"/>
                  </a:lnTo>
                  <a:lnTo>
                    <a:pt x="1240" y="608"/>
                  </a:lnTo>
                  <a:lnTo>
                    <a:pt x="1240" y="607"/>
                  </a:lnTo>
                  <a:lnTo>
                    <a:pt x="1240" y="607"/>
                  </a:lnTo>
                  <a:close/>
                  <a:moveTo>
                    <a:pt x="1264" y="571"/>
                  </a:moveTo>
                  <a:lnTo>
                    <a:pt x="1273" y="556"/>
                  </a:lnTo>
                  <a:lnTo>
                    <a:pt x="1273" y="554"/>
                  </a:lnTo>
                  <a:lnTo>
                    <a:pt x="1274" y="554"/>
                  </a:lnTo>
                  <a:lnTo>
                    <a:pt x="1276" y="554"/>
                  </a:lnTo>
                  <a:lnTo>
                    <a:pt x="1277" y="554"/>
                  </a:lnTo>
                  <a:lnTo>
                    <a:pt x="1277" y="554"/>
                  </a:lnTo>
                  <a:lnTo>
                    <a:pt x="1279" y="556"/>
                  </a:lnTo>
                  <a:lnTo>
                    <a:pt x="1279" y="557"/>
                  </a:lnTo>
                  <a:lnTo>
                    <a:pt x="1277" y="559"/>
                  </a:lnTo>
                  <a:lnTo>
                    <a:pt x="1268" y="574"/>
                  </a:lnTo>
                  <a:lnTo>
                    <a:pt x="1268" y="575"/>
                  </a:lnTo>
                  <a:lnTo>
                    <a:pt x="1267" y="575"/>
                  </a:lnTo>
                  <a:lnTo>
                    <a:pt x="1265" y="575"/>
                  </a:lnTo>
                  <a:lnTo>
                    <a:pt x="1264" y="575"/>
                  </a:lnTo>
                  <a:lnTo>
                    <a:pt x="1264" y="575"/>
                  </a:lnTo>
                  <a:lnTo>
                    <a:pt x="1264" y="574"/>
                  </a:lnTo>
                  <a:lnTo>
                    <a:pt x="1262" y="572"/>
                  </a:lnTo>
                  <a:lnTo>
                    <a:pt x="1264" y="571"/>
                  </a:lnTo>
                  <a:lnTo>
                    <a:pt x="1264" y="571"/>
                  </a:lnTo>
                  <a:close/>
                  <a:moveTo>
                    <a:pt x="1282" y="533"/>
                  </a:moveTo>
                  <a:lnTo>
                    <a:pt x="1289" y="515"/>
                  </a:lnTo>
                  <a:lnTo>
                    <a:pt x="1289" y="515"/>
                  </a:lnTo>
                  <a:lnTo>
                    <a:pt x="1291" y="514"/>
                  </a:lnTo>
                  <a:lnTo>
                    <a:pt x="1292" y="514"/>
                  </a:lnTo>
                  <a:lnTo>
                    <a:pt x="1294" y="514"/>
                  </a:lnTo>
                  <a:lnTo>
                    <a:pt x="1294" y="515"/>
                  </a:lnTo>
                  <a:lnTo>
                    <a:pt x="1295" y="515"/>
                  </a:lnTo>
                  <a:lnTo>
                    <a:pt x="1295" y="517"/>
                  </a:lnTo>
                  <a:lnTo>
                    <a:pt x="1295" y="518"/>
                  </a:lnTo>
                  <a:lnTo>
                    <a:pt x="1288" y="536"/>
                  </a:lnTo>
                  <a:lnTo>
                    <a:pt x="1288" y="536"/>
                  </a:lnTo>
                  <a:lnTo>
                    <a:pt x="1286" y="538"/>
                  </a:lnTo>
                  <a:lnTo>
                    <a:pt x="1285" y="538"/>
                  </a:lnTo>
                  <a:lnTo>
                    <a:pt x="1285" y="538"/>
                  </a:lnTo>
                  <a:lnTo>
                    <a:pt x="1282" y="535"/>
                  </a:lnTo>
                  <a:lnTo>
                    <a:pt x="1282" y="535"/>
                  </a:lnTo>
                  <a:lnTo>
                    <a:pt x="1282" y="533"/>
                  </a:lnTo>
                  <a:lnTo>
                    <a:pt x="1282" y="533"/>
                  </a:lnTo>
                  <a:close/>
                  <a:moveTo>
                    <a:pt x="1295" y="493"/>
                  </a:moveTo>
                  <a:lnTo>
                    <a:pt x="1300" y="475"/>
                  </a:lnTo>
                  <a:lnTo>
                    <a:pt x="1300" y="473"/>
                  </a:lnTo>
                  <a:lnTo>
                    <a:pt x="1301" y="473"/>
                  </a:lnTo>
                  <a:lnTo>
                    <a:pt x="1303" y="471"/>
                  </a:lnTo>
                  <a:lnTo>
                    <a:pt x="1304" y="471"/>
                  </a:lnTo>
                  <a:lnTo>
                    <a:pt x="1304" y="473"/>
                  </a:lnTo>
                  <a:lnTo>
                    <a:pt x="1306" y="473"/>
                  </a:lnTo>
                  <a:lnTo>
                    <a:pt x="1306" y="475"/>
                  </a:lnTo>
                  <a:lnTo>
                    <a:pt x="1306" y="476"/>
                  </a:lnTo>
                  <a:lnTo>
                    <a:pt x="1301" y="494"/>
                  </a:lnTo>
                  <a:lnTo>
                    <a:pt x="1301" y="496"/>
                  </a:lnTo>
                  <a:lnTo>
                    <a:pt x="1300" y="496"/>
                  </a:lnTo>
                  <a:lnTo>
                    <a:pt x="1300" y="496"/>
                  </a:lnTo>
                  <a:lnTo>
                    <a:pt x="1298" y="496"/>
                  </a:lnTo>
                  <a:lnTo>
                    <a:pt x="1297" y="496"/>
                  </a:lnTo>
                  <a:lnTo>
                    <a:pt x="1297" y="494"/>
                  </a:lnTo>
                  <a:lnTo>
                    <a:pt x="1295" y="494"/>
                  </a:lnTo>
                  <a:lnTo>
                    <a:pt x="1295" y="493"/>
                  </a:lnTo>
                  <a:lnTo>
                    <a:pt x="1295" y="493"/>
                  </a:lnTo>
                  <a:close/>
                  <a:moveTo>
                    <a:pt x="1303" y="450"/>
                  </a:moveTo>
                  <a:lnTo>
                    <a:pt x="1304" y="432"/>
                  </a:lnTo>
                  <a:lnTo>
                    <a:pt x="1304" y="431"/>
                  </a:lnTo>
                  <a:lnTo>
                    <a:pt x="1306" y="429"/>
                  </a:lnTo>
                  <a:lnTo>
                    <a:pt x="1307" y="429"/>
                  </a:lnTo>
                  <a:lnTo>
                    <a:pt x="1307" y="429"/>
                  </a:lnTo>
                  <a:lnTo>
                    <a:pt x="1309" y="429"/>
                  </a:lnTo>
                  <a:lnTo>
                    <a:pt x="1310" y="431"/>
                  </a:lnTo>
                  <a:lnTo>
                    <a:pt x="1310" y="431"/>
                  </a:lnTo>
                  <a:lnTo>
                    <a:pt x="1310" y="432"/>
                  </a:lnTo>
                  <a:lnTo>
                    <a:pt x="1309" y="450"/>
                  </a:lnTo>
                  <a:lnTo>
                    <a:pt x="1309" y="452"/>
                  </a:lnTo>
                  <a:lnTo>
                    <a:pt x="1309" y="453"/>
                  </a:lnTo>
                  <a:lnTo>
                    <a:pt x="1307" y="453"/>
                  </a:lnTo>
                  <a:lnTo>
                    <a:pt x="1306" y="453"/>
                  </a:lnTo>
                  <a:lnTo>
                    <a:pt x="1304" y="453"/>
                  </a:lnTo>
                  <a:lnTo>
                    <a:pt x="1304" y="452"/>
                  </a:lnTo>
                  <a:lnTo>
                    <a:pt x="1303" y="452"/>
                  </a:lnTo>
                  <a:lnTo>
                    <a:pt x="1303" y="450"/>
                  </a:lnTo>
                  <a:lnTo>
                    <a:pt x="1303" y="450"/>
                  </a:lnTo>
                  <a:close/>
                  <a:moveTo>
                    <a:pt x="1304" y="408"/>
                  </a:moveTo>
                  <a:lnTo>
                    <a:pt x="1303" y="389"/>
                  </a:lnTo>
                  <a:lnTo>
                    <a:pt x="1303" y="389"/>
                  </a:lnTo>
                  <a:lnTo>
                    <a:pt x="1303" y="387"/>
                  </a:lnTo>
                  <a:lnTo>
                    <a:pt x="1304" y="386"/>
                  </a:lnTo>
                  <a:lnTo>
                    <a:pt x="1306" y="386"/>
                  </a:lnTo>
                  <a:lnTo>
                    <a:pt x="1307" y="387"/>
                  </a:lnTo>
                  <a:lnTo>
                    <a:pt x="1309" y="387"/>
                  </a:lnTo>
                  <a:lnTo>
                    <a:pt x="1309" y="389"/>
                  </a:lnTo>
                  <a:lnTo>
                    <a:pt x="1310" y="407"/>
                  </a:lnTo>
                  <a:lnTo>
                    <a:pt x="1310" y="408"/>
                  </a:lnTo>
                  <a:lnTo>
                    <a:pt x="1309" y="410"/>
                  </a:lnTo>
                  <a:lnTo>
                    <a:pt x="1309" y="410"/>
                  </a:lnTo>
                  <a:lnTo>
                    <a:pt x="1307" y="411"/>
                  </a:lnTo>
                  <a:lnTo>
                    <a:pt x="1306" y="410"/>
                  </a:lnTo>
                  <a:lnTo>
                    <a:pt x="1304" y="410"/>
                  </a:lnTo>
                  <a:lnTo>
                    <a:pt x="1304" y="408"/>
                  </a:lnTo>
                  <a:lnTo>
                    <a:pt x="1304" y="408"/>
                  </a:lnTo>
                  <a:lnTo>
                    <a:pt x="1304" y="408"/>
                  </a:lnTo>
                  <a:close/>
                  <a:moveTo>
                    <a:pt x="1298" y="365"/>
                  </a:moveTo>
                  <a:lnTo>
                    <a:pt x="1294" y="347"/>
                  </a:lnTo>
                  <a:lnTo>
                    <a:pt x="1294" y="347"/>
                  </a:lnTo>
                  <a:lnTo>
                    <a:pt x="1294" y="345"/>
                  </a:lnTo>
                  <a:lnTo>
                    <a:pt x="1295" y="344"/>
                  </a:lnTo>
                  <a:lnTo>
                    <a:pt x="1297" y="344"/>
                  </a:lnTo>
                  <a:lnTo>
                    <a:pt x="1297" y="344"/>
                  </a:lnTo>
                  <a:lnTo>
                    <a:pt x="1298" y="344"/>
                  </a:lnTo>
                  <a:lnTo>
                    <a:pt x="1298" y="345"/>
                  </a:lnTo>
                  <a:lnTo>
                    <a:pt x="1300" y="347"/>
                  </a:lnTo>
                  <a:lnTo>
                    <a:pt x="1304" y="365"/>
                  </a:lnTo>
                  <a:lnTo>
                    <a:pt x="1304" y="365"/>
                  </a:lnTo>
                  <a:lnTo>
                    <a:pt x="1303" y="366"/>
                  </a:lnTo>
                  <a:lnTo>
                    <a:pt x="1303" y="368"/>
                  </a:lnTo>
                  <a:lnTo>
                    <a:pt x="1301" y="368"/>
                  </a:lnTo>
                  <a:lnTo>
                    <a:pt x="1300" y="368"/>
                  </a:lnTo>
                  <a:lnTo>
                    <a:pt x="1300" y="368"/>
                  </a:lnTo>
                  <a:lnTo>
                    <a:pt x="1298" y="366"/>
                  </a:lnTo>
                  <a:lnTo>
                    <a:pt x="1298" y="365"/>
                  </a:lnTo>
                  <a:lnTo>
                    <a:pt x="1298" y="365"/>
                  </a:lnTo>
                  <a:close/>
                  <a:moveTo>
                    <a:pt x="1286" y="324"/>
                  </a:moveTo>
                  <a:lnTo>
                    <a:pt x="1279" y="307"/>
                  </a:lnTo>
                  <a:lnTo>
                    <a:pt x="1279" y="306"/>
                  </a:lnTo>
                  <a:lnTo>
                    <a:pt x="1279" y="304"/>
                  </a:lnTo>
                  <a:lnTo>
                    <a:pt x="1279" y="304"/>
                  </a:lnTo>
                  <a:lnTo>
                    <a:pt x="1280" y="303"/>
                  </a:lnTo>
                  <a:lnTo>
                    <a:pt x="1282" y="303"/>
                  </a:lnTo>
                  <a:lnTo>
                    <a:pt x="1283" y="303"/>
                  </a:lnTo>
                  <a:lnTo>
                    <a:pt x="1283" y="304"/>
                  </a:lnTo>
                  <a:lnTo>
                    <a:pt x="1285" y="304"/>
                  </a:lnTo>
                  <a:lnTo>
                    <a:pt x="1291" y="323"/>
                  </a:lnTo>
                  <a:lnTo>
                    <a:pt x="1291" y="324"/>
                  </a:lnTo>
                  <a:lnTo>
                    <a:pt x="1291" y="324"/>
                  </a:lnTo>
                  <a:lnTo>
                    <a:pt x="1291" y="326"/>
                  </a:lnTo>
                  <a:lnTo>
                    <a:pt x="1289" y="327"/>
                  </a:lnTo>
                  <a:lnTo>
                    <a:pt x="1288" y="327"/>
                  </a:lnTo>
                  <a:lnTo>
                    <a:pt x="1288" y="326"/>
                  </a:lnTo>
                  <a:lnTo>
                    <a:pt x="1286" y="326"/>
                  </a:lnTo>
                  <a:lnTo>
                    <a:pt x="1286" y="324"/>
                  </a:lnTo>
                  <a:lnTo>
                    <a:pt x="1286" y="324"/>
                  </a:lnTo>
                  <a:close/>
                  <a:moveTo>
                    <a:pt x="1268" y="286"/>
                  </a:moveTo>
                  <a:lnTo>
                    <a:pt x="1258" y="270"/>
                  </a:lnTo>
                  <a:lnTo>
                    <a:pt x="1258" y="268"/>
                  </a:lnTo>
                  <a:lnTo>
                    <a:pt x="1258" y="267"/>
                  </a:lnTo>
                  <a:lnTo>
                    <a:pt x="1259" y="267"/>
                  </a:lnTo>
                  <a:lnTo>
                    <a:pt x="1259" y="265"/>
                  </a:lnTo>
                  <a:lnTo>
                    <a:pt x="1261" y="265"/>
                  </a:lnTo>
                  <a:lnTo>
                    <a:pt x="1262" y="265"/>
                  </a:lnTo>
                  <a:lnTo>
                    <a:pt x="1262" y="265"/>
                  </a:lnTo>
                  <a:lnTo>
                    <a:pt x="1264" y="267"/>
                  </a:lnTo>
                  <a:lnTo>
                    <a:pt x="1273" y="282"/>
                  </a:lnTo>
                  <a:lnTo>
                    <a:pt x="1273" y="283"/>
                  </a:lnTo>
                  <a:lnTo>
                    <a:pt x="1273" y="285"/>
                  </a:lnTo>
                  <a:lnTo>
                    <a:pt x="1273" y="286"/>
                  </a:lnTo>
                  <a:lnTo>
                    <a:pt x="1271" y="286"/>
                  </a:lnTo>
                  <a:lnTo>
                    <a:pt x="1271" y="288"/>
                  </a:lnTo>
                  <a:lnTo>
                    <a:pt x="1270" y="286"/>
                  </a:lnTo>
                  <a:lnTo>
                    <a:pt x="1268" y="286"/>
                  </a:lnTo>
                  <a:lnTo>
                    <a:pt x="1268" y="286"/>
                  </a:lnTo>
                  <a:lnTo>
                    <a:pt x="1268" y="286"/>
                  </a:lnTo>
                  <a:close/>
                  <a:moveTo>
                    <a:pt x="1244" y="250"/>
                  </a:moveTo>
                  <a:lnTo>
                    <a:pt x="1234" y="235"/>
                  </a:lnTo>
                  <a:lnTo>
                    <a:pt x="1232" y="234"/>
                  </a:lnTo>
                  <a:lnTo>
                    <a:pt x="1232" y="232"/>
                  </a:lnTo>
                  <a:lnTo>
                    <a:pt x="1234" y="231"/>
                  </a:lnTo>
                  <a:lnTo>
                    <a:pt x="1235" y="229"/>
                  </a:lnTo>
                  <a:lnTo>
                    <a:pt x="1237" y="229"/>
                  </a:lnTo>
                  <a:lnTo>
                    <a:pt x="1238" y="231"/>
                  </a:lnTo>
                  <a:lnTo>
                    <a:pt x="1238" y="231"/>
                  </a:lnTo>
                  <a:lnTo>
                    <a:pt x="1249" y="246"/>
                  </a:lnTo>
                  <a:lnTo>
                    <a:pt x="1250" y="247"/>
                  </a:lnTo>
                  <a:lnTo>
                    <a:pt x="1250" y="249"/>
                  </a:lnTo>
                  <a:lnTo>
                    <a:pt x="1250" y="249"/>
                  </a:lnTo>
                  <a:lnTo>
                    <a:pt x="1249" y="250"/>
                  </a:lnTo>
                  <a:lnTo>
                    <a:pt x="1247" y="250"/>
                  </a:lnTo>
                  <a:lnTo>
                    <a:pt x="1247" y="250"/>
                  </a:lnTo>
                  <a:lnTo>
                    <a:pt x="1246" y="250"/>
                  </a:lnTo>
                  <a:lnTo>
                    <a:pt x="1244" y="250"/>
                  </a:lnTo>
                  <a:lnTo>
                    <a:pt x="1244" y="250"/>
                  </a:lnTo>
                  <a:close/>
                  <a:moveTo>
                    <a:pt x="1217" y="216"/>
                  </a:moveTo>
                  <a:lnTo>
                    <a:pt x="1205" y="202"/>
                  </a:lnTo>
                  <a:lnTo>
                    <a:pt x="1205" y="202"/>
                  </a:lnTo>
                  <a:lnTo>
                    <a:pt x="1204" y="201"/>
                  </a:lnTo>
                  <a:lnTo>
                    <a:pt x="1205" y="199"/>
                  </a:lnTo>
                  <a:lnTo>
                    <a:pt x="1205" y="198"/>
                  </a:lnTo>
                  <a:lnTo>
                    <a:pt x="1207" y="198"/>
                  </a:lnTo>
                  <a:lnTo>
                    <a:pt x="1207" y="198"/>
                  </a:lnTo>
                  <a:lnTo>
                    <a:pt x="1208" y="198"/>
                  </a:lnTo>
                  <a:lnTo>
                    <a:pt x="1210" y="198"/>
                  </a:lnTo>
                  <a:lnTo>
                    <a:pt x="1222" y="211"/>
                  </a:lnTo>
                  <a:lnTo>
                    <a:pt x="1223" y="213"/>
                  </a:lnTo>
                  <a:lnTo>
                    <a:pt x="1223" y="214"/>
                  </a:lnTo>
                  <a:lnTo>
                    <a:pt x="1223" y="216"/>
                  </a:lnTo>
                  <a:lnTo>
                    <a:pt x="1222" y="217"/>
                  </a:lnTo>
                  <a:lnTo>
                    <a:pt x="1222" y="217"/>
                  </a:lnTo>
                  <a:lnTo>
                    <a:pt x="1220" y="217"/>
                  </a:lnTo>
                  <a:lnTo>
                    <a:pt x="1219" y="217"/>
                  </a:lnTo>
                  <a:lnTo>
                    <a:pt x="1217" y="216"/>
                  </a:lnTo>
                  <a:lnTo>
                    <a:pt x="1217" y="216"/>
                  </a:lnTo>
                  <a:close/>
                  <a:moveTo>
                    <a:pt x="1187" y="186"/>
                  </a:moveTo>
                  <a:lnTo>
                    <a:pt x="1174" y="174"/>
                  </a:lnTo>
                  <a:lnTo>
                    <a:pt x="1172" y="172"/>
                  </a:lnTo>
                  <a:lnTo>
                    <a:pt x="1172" y="172"/>
                  </a:lnTo>
                  <a:lnTo>
                    <a:pt x="1172" y="171"/>
                  </a:lnTo>
                  <a:lnTo>
                    <a:pt x="1174" y="169"/>
                  </a:lnTo>
                  <a:lnTo>
                    <a:pt x="1174" y="169"/>
                  </a:lnTo>
                  <a:lnTo>
                    <a:pt x="1175" y="169"/>
                  </a:lnTo>
                  <a:lnTo>
                    <a:pt x="1177" y="169"/>
                  </a:lnTo>
                  <a:lnTo>
                    <a:pt x="1178" y="169"/>
                  </a:lnTo>
                  <a:lnTo>
                    <a:pt x="1192" y="181"/>
                  </a:lnTo>
                  <a:lnTo>
                    <a:pt x="1192" y="183"/>
                  </a:lnTo>
                  <a:lnTo>
                    <a:pt x="1193" y="183"/>
                  </a:lnTo>
                  <a:lnTo>
                    <a:pt x="1193" y="184"/>
                  </a:lnTo>
                  <a:lnTo>
                    <a:pt x="1192" y="186"/>
                  </a:lnTo>
                  <a:lnTo>
                    <a:pt x="1192" y="186"/>
                  </a:lnTo>
                  <a:lnTo>
                    <a:pt x="1190" y="187"/>
                  </a:lnTo>
                  <a:lnTo>
                    <a:pt x="1189" y="186"/>
                  </a:lnTo>
                  <a:lnTo>
                    <a:pt x="1187" y="186"/>
                  </a:lnTo>
                  <a:lnTo>
                    <a:pt x="1187" y="186"/>
                  </a:lnTo>
                  <a:close/>
                  <a:moveTo>
                    <a:pt x="1156" y="158"/>
                  </a:moveTo>
                  <a:lnTo>
                    <a:pt x="1139" y="148"/>
                  </a:lnTo>
                  <a:lnTo>
                    <a:pt x="1139" y="145"/>
                  </a:lnTo>
                  <a:lnTo>
                    <a:pt x="1139" y="143"/>
                  </a:lnTo>
                  <a:lnTo>
                    <a:pt x="1139" y="143"/>
                  </a:lnTo>
                  <a:lnTo>
                    <a:pt x="1141" y="142"/>
                  </a:lnTo>
                  <a:lnTo>
                    <a:pt x="1141" y="142"/>
                  </a:lnTo>
                  <a:lnTo>
                    <a:pt x="1142" y="142"/>
                  </a:lnTo>
                  <a:lnTo>
                    <a:pt x="1144" y="142"/>
                  </a:lnTo>
                  <a:lnTo>
                    <a:pt x="1159" y="152"/>
                  </a:lnTo>
                  <a:lnTo>
                    <a:pt x="1160" y="155"/>
                  </a:lnTo>
                  <a:lnTo>
                    <a:pt x="1160" y="155"/>
                  </a:lnTo>
                  <a:lnTo>
                    <a:pt x="1159" y="157"/>
                  </a:lnTo>
                  <a:lnTo>
                    <a:pt x="1157" y="158"/>
                  </a:lnTo>
                  <a:lnTo>
                    <a:pt x="1156" y="158"/>
                  </a:lnTo>
                  <a:lnTo>
                    <a:pt x="1156" y="158"/>
                  </a:lnTo>
                  <a:lnTo>
                    <a:pt x="1156" y="158"/>
                  </a:lnTo>
                  <a:close/>
                  <a:moveTo>
                    <a:pt x="1120" y="133"/>
                  </a:moveTo>
                  <a:lnTo>
                    <a:pt x="1115" y="130"/>
                  </a:lnTo>
                  <a:lnTo>
                    <a:pt x="1105" y="124"/>
                  </a:lnTo>
                  <a:lnTo>
                    <a:pt x="1103" y="122"/>
                  </a:lnTo>
                  <a:lnTo>
                    <a:pt x="1103" y="121"/>
                  </a:lnTo>
                  <a:lnTo>
                    <a:pt x="1103" y="121"/>
                  </a:lnTo>
                  <a:lnTo>
                    <a:pt x="1103" y="119"/>
                  </a:lnTo>
                  <a:lnTo>
                    <a:pt x="1105" y="118"/>
                  </a:lnTo>
                  <a:lnTo>
                    <a:pt x="1105" y="118"/>
                  </a:lnTo>
                  <a:lnTo>
                    <a:pt x="1106" y="118"/>
                  </a:lnTo>
                  <a:lnTo>
                    <a:pt x="1108" y="118"/>
                  </a:lnTo>
                  <a:lnTo>
                    <a:pt x="1120" y="125"/>
                  </a:lnTo>
                  <a:lnTo>
                    <a:pt x="1123" y="128"/>
                  </a:lnTo>
                  <a:lnTo>
                    <a:pt x="1124" y="128"/>
                  </a:lnTo>
                  <a:lnTo>
                    <a:pt x="1124" y="130"/>
                  </a:lnTo>
                  <a:lnTo>
                    <a:pt x="1124" y="131"/>
                  </a:lnTo>
                  <a:lnTo>
                    <a:pt x="1124" y="133"/>
                  </a:lnTo>
                  <a:lnTo>
                    <a:pt x="1123" y="133"/>
                  </a:lnTo>
                  <a:lnTo>
                    <a:pt x="1123" y="133"/>
                  </a:lnTo>
                  <a:lnTo>
                    <a:pt x="1121" y="133"/>
                  </a:lnTo>
                  <a:lnTo>
                    <a:pt x="1120" y="133"/>
                  </a:lnTo>
                  <a:lnTo>
                    <a:pt x="1120" y="133"/>
                  </a:lnTo>
                  <a:close/>
                  <a:moveTo>
                    <a:pt x="1083" y="110"/>
                  </a:moveTo>
                  <a:lnTo>
                    <a:pt x="1068" y="103"/>
                  </a:lnTo>
                  <a:lnTo>
                    <a:pt x="1067" y="101"/>
                  </a:lnTo>
                  <a:lnTo>
                    <a:pt x="1065" y="101"/>
                  </a:lnTo>
                  <a:lnTo>
                    <a:pt x="1065" y="100"/>
                  </a:lnTo>
                  <a:lnTo>
                    <a:pt x="1065" y="98"/>
                  </a:lnTo>
                  <a:lnTo>
                    <a:pt x="1065" y="98"/>
                  </a:lnTo>
                  <a:lnTo>
                    <a:pt x="1067" y="97"/>
                  </a:lnTo>
                  <a:lnTo>
                    <a:pt x="1067" y="97"/>
                  </a:lnTo>
                  <a:lnTo>
                    <a:pt x="1068" y="95"/>
                  </a:lnTo>
                  <a:lnTo>
                    <a:pt x="1070" y="97"/>
                  </a:lnTo>
                  <a:lnTo>
                    <a:pt x="1071" y="98"/>
                  </a:lnTo>
                  <a:lnTo>
                    <a:pt x="1086" y="106"/>
                  </a:lnTo>
                  <a:lnTo>
                    <a:pt x="1086" y="106"/>
                  </a:lnTo>
                  <a:lnTo>
                    <a:pt x="1088" y="107"/>
                  </a:lnTo>
                  <a:lnTo>
                    <a:pt x="1088" y="109"/>
                  </a:lnTo>
                  <a:lnTo>
                    <a:pt x="1086" y="110"/>
                  </a:lnTo>
                  <a:lnTo>
                    <a:pt x="1086" y="110"/>
                  </a:lnTo>
                  <a:lnTo>
                    <a:pt x="1085" y="112"/>
                  </a:lnTo>
                  <a:lnTo>
                    <a:pt x="1083" y="112"/>
                  </a:lnTo>
                  <a:lnTo>
                    <a:pt x="1083" y="110"/>
                  </a:lnTo>
                  <a:lnTo>
                    <a:pt x="1083" y="110"/>
                  </a:lnTo>
                  <a:close/>
                  <a:moveTo>
                    <a:pt x="1044" y="91"/>
                  </a:moveTo>
                  <a:lnTo>
                    <a:pt x="1028" y="83"/>
                  </a:lnTo>
                  <a:lnTo>
                    <a:pt x="1028" y="82"/>
                  </a:lnTo>
                  <a:lnTo>
                    <a:pt x="1026" y="82"/>
                  </a:lnTo>
                  <a:lnTo>
                    <a:pt x="1026" y="80"/>
                  </a:lnTo>
                  <a:lnTo>
                    <a:pt x="1026" y="79"/>
                  </a:lnTo>
                  <a:lnTo>
                    <a:pt x="1028" y="77"/>
                  </a:lnTo>
                  <a:lnTo>
                    <a:pt x="1028" y="77"/>
                  </a:lnTo>
                  <a:lnTo>
                    <a:pt x="1029" y="77"/>
                  </a:lnTo>
                  <a:lnTo>
                    <a:pt x="1031" y="77"/>
                  </a:lnTo>
                  <a:lnTo>
                    <a:pt x="1047" y="85"/>
                  </a:lnTo>
                  <a:lnTo>
                    <a:pt x="1049" y="86"/>
                  </a:lnTo>
                  <a:lnTo>
                    <a:pt x="1049" y="88"/>
                  </a:lnTo>
                  <a:lnTo>
                    <a:pt x="1049" y="88"/>
                  </a:lnTo>
                  <a:lnTo>
                    <a:pt x="1049" y="89"/>
                  </a:lnTo>
                  <a:lnTo>
                    <a:pt x="1047" y="91"/>
                  </a:lnTo>
                  <a:lnTo>
                    <a:pt x="1047" y="91"/>
                  </a:lnTo>
                  <a:lnTo>
                    <a:pt x="1044" y="91"/>
                  </a:lnTo>
                  <a:lnTo>
                    <a:pt x="1044" y="91"/>
                  </a:lnTo>
                  <a:close/>
                  <a:moveTo>
                    <a:pt x="1005" y="73"/>
                  </a:moveTo>
                  <a:lnTo>
                    <a:pt x="989" y="67"/>
                  </a:lnTo>
                  <a:lnTo>
                    <a:pt x="987" y="65"/>
                  </a:lnTo>
                  <a:lnTo>
                    <a:pt x="987" y="65"/>
                  </a:lnTo>
                  <a:lnTo>
                    <a:pt x="986" y="64"/>
                  </a:lnTo>
                  <a:lnTo>
                    <a:pt x="987" y="62"/>
                  </a:lnTo>
                  <a:lnTo>
                    <a:pt x="989" y="61"/>
                  </a:lnTo>
                  <a:lnTo>
                    <a:pt x="989" y="61"/>
                  </a:lnTo>
                  <a:lnTo>
                    <a:pt x="990" y="61"/>
                  </a:lnTo>
                  <a:lnTo>
                    <a:pt x="1008" y="68"/>
                  </a:lnTo>
                  <a:lnTo>
                    <a:pt x="1008" y="68"/>
                  </a:lnTo>
                  <a:lnTo>
                    <a:pt x="1010" y="70"/>
                  </a:lnTo>
                  <a:lnTo>
                    <a:pt x="1010" y="70"/>
                  </a:lnTo>
                  <a:lnTo>
                    <a:pt x="1010" y="71"/>
                  </a:lnTo>
                  <a:lnTo>
                    <a:pt x="1008" y="73"/>
                  </a:lnTo>
                  <a:lnTo>
                    <a:pt x="1008" y="73"/>
                  </a:lnTo>
                  <a:lnTo>
                    <a:pt x="1007" y="74"/>
                  </a:lnTo>
                  <a:lnTo>
                    <a:pt x="1005" y="73"/>
                  </a:lnTo>
                  <a:lnTo>
                    <a:pt x="1005" y="73"/>
                  </a:lnTo>
                  <a:close/>
                  <a:moveTo>
                    <a:pt x="966" y="58"/>
                  </a:moveTo>
                  <a:lnTo>
                    <a:pt x="948" y="52"/>
                  </a:lnTo>
                  <a:lnTo>
                    <a:pt x="947" y="52"/>
                  </a:lnTo>
                  <a:lnTo>
                    <a:pt x="947" y="50"/>
                  </a:lnTo>
                  <a:lnTo>
                    <a:pt x="945" y="50"/>
                  </a:lnTo>
                  <a:lnTo>
                    <a:pt x="945" y="49"/>
                  </a:lnTo>
                  <a:lnTo>
                    <a:pt x="947" y="47"/>
                  </a:lnTo>
                  <a:lnTo>
                    <a:pt x="947" y="47"/>
                  </a:lnTo>
                  <a:lnTo>
                    <a:pt x="948" y="46"/>
                  </a:lnTo>
                  <a:lnTo>
                    <a:pt x="950" y="47"/>
                  </a:lnTo>
                  <a:lnTo>
                    <a:pt x="968" y="52"/>
                  </a:lnTo>
                  <a:lnTo>
                    <a:pt x="969" y="52"/>
                  </a:lnTo>
                  <a:lnTo>
                    <a:pt x="969" y="53"/>
                  </a:lnTo>
                  <a:lnTo>
                    <a:pt x="969" y="55"/>
                  </a:lnTo>
                  <a:lnTo>
                    <a:pt x="969" y="56"/>
                  </a:lnTo>
                  <a:lnTo>
                    <a:pt x="968" y="58"/>
                  </a:lnTo>
                  <a:lnTo>
                    <a:pt x="966" y="58"/>
                  </a:lnTo>
                  <a:lnTo>
                    <a:pt x="966" y="58"/>
                  </a:lnTo>
                  <a:lnTo>
                    <a:pt x="966" y="58"/>
                  </a:lnTo>
                  <a:close/>
                  <a:moveTo>
                    <a:pt x="924" y="44"/>
                  </a:moveTo>
                  <a:lnTo>
                    <a:pt x="909" y="40"/>
                  </a:lnTo>
                  <a:lnTo>
                    <a:pt x="906" y="40"/>
                  </a:lnTo>
                  <a:lnTo>
                    <a:pt x="906" y="40"/>
                  </a:lnTo>
                  <a:lnTo>
                    <a:pt x="905" y="38"/>
                  </a:lnTo>
                  <a:lnTo>
                    <a:pt x="905" y="37"/>
                  </a:lnTo>
                  <a:lnTo>
                    <a:pt x="905" y="37"/>
                  </a:lnTo>
                  <a:lnTo>
                    <a:pt x="905" y="35"/>
                  </a:lnTo>
                  <a:lnTo>
                    <a:pt x="906" y="34"/>
                  </a:lnTo>
                  <a:lnTo>
                    <a:pt x="908" y="34"/>
                  </a:lnTo>
                  <a:lnTo>
                    <a:pt x="908" y="34"/>
                  </a:lnTo>
                  <a:lnTo>
                    <a:pt x="911" y="35"/>
                  </a:lnTo>
                  <a:lnTo>
                    <a:pt x="926" y="40"/>
                  </a:lnTo>
                  <a:lnTo>
                    <a:pt x="927" y="40"/>
                  </a:lnTo>
                  <a:lnTo>
                    <a:pt x="927" y="41"/>
                  </a:lnTo>
                  <a:lnTo>
                    <a:pt x="929" y="41"/>
                  </a:lnTo>
                  <a:lnTo>
                    <a:pt x="929" y="43"/>
                  </a:lnTo>
                  <a:lnTo>
                    <a:pt x="927" y="44"/>
                  </a:lnTo>
                  <a:lnTo>
                    <a:pt x="927" y="44"/>
                  </a:lnTo>
                  <a:lnTo>
                    <a:pt x="926" y="46"/>
                  </a:lnTo>
                  <a:lnTo>
                    <a:pt x="924" y="44"/>
                  </a:lnTo>
                  <a:lnTo>
                    <a:pt x="924" y="44"/>
                  </a:lnTo>
                  <a:close/>
                  <a:moveTo>
                    <a:pt x="884" y="34"/>
                  </a:moveTo>
                  <a:lnTo>
                    <a:pt x="864" y="29"/>
                  </a:lnTo>
                  <a:lnTo>
                    <a:pt x="864" y="29"/>
                  </a:lnTo>
                  <a:lnTo>
                    <a:pt x="863" y="29"/>
                  </a:lnTo>
                  <a:lnTo>
                    <a:pt x="863" y="28"/>
                  </a:lnTo>
                  <a:lnTo>
                    <a:pt x="863" y="26"/>
                  </a:lnTo>
                  <a:lnTo>
                    <a:pt x="863" y="25"/>
                  </a:lnTo>
                  <a:lnTo>
                    <a:pt x="864" y="25"/>
                  </a:lnTo>
                  <a:lnTo>
                    <a:pt x="866" y="23"/>
                  </a:lnTo>
                  <a:lnTo>
                    <a:pt x="866" y="25"/>
                  </a:lnTo>
                  <a:lnTo>
                    <a:pt x="884" y="28"/>
                  </a:lnTo>
                  <a:lnTo>
                    <a:pt x="885" y="29"/>
                  </a:lnTo>
                  <a:lnTo>
                    <a:pt x="887" y="29"/>
                  </a:lnTo>
                  <a:lnTo>
                    <a:pt x="887" y="31"/>
                  </a:lnTo>
                  <a:lnTo>
                    <a:pt x="887" y="32"/>
                  </a:lnTo>
                  <a:lnTo>
                    <a:pt x="885" y="34"/>
                  </a:lnTo>
                  <a:lnTo>
                    <a:pt x="885" y="34"/>
                  </a:lnTo>
                  <a:lnTo>
                    <a:pt x="884" y="34"/>
                  </a:lnTo>
                  <a:lnTo>
                    <a:pt x="884" y="34"/>
                  </a:lnTo>
                  <a:lnTo>
                    <a:pt x="884" y="34"/>
                  </a:lnTo>
                  <a:close/>
                  <a:moveTo>
                    <a:pt x="842" y="25"/>
                  </a:moveTo>
                  <a:lnTo>
                    <a:pt x="822" y="22"/>
                  </a:lnTo>
                  <a:lnTo>
                    <a:pt x="822" y="22"/>
                  </a:lnTo>
                  <a:lnTo>
                    <a:pt x="821" y="20"/>
                  </a:lnTo>
                  <a:lnTo>
                    <a:pt x="821" y="19"/>
                  </a:lnTo>
                  <a:lnTo>
                    <a:pt x="821" y="19"/>
                  </a:lnTo>
                  <a:lnTo>
                    <a:pt x="821" y="17"/>
                  </a:lnTo>
                  <a:lnTo>
                    <a:pt x="822" y="15"/>
                  </a:lnTo>
                  <a:lnTo>
                    <a:pt x="822" y="15"/>
                  </a:lnTo>
                  <a:lnTo>
                    <a:pt x="824" y="15"/>
                  </a:lnTo>
                  <a:lnTo>
                    <a:pt x="842" y="19"/>
                  </a:lnTo>
                  <a:lnTo>
                    <a:pt x="843" y="19"/>
                  </a:lnTo>
                  <a:lnTo>
                    <a:pt x="845" y="20"/>
                  </a:lnTo>
                  <a:lnTo>
                    <a:pt x="845" y="22"/>
                  </a:lnTo>
                  <a:lnTo>
                    <a:pt x="845" y="22"/>
                  </a:lnTo>
                  <a:lnTo>
                    <a:pt x="845" y="23"/>
                  </a:lnTo>
                  <a:lnTo>
                    <a:pt x="843" y="25"/>
                  </a:lnTo>
                  <a:lnTo>
                    <a:pt x="842" y="25"/>
                  </a:lnTo>
                  <a:lnTo>
                    <a:pt x="842" y="25"/>
                  </a:lnTo>
                  <a:lnTo>
                    <a:pt x="842" y="25"/>
                  </a:lnTo>
                  <a:close/>
                  <a:moveTo>
                    <a:pt x="798" y="17"/>
                  </a:moveTo>
                  <a:lnTo>
                    <a:pt x="786" y="15"/>
                  </a:lnTo>
                  <a:lnTo>
                    <a:pt x="780" y="15"/>
                  </a:lnTo>
                  <a:lnTo>
                    <a:pt x="779" y="14"/>
                  </a:lnTo>
                  <a:lnTo>
                    <a:pt x="779" y="14"/>
                  </a:lnTo>
                  <a:lnTo>
                    <a:pt x="777" y="12"/>
                  </a:lnTo>
                  <a:lnTo>
                    <a:pt x="777" y="11"/>
                  </a:lnTo>
                  <a:lnTo>
                    <a:pt x="779" y="11"/>
                  </a:lnTo>
                  <a:lnTo>
                    <a:pt x="779" y="9"/>
                  </a:lnTo>
                  <a:lnTo>
                    <a:pt x="780" y="9"/>
                  </a:lnTo>
                  <a:lnTo>
                    <a:pt x="782" y="9"/>
                  </a:lnTo>
                  <a:lnTo>
                    <a:pt x="788" y="9"/>
                  </a:lnTo>
                  <a:lnTo>
                    <a:pt x="800" y="11"/>
                  </a:lnTo>
                  <a:lnTo>
                    <a:pt x="801" y="12"/>
                  </a:lnTo>
                  <a:lnTo>
                    <a:pt x="801" y="12"/>
                  </a:lnTo>
                  <a:lnTo>
                    <a:pt x="803" y="15"/>
                  </a:lnTo>
                  <a:lnTo>
                    <a:pt x="801" y="15"/>
                  </a:lnTo>
                  <a:lnTo>
                    <a:pt x="801" y="17"/>
                  </a:lnTo>
                  <a:lnTo>
                    <a:pt x="800" y="17"/>
                  </a:lnTo>
                  <a:lnTo>
                    <a:pt x="798" y="17"/>
                  </a:lnTo>
                  <a:lnTo>
                    <a:pt x="798" y="17"/>
                  </a:lnTo>
                  <a:close/>
                  <a:moveTo>
                    <a:pt x="756" y="12"/>
                  </a:moveTo>
                  <a:lnTo>
                    <a:pt x="738" y="11"/>
                  </a:lnTo>
                  <a:lnTo>
                    <a:pt x="736" y="11"/>
                  </a:lnTo>
                  <a:lnTo>
                    <a:pt x="735" y="9"/>
                  </a:lnTo>
                  <a:lnTo>
                    <a:pt x="735" y="8"/>
                  </a:lnTo>
                  <a:lnTo>
                    <a:pt x="735" y="8"/>
                  </a:lnTo>
                  <a:lnTo>
                    <a:pt x="735" y="6"/>
                  </a:lnTo>
                  <a:lnTo>
                    <a:pt x="735" y="5"/>
                  </a:lnTo>
                  <a:lnTo>
                    <a:pt x="736" y="5"/>
                  </a:lnTo>
                  <a:lnTo>
                    <a:pt x="738" y="5"/>
                  </a:lnTo>
                  <a:lnTo>
                    <a:pt x="756" y="6"/>
                  </a:lnTo>
                  <a:lnTo>
                    <a:pt x="757" y="6"/>
                  </a:lnTo>
                  <a:lnTo>
                    <a:pt x="759" y="8"/>
                  </a:lnTo>
                  <a:lnTo>
                    <a:pt x="759" y="8"/>
                  </a:lnTo>
                  <a:lnTo>
                    <a:pt x="759" y="9"/>
                  </a:lnTo>
                  <a:lnTo>
                    <a:pt x="759" y="11"/>
                  </a:lnTo>
                  <a:lnTo>
                    <a:pt x="757" y="12"/>
                  </a:lnTo>
                  <a:lnTo>
                    <a:pt x="757" y="12"/>
                  </a:lnTo>
                  <a:lnTo>
                    <a:pt x="756" y="12"/>
                  </a:lnTo>
                  <a:lnTo>
                    <a:pt x="756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90840" y="3789360"/>
              <a:ext cx="1562400" cy="1494000"/>
            </a:xfrm>
            <a:custGeom>
              <a:avLst/>
              <a:gdLst/>
              <a:ahLst/>
              <a:rect l="l" t="t" r="r" b="b"/>
              <a:pathLst>
                <a:path w="984" h="941">
                  <a:moveTo>
                    <a:pt x="535" y="8"/>
                  </a:moveTo>
                  <a:lnTo>
                    <a:pt x="517" y="8"/>
                  </a:lnTo>
                  <a:lnTo>
                    <a:pt x="515" y="6"/>
                  </a:lnTo>
                  <a:lnTo>
                    <a:pt x="514" y="5"/>
                  </a:lnTo>
                  <a:lnTo>
                    <a:pt x="514" y="3"/>
                  </a:lnTo>
                  <a:lnTo>
                    <a:pt x="515" y="3"/>
                  </a:lnTo>
                  <a:lnTo>
                    <a:pt x="515" y="2"/>
                  </a:lnTo>
                  <a:lnTo>
                    <a:pt x="517" y="2"/>
                  </a:lnTo>
                  <a:lnTo>
                    <a:pt x="517" y="2"/>
                  </a:lnTo>
                  <a:lnTo>
                    <a:pt x="536" y="2"/>
                  </a:lnTo>
                  <a:lnTo>
                    <a:pt x="536" y="2"/>
                  </a:lnTo>
                  <a:lnTo>
                    <a:pt x="538" y="3"/>
                  </a:lnTo>
                  <a:lnTo>
                    <a:pt x="539" y="3"/>
                  </a:lnTo>
                  <a:lnTo>
                    <a:pt x="539" y="5"/>
                  </a:lnTo>
                  <a:lnTo>
                    <a:pt x="538" y="6"/>
                  </a:lnTo>
                  <a:lnTo>
                    <a:pt x="538" y="8"/>
                  </a:lnTo>
                  <a:lnTo>
                    <a:pt x="536" y="8"/>
                  </a:lnTo>
                  <a:lnTo>
                    <a:pt x="535" y="8"/>
                  </a:lnTo>
                  <a:lnTo>
                    <a:pt x="535" y="8"/>
                  </a:lnTo>
                  <a:close/>
                  <a:moveTo>
                    <a:pt x="493" y="6"/>
                  </a:moveTo>
                  <a:lnTo>
                    <a:pt x="491" y="6"/>
                  </a:lnTo>
                  <a:lnTo>
                    <a:pt x="475" y="6"/>
                  </a:lnTo>
                  <a:lnTo>
                    <a:pt x="473" y="6"/>
                  </a:lnTo>
                  <a:lnTo>
                    <a:pt x="472" y="6"/>
                  </a:lnTo>
                  <a:lnTo>
                    <a:pt x="472" y="5"/>
                  </a:lnTo>
                  <a:lnTo>
                    <a:pt x="472" y="3"/>
                  </a:lnTo>
                  <a:lnTo>
                    <a:pt x="472" y="3"/>
                  </a:lnTo>
                  <a:lnTo>
                    <a:pt x="472" y="2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6" y="2"/>
                  </a:lnTo>
                  <a:lnTo>
                    <a:pt x="496" y="3"/>
                  </a:lnTo>
                  <a:lnTo>
                    <a:pt x="494" y="5"/>
                  </a:lnTo>
                  <a:lnTo>
                    <a:pt x="494" y="6"/>
                  </a:lnTo>
                  <a:lnTo>
                    <a:pt x="493" y="6"/>
                  </a:lnTo>
                  <a:lnTo>
                    <a:pt x="493" y="6"/>
                  </a:lnTo>
                  <a:close/>
                  <a:moveTo>
                    <a:pt x="449" y="8"/>
                  </a:moveTo>
                  <a:lnTo>
                    <a:pt x="442" y="8"/>
                  </a:lnTo>
                  <a:lnTo>
                    <a:pt x="431" y="9"/>
                  </a:lnTo>
                  <a:lnTo>
                    <a:pt x="430" y="9"/>
                  </a:lnTo>
                  <a:lnTo>
                    <a:pt x="430" y="9"/>
                  </a:lnTo>
                  <a:lnTo>
                    <a:pt x="428" y="8"/>
                  </a:lnTo>
                  <a:lnTo>
                    <a:pt x="428" y="8"/>
                  </a:lnTo>
                  <a:lnTo>
                    <a:pt x="428" y="6"/>
                  </a:lnTo>
                  <a:lnTo>
                    <a:pt x="428" y="5"/>
                  </a:lnTo>
                  <a:lnTo>
                    <a:pt x="430" y="3"/>
                  </a:lnTo>
                  <a:lnTo>
                    <a:pt x="431" y="3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1" y="2"/>
                  </a:lnTo>
                  <a:lnTo>
                    <a:pt x="452" y="2"/>
                  </a:lnTo>
                  <a:lnTo>
                    <a:pt x="452" y="3"/>
                  </a:lnTo>
                  <a:lnTo>
                    <a:pt x="452" y="5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49" y="8"/>
                  </a:lnTo>
                  <a:lnTo>
                    <a:pt x="449" y="8"/>
                  </a:lnTo>
                  <a:close/>
                  <a:moveTo>
                    <a:pt x="407" y="14"/>
                  </a:moveTo>
                  <a:lnTo>
                    <a:pt x="393" y="15"/>
                  </a:lnTo>
                  <a:lnTo>
                    <a:pt x="389" y="17"/>
                  </a:lnTo>
                  <a:lnTo>
                    <a:pt x="387" y="17"/>
                  </a:lnTo>
                  <a:lnTo>
                    <a:pt x="387" y="17"/>
                  </a:lnTo>
                  <a:lnTo>
                    <a:pt x="386" y="15"/>
                  </a:lnTo>
                  <a:lnTo>
                    <a:pt x="386" y="14"/>
                  </a:lnTo>
                  <a:lnTo>
                    <a:pt x="386" y="14"/>
                  </a:lnTo>
                  <a:lnTo>
                    <a:pt x="386" y="12"/>
                  </a:lnTo>
                  <a:lnTo>
                    <a:pt x="386" y="11"/>
                  </a:lnTo>
                  <a:lnTo>
                    <a:pt x="387" y="11"/>
                  </a:lnTo>
                  <a:lnTo>
                    <a:pt x="392" y="9"/>
                  </a:lnTo>
                  <a:lnTo>
                    <a:pt x="407" y="8"/>
                  </a:lnTo>
                  <a:lnTo>
                    <a:pt x="407" y="8"/>
                  </a:lnTo>
                  <a:lnTo>
                    <a:pt x="408" y="8"/>
                  </a:lnTo>
                  <a:lnTo>
                    <a:pt x="410" y="9"/>
                  </a:lnTo>
                  <a:lnTo>
                    <a:pt x="410" y="9"/>
                  </a:lnTo>
                  <a:lnTo>
                    <a:pt x="410" y="11"/>
                  </a:lnTo>
                  <a:lnTo>
                    <a:pt x="408" y="12"/>
                  </a:lnTo>
                  <a:lnTo>
                    <a:pt x="408" y="12"/>
                  </a:lnTo>
                  <a:lnTo>
                    <a:pt x="407" y="14"/>
                  </a:lnTo>
                  <a:lnTo>
                    <a:pt x="407" y="14"/>
                  </a:lnTo>
                  <a:close/>
                  <a:moveTo>
                    <a:pt x="365" y="23"/>
                  </a:moveTo>
                  <a:lnTo>
                    <a:pt x="347" y="26"/>
                  </a:lnTo>
                  <a:lnTo>
                    <a:pt x="345" y="27"/>
                  </a:lnTo>
                  <a:lnTo>
                    <a:pt x="345" y="26"/>
                  </a:lnTo>
                  <a:lnTo>
                    <a:pt x="344" y="26"/>
                  </a:lnTo>
                  <a:lnTo>
                    <a:pt x="344" y="24"/>
                  </a:lnTo>
                  <a:lnTo>
                    <a:pt x="344" y="23"/>
                  </a:lnTo>
                  <a:lnTo>
                    <a:pt x="344" y="23"/>
                  </a:lnTo>
                  <a:lnTo>
                    <a:pt x="344" y="21"/>
                  </a:lnTo>
                  <a:lnTo>
                    <a:pt x="345" y="21"/>
                  </a:lnTo>
                  <a:lnTo>
                    <a:pt x="363" y="17"/>
                  </a:lnTo>
                  <a:lnTo>
                    <a:pt x="365" y="17"/>
                  </a:lnTo>
                  <a:lnTo>
                    <a:pt x="366" y="17"/>
                  </a:lnTo>
                  <a:lnTo>
                    <a:pt x="366" y="17"/>
                  </a:lnTo>
                  <a:lnTo>
                    <a:pt x="368" y="18"/>
                  </a:lnTo>
                  <a:lnTo>
                    <a:pt x="368" y="20"/>
                  </a:lnTo>
                  <a:lnTo>
                    <a:pt x="366" y="21"/>
                  </a:lnTo>
                  <a:lnTo>
                    <a:pt x="366" y="21"/>
                  </a:lnTo>
                  <a:lnTo>
                    <a:pt x="365" y="23"/>
                  </a:lnTo>
                  <a:lnTo>
                    <a:pt x="365" y="23"/>
                  </a:lnTo>
                  <a:close/>
                  <a:moveTo>
                    <a:pt x="324" y="35"/>
                  </a:moveTo>
                  <a:lnTo>
                    <a:pt x="306" y="41"/>
                  </a:lnTo>
                  <a:lnTo>
                    <a:pt x="305" y="41"/>
                  </a:lnTo>
                  <a:lnTo>
                    <a:pt x="305" y="41"/>
                  </a:lnTo>
                  <a:lnTo>
                    <a:pt x="303" y="39"/>
                  </a:lnTo>
                  <a:lnTo>
                    <a:pt x="302" y="38"/>
                  </a:lnTo>
                  <a:lnTo>
                    <a:pt x="303" y="36"/>
                  </a:lnTo>
                  <a:lnTo>
                    <a:pt x="303" y="36"/>
                  </a:lnTo>
                  <a:lnTo>
                    <a:pt x="305" y="35"/>
                  </a:lnTo>
                  <a:lnTo>
                    <a:pt x="323" y="29"/>
                  </a:lnTo>
                  <a:lnTo>
                    <a:pt x="323" y="29"/>
                  </a:lnTo>
                  <a:lnTo>
                    <a:pt x="324" y="29"/>
                  </a:lnTo>
                  <a:lnTo>
                    <a:pt x="326" y="30"/>
                  </a:lnTo>
                  <a:lnTo>
                    <a:pt x="326" y="32"/>
                  </a:lnTo>
                  <a:lnTo>
                    <a:pt x="326" y="33"/>
                  </a:lnTo>
                  <a:lnTo>
                    <a:pt x="326" y="35"/>
                  </a:lnTo>
                  <a:lnTo>
                    <a:pt x="324" y="35"/>
                  </a:lnTo>
                  <a:lnTo>
                    <a:pt x="324" y="35"/>
                  </a:lnTo>
                  <a:close/>
                  <a:moveTo>
                    <a:pt x="284" y="50"/>
                  </a:moveTo>
                  <a:lnTo>
                    <a:pt x="267" y="59"/>
                  </a:lnTo>
                  <a:lnTo>
                    <a:pt x="266" y="59"/>
                  </a:lnTo>
                  <a:lnTo>
                    <a:pt x="266" y="59"/>
                  </a:lnTo>
                  <a:lnTo>
                    <a:pt x="264" y="57"/>
                  </a:lnTo>
                  <a:lnTo>
                    <a:pt x="263" y="57"/>
                  </a:lnTo>
                  <a:lnTo>
                    <a:pt x="263" y="54"/>
                  </a:lnTo>
                  <a:lnTo>
                    <a:pt x="264" y="53"/>
                  </a:lnTo>
                  <a:lnTo>
                    <a:pt x="264" y="53"/>
                  </a:lnTo>
                  <a:lnTo>
                    <a:pt x="282" y="45"/>
                  </a:lnTo>
                  <a:lnTo>
                    <a:pt x="282" y="45"/>
                  </a:lnTo>
                  <a:lnTo>
                    <a:pt x="284" y="45"/>
                  </a:lnTo>
                  <a:lnTo>
                    <a:pt x="285" y="45"/>
                  </a:lnTo>
                  <a:lnTo>
                    <a:pt x="287" y="47"/>
                  </a:lnTo>
                  <a:lnTo>
                    <a:pt x="285" y="48"/>
                  </a:lnTo>
                  <a:lnTo>
                    <a:pt x="285" y="50"/>
                  </a:lnTo>
                  <a:lnTo>
                    <a:pt x="284" y="50"/>
                  </a:lnTo>
                  <a:lnTo>
                    <a:pt x="284" y="50"/>
                  </a:lnTo>
                  <a:close/>
                  <a:moveTo>
                    <a:pt x="246" y="69"/>
                  </a:moveTo>
                  <a:lnTo>
                    <a:pt x="230" y="78"/>
                  </a:lnTo>
                  <a:lnTo>
                    <a:pt x="230" y="80"/>
                  </a:lnTo>
                  <a:lnTo>
                    <a:pt x="228" y="80"/>
                  </a:lnTo>
                  <a:lnTo>
                    <a:pt x="227" y="78"/>
                  </a:lnTo>
                  <a:lnTo>
                    <a:pt x="225" y="78"/>
                  </a:lnTo>
                  <a:lnTo>
                    <a:pt x="225" y="77"/>
                  </a:lnTo>
                  <a:lnTo>
                    <a:pt x="225" y="75"/>
                  </a:lnTo>
                  <a:lnTo>
                    <a:pt x="227" y="75"/>
                  </a:lnTo>
                  <a:lnTo>
                    <a:pt x="227" y="74"/>
                  </a:lnTo>
                  <a:lnTo>
                    <a:pt x="243" y="65"/>
                  </a:lnTo>
                  <a:lnTo>
                    <a:pt x="245" y="65"/>
                  </a:lnTo>
                  <a:lnTo>
                    <a:pt x="245" y="65"/>
                  </a:lnTo>
                  <a:lnTo>
                    <a:pt x="246" y="65"/>
                  </a:lnTo>
                  <a:lnTo>
                    <a:pt x="248" y="65"/>
                  </a:lnTo>
                  <a:lnTo>
                    <a:pt x="248" y="66"/>
                  </a:lnTo>
                  <a:lnTo>
                    <a:pt x="248" y="68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69"/>
                  </a:lnTo>
                  <a:close/>
                  <a:moveTo>
                    <a:pt x="210" y="92"/>
                  </a:moveTo>
                  <a:lnTo>
                    <a:pt x="195" y="104"/>
                  </a:lnTo>
                  <a:lnTo>
                    <a:pt x="194" y="104"/>
                  </a:lnTo>
                  <a:lnTo>
                    <a:pt x="192" y="104"/>
                  </a:lnTo>
                  <a:lnTo>
                    <a:pt x="191" y="104"/>
                  </a:lnTo>
                  <a:lnTo>
                    <a:pt x="191" y="103"/>
                  </a:lnTo>
                  <a:lnTo>
                    <a:pt x="189" y="101"/>
                  </a:lnTo>
                  <a:lnTo>
                    <a:pt x="189" y="100"/>
                  </a:lnTo>
                  <a:lnTo>
                    <a:pt x="191" y="100"/>
                  </a:lnTo>
                  <a:lnTo>
                    <a:pt x="191" y="98"/>
                  </a:lnTo>
                  <a:lnTo>
                    <a:pt x="206" y="87"/>
                  </a:lnTo>
                  <a:lnTo>
                    <a:pt x="207" y="87"/>
                  </a:lnTo>
                  <a:lnTo>
                    <a:pt x="209" y="87"/>
                  </a:lnTo>
                  <a:lnTo>
                    <a:pt x="210" y="87"/>
                  </a:lnTo>
                  <a:lnTo>
                    <a:pt x="210" y="89"/>
                  </a:lnTo>
                  <a:lnTo>
                    <a:pt x="210" y="89"/>
                  </a:lnTo>
                  <a:lnTo>
                    <a:pt x="210" y="90"/>
                  </a:lnTo>
                  <a:lnTo>
                    <a:pt x="210" y="92"/>
                  </a:lnTo>
                  <a:lnTo>
                    <a:pt x="210" y="92"/>
                  </a:lnTo>
                  <a:close/>
                  <a:moveTo>
                    <a:pt x="176" y="118"/>
                  </a:moveTo>
                  <a:lnTo>
                    <a:pt x="161" y="131"/>
                  </a:lnTo>
                  <a:lnTo>
                    <a:pt x="159" y="131"/>
                  </a:lnTo>
                  <a:lnTo>
                    <a:pt x="158" y="131"/>
                  </a:lnTo>
                  <a:lnTo>
                    <a:pt x="158" y="130"/>
                  </a:lnTo>
                  <a:lnTo>
                    <a:pt x="156" y="130"/>
                  </a:lnTo>
                  <a:lnTo>
                    <a:pt x="156" y="128"/>
                  </a:lnTo>
                  <a:lnTo>
                    <a:pt x="156" y="127"/>
                  </a:lnTo>
                  <a:lnTo>
                    <a:pt x="158" y="125"/>
                  </a:lnTo>
                  <a:lnTo>
                    <a:pt x="171" y="113"/>
                  </a:lnTo>
                  <a:lnTo>
                    <a:pt x="173" y="113"/>
                  </a:lnTo>
                  <a:lnTo>
                    <a:pt x="174" y="113"/>
                  </a:lnTo>
                  <a:lnTo>
                    <a:pt x="174" y="113"/>
                  </a:lnTo>
                  <a:lnTo>
                    <a:pt x="176" y="115"/>
                  </a:lnTo>
                  <a:lnTo>
                    <a:pt x="176" y="115"/>
                  </a:lnTo>
                  <a:lnTo>
                    <a:pt x="176" y="116"/>
                  </a:lnTo>
                  <a:lnTo>
                    <a:pt x="176" y="118"/>
                  </a:lnTo>
                  <a:lnTo>
                    <a:pt x="176" y="118"/>
                  </a:lnTo>
                  <a:lnTo>
                    <a:pt x="176" y="118"/>
                  </a:lnTo>
                  <a:close/>
                  <a:moveTo>
                    <a:pt x="144" y="146"/>
                  </a:moveTo>
                  <a:lnTo>
                    <a:pt x="131" y="160"/>
                  </a:lnTo>
                  <a:lnTo>
                    <a:pt x="129" y="161"/>
                  </a:lnTo>
                  <a:lnTo>
                    <a:pt x="129" y="161"/>
                  </a:lnTo>
                  <a:lnTo>
                    <a:pt x="128" y="161"/>
                  </a:lnTo>
                  <a:lnTo>
                    <a:pt x="126" y="160"/>
                  </a:lnTo>
                  <a:lnTo>
                    <a:pt x="126" y="160"/>
                  </a:lnTo>
                  <a:lnTo>
                    <a:pt x="125" y="158"/>
                  </a:lnTo>
                  <a:lnTo>
                    <a:pt x="126" y="157"/>
                  </a:lnTo>
                  <a:lnTo>
                    <a:pt x="126" y="157"/>
                  </a:lnTo>
                  <a:lnTo>
                    <a:pt x="140" y="143"/>
                  </a:lnTo>
                  <a:lnTo>
                    <a:pt x="140" y="142"/>
                  </a:lnTo>
                  <a:lnTo>
                    <a:pt x="141" y="142"/>
                  </a:lnTo>
                  <a:lnTo>
                    <a:pt x="143" y="142"/>
                  </a:lnTo>
                  <a:lnTo>
                    <a:pt x="143" y="143"/>
                  </a:lnTo>
                  <a:lnTo>
                    <a:pt x="144" y="143"/>
                  </a:lnTo>
                  <a:lnTo>
                    <a:pt x="144" y="145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6"/>
                  </a:lnTo>
                  <a:close/>
                  <a:moveTo>
                    <a:pt x="114" y="178"/>
                  </a:moveTo>
                  <a:lnTo>
                    <a:pt x="102" y="193"/>
                  </a:lnTo>
                  <a:lnTo>
                    <a:pt x="102" y="194"/>
                  </a:lnTo>
                  <a:lnTo>
                    <a:pt x="100" y="194"/>
                  </a:lnTo>
                  <a:lnTo>
                    <a:pt x="99" y="194"/>
                  </a:lnTo>
                  <a:lnTo>
                    <a:pt x="99" y="193"/>
                  </a:lnTo>
                  <a:lnTo>
                    <a:pt x="97" y="193"/>
                  </a:lnTo>
                  <a:lnTo>
                    <a:pt x="97" y="191"/>
                  </a:lnTo>
                  <a:lnTo>
                    <a:pt x="97" y="190"/>
                  </a:lnTo>
                  <a:lnTo>
                    <a:pt x="97" y="188"/>
                  </a:lnTo>
                  <a:lnTo>
                    <a:pt x="110" y="175"/>
                  </a:lnTo>
                  <a:lnTo>
                    <a:pt x="110" y="173"/>
                  </a:lnTo>
                  <a:lnTo>
                    <a:pt x="111" y="173"/>
                  </a:lnTo>
                  <a:lnTo>
                    <a:pt x="113" y="173"/>
                  </a:lnTo>
                  <a:lnTo>
                    <a:pt x="114" y="173"/>
                  </a:lnTo>
                  <a:lnTo>
                    <a:pt x="114" y="175"/>
                  </a:lnTo>
                  <a:lnTo>
                    <a:pt x="114" y="176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4" y="178"/>
                  </a:lnTo>
                  <a:close/>
                  <a:moveTo>
                    <a:pt x="87" y="212"/>
                  </a:moveTo>
                  <a:lnTo>
                    <a:pt x="78" y="227"/>
                  </a:lnTo>
                  <a:lnTo>
                    <a:pt x="76" y="229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3" y="227"/>
                  </a:lnTo>
                  <a:lnTo>
                    <a:pt x="72" y="227"/>
                  </a:lnTo>
                  <a:lnTo>
                    <a:pt x="72" y="226"/>
                  </a:lnTo>
                  <a:lnTo>
                    <a:pt x="72" y="224"/>
                  </a:lnTo>
                  <a:lnTo>
                    <a:pt x="82" y="209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5" y="208"/>
                  </a:lnTo>
                  <a:lnTo>
                    <a:pt x="87" y="208"/>
                  </a:lnTo>
                  <a:lnTo>
                    <a:pt x="88" y="209"/>
                  </a:lnTo>
                  <a:lnTo>
                    <a:pt x="88" y="209"/>
                  </a:lnTo>
                  <a:lnTo>
                    <a:pt x="88" y="211"/>
                  </a:lnTo>
                  <a:lnTo>
                    <a:pt x="87" y="212"/>
                  </a:lnTo>
                  <a:lnTo>
                    <a:pt x="87" y="212"/>
                  </a:lnTo>
                  <a:close/>
                  <a:moveTo>
                    <a:pt x="64" y="248"/>
                  </a:moveTo>
                  <a:lnTo>
                    <a:pt x="64" y="248"/>
                  </a:lnTo>
                  <a:lnTo>
                    <a:pt x="57" y="265"/>
                  </a:lnTo>
                  <a:lnTo>
                    <a:pt x="55" y="267"/>
                  </a:lnTo>
                  <a:lnTo>
                    <a:pt x="54" y="267"/>
                  </a:lnTo>
                  <a:lnTo>
                    <a:pt x="54" y="267"/>
                  </a:lnTo>
                  <a:lnTo>
                    <a:pt x="52" y="267"/>
                  </a:lnTo>
                  <a:lnTo>
                    <a:pt x="51" y="265"/>
                  </a:lnTo>
                  <a:lnTo>
                    <a:pt x="51" y="265"/>
                  </a:lnTo>
                  <a:lnTo>
                    <a:pt x="51" y="264"/>
                  </a:lnTo>
                  <a:lnTo>
                    <a:pt x="51" y="262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0" y="244"/>
                  </a:lnTo>
                  <a:lnTo>
                    <a:pt x="61" y="244"/>
                  </a:lnTo>
                  <a:lnTo>
                    <a:pt x="63" y="244"/>
                  </a:lnTo>
                  <a:lnTo>
                    <a:pt x="63" y="244"/>
                  </a:lnTo>
                  <a:lnTo>
                    <a:pt x="64" y="247"/>
                  </a:lnTo>
                  <a:lnTo>
                    <a:pt x="64" y="247"/>
                  </a:lnTo>
                  <a:lnTo>
                    <a:pt x="64" y="248"/>
                  </a:lnTo>
                  <a:lnTo>
                    <a:pt x="64" y="248"/>
                  </a:lnTo>
                  <a:close/>
                  <a:moveTo>
                    <a:pt x="45" y="288"/>
                  </a:moveTo>
                  <a:lnTo>
                    <a:pt x="43" y="289"/>
                  </a:lnTo>
                  <a:lnTo>
                    <a:pt x="39" y="304"/>
                  </a:lnTo>
                  <a:lnTo>
                    <a:pt x="37" y="306"/>
                  </a:lnTo>
                  <a:lnTo>
                    <a:pt x="37" y="306"/>
                  </a:lnTo>
                  <a:lnTo>
                    <a:pt x="36" y="306"/>
                  </a:lnTo>
                  <a:lnTo>
                    <a:pt x="34" y="306"/>
                  </a:lnTo>
                  <a:lnTo>
                    <a:pt x="33" y="306"/>
                  </a:lnTo>
                  <a:lnTo>
                    <a:pt x="33" y="304"/>
                  </a:lnTo>
                  <a:lnTo>
                    <a:pt x="33" y="303"/>
                  </a:lnTo>
                  <a:lnTo>
                    <a:pt x="33" y="301"/>
                  </a:lnTo>
                  <a:lnTo>
                    <a:pt x="39" y="288"/>
                  </a:lnTo>
                  <a:lnTo>
                    <a:pt x="40" y="285"/>
                  </a:lnTo>
                  <a:lnTo>
                    <a:pt x="40" y="283"/>
                  </a:lnTo>
                  <a:lnTo>
                    <a:pt x="42" y="283"/>
                  </a:lnTo>
                  <a:lnTo>
                    <a:pt x="43" y="283"/>
                  </a:lnTo>
                  <a:lnTo>
                    <a:pt x="43" y="283"/>
                  </a:lnTo>
                  <a:lnTo>
                    <a:pt x="45" y="283"/>
                  </a:lnTo>
                  <a:lnTo>
                    <a:pt x="45" y="285"/>
                  </a:lnTo>
                  <a:lnTo>
                    <a:pt x="45" y="286"/>
                  </a:lnTo>
                  <a:lnTo>
                    <a:pt x="45" y="288"/>
                  </a:lnTo>
                  <a:lnTo>
                    <a:pt x="45" y="288"/>
                  </a:lnTo>
                  <a:close/>
                  <a:moveTo>
                    <a:pt x="30" y="327"/>
                  </a:moveTo>
                  <a:lnTo>
                    <a:pt x="27" y="333"/>
                  </a:lnTo>
                  <a:lnTo>
                    <a:pt x="24" y="345"/>
                  </a:lnTo>
                  <a:lnTo>
                    <a:pt x="24" y="346"/>
                  </a:lnTo>
                  <a:lnTo>
                    <a:pt x="22" y="346"/>
                  </a:lnTo>
                  <a:lnTo>
                    <a:pt x="22" y="346"/>
                  </a:lnTo>
                  <a:lnTo>
                    <a:pt x="21" y="346"/>
                  </a:lnTo>
                  <a:lnTo>
                    <a:pt x="19" y="346"/>
                  </a:lnTo>
                  <a:lnTo>
                    <a:pt x="19" y="345"/>
                  </a:lnTo>
                  <a:lnTo>
                    <a:pt x="18" y="343"/>
                  </a:lnTo>
                  <a:lnTo>
                    <a:pt x="18" y="343"/>
                  </a:lnTo>
                  <a:lnTo>
                    <a:pt x="22" y="330"/>
                  </a:lnTo>
                  <a:lnTo>
                    <a:pt x="24" y="325"/>
                  </a:lnTo>
                  <a:lnTo>
                    <a:pt x="24" y="324"/>
                  </a:lnTo>
                  <a:lnTo>
                    <a:pt x="25" y="322"/>
                  </a:lnTo>
                  <a:lnTo>
                    <a:pt x="27" y="322"/>
                  </a:lnTo>
                  <a:lnTo>
                    <a:pt x="28" y="324"/>
                  </a:lnTo>
                  <a:lnTo>
                    <a:pt x="28" y="324"/>
                  </a:lnTo>
                  <a:lnTo>
                    <a:pt x="30" y="325"/>
                  </a:lnTo>
                  <a:lnTo>
                    <a:pt x="30" y="325"/>
                  </a:lnTo>
                  <a:lnTo>
                    <a:pt x="30" y="327"/>
                  </a:lnTo>
                  <a:lnTo>
                    <a:pt x="30" y="327"/>
                  </a:lnTo>
                  <a:close/>
                  <a:moveTo>
                    <a:pt x="18" y="369"/>
                  </a:moveTo>
                  <a:lnTo>
                    <a:pt x="15" y="378"/>
                  </a:lnTo>
                  <a:lnTo>
                    <a:pt x="13" y="385"/>
                  </a:lnTo>
                  <a:lnTo>
                    <a:pt x="13" y="387"/>
                  </a:lnTo>
                  <a:lnTo>
                    <a:pt x="13" y="388"/>
                  </a:lnTo>
                  <a:lnTo>
                    <a:pt x="12" y="388"/>
                  </a:lnTo>
                  <a:lnTo>
                    <a:pt x="10" y="388"/>
                  </a:lnTo>
                  <a:lnTo>
                    <a:pt x="9" y="388"/>
                  </a:lnTo>
                  <a:lnTo>
                    <a:pt x="9" y="387"/>
                  </a:lnTo>
                  <a:lnTo>
                    <a:pt x="9" y="387"/>
                  </a:lnTo>
                  <a:lnTo>
                    <a:pt x="9" y="385"/>
                  </a:lnTo>
                  <a:lnTo>
                    <a:pt x="10" y="375"/>
                  </a:lnTo>
                  <a:lnTo>
                    <a:pt x="12" y="367"/>
                  </a:lnTo>
                  <a:lnTo>
                    <a:pt x="12" y="366"/>
                  </a:lnTo>
                  <a:lnTo>
                    <a:pt x="13" y="364"/>
                  </a:lnTo>
                  <a:lnTo>
                    <a:pt x="15" y="364"/>
                  </a:lnTo>
                  <a:lnTo>
                    <a:pt x="16" y="364"/>
                  </a:lnTo>
                  <a:lnTo>
                    <a:pt x="16" y="364"/>
                  </a:lnTo>
                  <a:lnTo>
                    <a:pt x="18" y="366"/>
                  </a:lnTo>
                  <a:lnTo>
                    <a:pt x="18" y="367"/>
                  </a:lnTo>
                  <a:lnTo>
                    <a:pt x="18" y="369"/>
                  </a:lnTo>
                  <a:lnTo>
                    <a:pt x="18" y="369"/>
                  </a:lnTo>
                  <a:close/>
                  <a:moveTo>
                    <a:pt x="10" y="411"/>
                  </a:moveTo>
                  <a:lnTo>
                    <a:pt x="9" y="423"/>
                  </a:lnTo>
                  <a:lnTo>
                    <a:pt x="9" y="429"/>
                  </a:lnTo>
                  <a:lnTo>
                    <a:pt x="7" y="431"/>
                  </a:lnTo>
                  <a:lnTo>
                    <a:pt x="6" y="432"/>
                  </a:lnTo>
                  <a:lnTo>
                    <a:pt x="4" y="432"/>
                  </a:lnTo>
                  <a:lnTo>
                    <a:pt x="3" y="431"/>
                  </a:lnTo>
                  <a:lnTo>
                    <a:pt x="1" y="429"/>
                  </a:lnTo>
                  <a:lnTo>
                    <a:pt x="1" y="428"/>
                  </a:lnTo>
                  <a:lnTo>
                    <a:pt x="3" y="422"/>
                  </a:lnTo>
                  <a:lnTo>
                    <a:pt x="4" y="410"/>
                  </a:lnTo>
                  <a:lnTo>
                    <a:pt x="4" y="408"/>
                  </a:lnTo>
                  <a:lnTo>
                    <a:pt x="6" y="408"/>
                  </a:lnTo>
                  <a:lnTo>
                    <a:pt x="6" y="407"/>
                  </a:lnTo>
                  <a:lnTo>
                    <a:pt x="7" y="407"/>
                  </a:lnTo>
                  <a:lnTo>
                    <a:pt x="9" y="408"/>
                  </a:lnTo>
                  <a:lnTo>
                    <a:pt x="10" y="408"/>
                  </a:lnTo>
                  <a:lnTo>
                    <a:pt x="10" y="410"/>
                  </a:lnTo>
                  <a:lnTo>
                    <a:pt x="10" y="411"/>
                  </a:lnTo>
                  <a:lnTo>
                    <a:pt x="10" y="411"/>
                  </a:lnTo>
                  <a:close/>
                  <a:moveTo>
                    <a:pt x="7" y="453"/>
                  </a:moveTo>
                  <a:lnTo>
                    <a:pt x="6" y="470"/>
                  </a:lnTo>
                  <a:lnTo>
                    <a:pt x="6" y="471"/>
                  </a:lnTo>
                  <a:lnTo>
                    <a:pt x="6" y="473"/>
                  </a:lnTo>
                  <a:lnTo>
                    <a:pt x="4" y="474"/>
                  </a:lnTo>
                  <a:lnTo>
                    <a:pt x="4" y="474"/>
                  </a:lnTo>
                  <a:lnTo>
                    <a:pt x="3" y="476"/>
                  </a:lnTo>
                  <a:lnTo>
                    <a:pt x="1" y="474"/>
                  </a:lnTo>
                  <a:lnTo>
                    <a:pt x="1" y="474"/>
                  </a:lnTo>
                  <a:lnTo>
                    <a:pt x="0" y="473"/>
                  </a:lnTo>
                  <a:lnTo>
                    <a:pt x="0" y="471"/>
                  </a:lnTo>
                  <a:lnTo>
                    <a:pt x="0" y="470"/>
                  </a:lnTo>
                  <a:lnTo>
                    <a:pt x="0" y="453"/>
                  </a:lnTo>
                  <a:lnTo>
                    <a:pt x="1" y="452"/>
                  </a:lnTo>
                  <a:lnTo>
                    <a:pt x="1" y="450"/>
                  </a:lnTo>
                  <a:lnTo>
                    <a:pt x="3" y="450"/>
                  </a:lnTo>
                  <a:lnTo>
                    <a:pt x="3" y="450"/>
                  </a:lnTo>
                  <a:lnTo>
                    <a:pt x="4" y="450"/>
                  </a:lnTo>
                  <a:lnTo>
                    <a:pt x="6" y="452"/>
                  </a:lnTo>
                  <a:lnTo>
                    <a:pt x="6" y="452"/>
                  </a:lnTo>
                  <a:lnTo>
                    <a:pt x="7" y="453"/>
                  </a:lnTo>
                  <a:lnTo>
                    <a:pt x="7" y="453"/>
                  </a:lnTo>
                  <a:close/>
                  <a:moveTo>
                    <a:pt x="7" y="497"/>
                  </a:moveTo>
                  <a:lnTo>
                    <a:pt x="9" y="515"/>
                  </a:lnTo>
                  <a:lnTo>
                    <a:pt x="7" y="516"/>
                  </a:lnTo>
                  <a:lnTo>
                    <a:pt x="7" y="516"/>
                  </a:lnTo>
                  <a:lnTo>
                    <a:pt x="6" y="518"/>
                  </a:lnTo>
                  <a:lnTo>
                    <a:pt x="4" y="518"/>
                  </a:lnTo>
                  <a:lnTo>
                    <a:pt x="4" y="518"/>
                  </a:lnTo>
                  <a:lnTo>
                    <a:pt x="3" y="518"/>
                  </a:lnTo>
                  <a:lnTo>
                    <a:pt x="3" y="516"/>
                  </a:lnTo>
                  <a:lnTo>
                    <a:pt x="1" y="515"/>
                  </a:lnTo>
                  <a:lnTo>
                    <a:pt x="1" y="497"/>
                  </a:lnTo>
                  <a:lnTo>
                    <a:pt x="1" y="495"/>
                  </a:lnTo>
                  <a:lnTo>
                    <a:pt x="1" y="494"/>
                  </a:lnTo>
                  <a:lnTo>
                    <a:pt x="4" y="494"/>
                  </a:lnTo>
                  <a:lnTo>
                    <a:pt x="4" y="494"/>
                  </a:lnTo>
                  <a:lnTo>
                    <a:pt x="6" y="494"/>
                  </a:lnTo>
                  <a:lnTo>
                    <a:pt x="7" y="495"/>
                  </a:lnTo>
                  <a:lnTo>
                    <a:pt x="7" y="497"/>
                  </a:lnTo>
                  <a:lnTo>
                    <a:pt x="7" y="497"/>
                  </a:lnTo>
                  <a:close/>
                  <a:moveTo>
                    <a:pt x="12" y="539"/>
                  </a:moveTo>
                  <a:lnTo>
                    <a:pt x="15" y="557"/>
                  </a:lnTo>
                  <a:lnTo>
                    <a:pt x="15" y="559"/>
                  </a:lnTo>
                  <a:lnTo>
                    <a:pt x="13" y="560"/>
                  </a:lnTo>
                  <a:lnTo>
                    <a:pt x="13" y="560"/>
                  </a:lnTo>
                  <a:lnTo>
                    <a:pt x="12" y="562"/>
                  </a:lnTo>
                  <a:lnTo>
                    <a:pt x="10" y="562"/>
                  </a:lnTo>
                  <a:lnTo>
                    <a:pt x="10" y="560"/>
                  </a:lnTo>
                  <a:lnTo>
                    <a:pt x="9" y="560"/>
                  </a:lnTo>
                  <a:lnTo>
                    <a:pt x="9" y="559"/>
                  </a:lnTo>
                  <a:lnTo>
                    <a:pt x="6" y="540"/>
                  </a:lnTo>
                  <a:lnTo>
                    <a:pt x="6" y="539"/>
                  </a:lnTo>
                  <a:lnTo>
                    <a:pt x="6" y="537"/>
                  </a:lnTo>
                  <a:lnTo>
                    <a:pt x="7" y="537"/>
                  </a:lnTo>
                  <a:lnTo>
                    <a:pt x="9" y="536"/>
                  </a:lnTo>
                  <a:lnTo>
                    <a:pt x="9" y="536"/>
                  </a:lnTo>
                  <a:lnTo>
                    <a:pt x="10" y="537"/>
                  </a:lnTo>
                  <a:lnTo>
                    <a:pt x="12" y="537"/>
                  </a:lnTo>
                  <a:lnTo>
                    <a:pt x="12" y="539"/>
                  </a:lnTo>
                  <a:lnTo>
                    <a:pt x="12" y="539"/>
                  </a:lnTo>
                  <a:close/>
                  <a:moveTo>
                    <a:pt x="19" y="581"/>
                  </a:moveTo>
                  <a:lnTo>
                    <a:pt x="25" y="599"/>
                  </a:lnTo>
                  <a:lnTo>
                    <a:pt x="25" y="601"/>
                  </a:lnTo>
                  <a:lnTo>
                    <a:pt x="25" y="601"/>
                  </a:lnTo>
                  <a:lnTo>
                    <a:pt x="24" y="602"/>
                  </a:lnTo>
                  <a:lnTo>
                    <a:pt x="22" y="602"/>
                  </a:lnTo>
                  <a:lnTo>
                    <a:pt x="22" y="602"/>
                  </a:lnTo>
                  <a:lnTo>
                    <a:pt x="21" y="602"/>
                  </a:lnTo>
                  <a:lnTo>
                    <a:pt x="19" y="602"/>
                  </a:lnTo>
                  <a:lnTo>
                    <a:pt x="19" y="601"/>
                  </a:lnTo>
                  <a:lnTo>
                    <a:pt x="15" y="583"/>
                  </a:lnTo>
                  <a:lnTo>
                    <a:pt x="15" y="581"/>
                  </a:lnTo>
                  <a:lnTo>
                    <a:pt x="15" y="580"/>
                  </a:lnTo>
                  <a:lnTo>
                    <a:pt x="15" y="580"/>
                  </a:lnTo>
                  <a:lnTo>
                    <a:pt x="16" y="580"/>
                  </a:lnTo>
                  <a:lnTo>
                    <a:pt x="18" y="578"/>
                  </a:lnTo>
                  <a:lnTo>
                    <a:pt x="19" y="580"/>
                  </a:lnTo>
                  <a:lnTo>
                    <a:pt x="19" y="580"/>
                  </a:lnTo>
                  <a:lnTo>
                    <a:pt x="19" y="581"/>
                  </a:lnTo>
                  <a:lnTo>
                    <a:pt x="19" y="581"/>
                  </a:lnTo>
                  <a:close/>
                  <a:moveTo>
                    <a:pt x="33" y="622"/>
                  </a:moveTo>
                  <a:lnTo>
                    <a:pt x="39" y="640"/>
                  </a:lnTo>
                  <a:lnTo>
                    <a:pt x="40" y="640"/>
                  </a:lnTo>
                  <a:lnTo>
                    <a:pt x="39" y="641"/>
                  </a:lnTo>
                  <a:lnTo>
                    <a:pt x="39" y="643"/>
                  </a:lnTo>
                  <a:lnTo>
                    <a:pt x="37" y="643"/>
                  </a:lnTo>
                  <a:lnTo>
                    <a:pt x="36" y="643"/>
                  </a:lnTo>
                  <a:lnTo>
                    <a:pt x="36" y="643"/>
                  </a:lnTo>
                  <a:lnTo>
                    <a:pt x="34" y="643"/>
                  </a:lnTo>
                  <a:lnTo>
                    <a:pt x="33" y="641"/>
                  </a:lnTo>
                  <a:lnTo>
                    <a:pt x="27" y="625"/>
                  </a:lnTo>
                  <a:lnTo>
                    <a:pt x="27" y="623"/>
                  </a:lnTo>
                  <a:lnTo>
                    <a:pt x="27" y="622"/>
                  </a:lnTo>
                  <a:lnTo>
                    <a:pt x="27" y="620"/>
                  </a:lnTo>
                  <a:lnTo>
                    <a:pt x="28" y="620"/>
                  </a:lnTo>
                  <a:lnTo>
                    <a:pt x="30" y="620"/>
                  </a:lnTo>
                  <a:lnTo>
                    <a:pt x="31" y="620"/>
                  </a:lnTo>
                  <a:lnTo>
                    <a:pt x="31" y="620"/>
                  </a:lnTo>
                  <a:lnTo>
                    <a:pt x="33" y="622"/>
                  </a:lnTo>
                  <a:lnTo>
                    <a:pt x="33" y="622"/>
                  </a:lnTo>
                  <a:close/>
                  <a:moveTo>
                    <a:pt x="49" y="662"/>
                  </a:moveTo>
                  <a:lnTo>
                    <a:pt x="57" y="679"/>
                  </a:lnTo>
                  <a:lnTo>
                    <a:pt x="58" y="679"/>
                  </a:lnTo>
                  <a:lnTo>
                    <a:pt x="57" y="680"/>
                  </a:lnTo>
                  <a:lnTo>
                    <a:pt x="57" y="682"/>
                  </a:lnTo>
                  <a:lnTo>
                    <a:pt x="55" y="682"/>
                  </a:lnTo>
                  <a:lnTo>
                    <a:pt x="55" y="683"/>
                  </a:lnTo>
                  <a:lnTo>
                    <a:pt x="54" y="683"/>
                  </a:lnTo>
                  <a:lnTo>
                    <a:pt x="52" y="682"/>
                  </a:lnTo>
                  <a:lnTo>
                    <a:pt x="52" y="680"/>
                  </a:lnTo>
                  <a:lnTo>
                    <a:pt x="43" y="664"/>
                  </a:lnTo>
                  <a:lnTo>
                    <a:pt x="43" y="664"/>
                  </a:lnTo>
                  <a:lnTo>
                    <a:pt x="43" y="662"/>
                  </a:lnTo>
                  <a:lnTo>
                    <a:pt x="45" y="661"/>
                  </a:lnTo>
                  <a:lnTo>
                    <a:pt x="45" y="661"/>
                  </a:lnTo>
                  <a:lnTo>
                    <a:pt x="46" y="659"/>
                  </a:lnTo>
                  <a:lnTo>
                    <a:pt x="48" y="661"/>
                  </a:lnTo>
                  <a:lnTo>
                    <a:pt x="48" y="661"/>
                  </a:lnTo>
                  <a:lnTo>
                    <a:pt x="49" y="662"/>
                  </a:lnTo>
                  <a:lnTo>
                    <a:pt x="49" y="662"/>
                  </a:lnTo>
                  <a:close/>
                  <a:moveTo>
                    <a:pt x="69" y="700"/>
                  </a:moveTo>
                  <a:lnTo>
                    <a:pt x="79" y="715"/>
                  </a:lnTo>
                  <a:lnTo>
                    <a:pt x="79" y="717"/>
                  </a:lnTo>
                  <a:lnTo>
                    <a:pt x="79" y="718"/>
                  </a:lnTo>
                  <a:lnTo>
                    <a:pt x="79" y="718"/>
                  </a:lnTo>
                  <a:lnTo>
                    <a:pt x="78" y="720"/>
                  </a:lnTo>
                  <a:lnTo>
                    <a:pt x="78" y="720"/>
                  </a:lnTo>
                  <a:lnTo>
                    <a:pt x="76" y="720"/>
                  </a:lnTo>
                  <a:lnTo>
                    <a:pt x="75" y="720"/>
                  </a:lnTo>
                  <a:lnTo>
                    <a:pt x="73" y="718"/>
                  </a:lnTo>
                  <a:lnTo>
                    <a:pt x="64" y="703"/>
                  </a:lnTo>
                  <a:lnTo>
                    <a:pt x="63" y="701"/>
                  </a:lnTo>
                  <a:lnTo>
                    <a:pt x="64" y="700"/>
                  </a:lnTo>
                  <a:lnTo>
                    <a:pt x="64" y="700"/>
                  </a:lnTo>
                  <a:lnTo>
                    <a:pt x="66" y="698"/>
                  </a:lnTo>
                  <a:lnTo>
                    <a:pt x="66" y="698"/>
                  </a:lnTo>
                  <a:lnTo>
                    <a:pt x="67" y="698"/>
                  </a:lnTo>
                  <a:lnTo>
                    <a:pt x="69" y="698"/>
                  </a:lnTo>
                  <a:lnTo>
                    <a:pt x="69" y="700"/>
                  </a:lnTo>
                  <a:lnTo>
                    <a:pt x="69" y="700"/>
                  </a:lnTo>
                  <a:close/>
                  <a:moveTo>
                    <a:pt x="93" y="735"/>
                  </a:moveTo>
                  <a:lnTo>
                    <a:pt x="105" y="750"/>
                  </a:lnTo>
                  <a:lnTo>
                    <a:pt x="105" y="751"/>
                  </a:lnTo>
                  <a:lnTo>
                    <a:pt x="105" y="753"/>
                  </a:lnTo>
                  <a:lnTo>
                    <a:pt x="105" y="754"/>
                  </a:lnTo>
                  <a:lnTo>
                    <a:pt x="103" y="754"/>
                  </a:lnTo>
                  <a:lnTo>
                    <a:pt x="102" y="756"/>
                  </a:lnTo>
                  <a:lnTo>
                    <a:pt x="102" y="756"/>
                  </a:lnTo>
                  <a:lnTo>
                    <a:pt x="100" y="754"/>
                  </a:lnTo>
                  <a:lnTo>
                    <a:pt x="99" y="754"/>
                  </a:lnTo>
                  <a:lnTo>
                    <a:pt x="88" y="739"/>
                  </a:lnTo>
                  <a:lnTo>
                    <a:pt x="88" y="738"/>
                  </a:lnTo>
                  <a:lnTo>
                    <a:pt x="87" y="738"/>
                  </a:lnTo>
                  <a:lnTo>
                    <a:pt x="88" y="736"/>
                  </a:lnTo>
                  <a:lnTo>
                    <a:pt x="88" y="735"/>
                  </a:lnTo>
                  <a:lnTo>
                    <a:pt x="90" y="735"/>
                  </a:lnTo>
                  <a:lnTo>
                    <a:pt x="91" y="735"/>
                  </a:lnTo>
                  <a:lnTo>
                    <a:pt x="91" y="735"/>
                  </a:lnTo>
                  <a:lnTo>
                    <a:pt x="93" y="735"/>
                  </a:lnTo>
                  <a:lnTo>
                    <a:pt x="93" y="735"/>
                  </a:lnTo>
                  <a:close/>
                  <a:moveTo>
                    <a:pt x="120" y="769"/>
                  </a:moveTo>
                  <a:lnTo>
                    <a:pt x="132" y="783"/>
                  </a:lnTo>
                  <a:lnTo>
                    <a:pt x="134" y="783"/>
                  </a:lnTo>
                  <a:lnTo>
                    <a:pt x="134" y="784"/>
                  </a:lnTo>
                  <a:lnTo>
                    <a:pt x="134" y="786"/>
                  </a:lnTo>
                  <a:lnTo>
                    <a:pt x="132" y="787"/>
                  </a:lnTo>
                  <a:lnTo>
                    <a:pt x="131" y="787"/>
                  </a:lnTo>
                  <a:lnTo>
                    <a:pt x="131" y="787"/>
                  </a:lnTo>
                  <a:lnTo>
                    <a:pt x="129" y="787"/>
                  </a:lnTo>
                  <a:lnTo>
                    <a:pt x="128" y="787"/>
                  </a:lnTo>
                  <a:lnTo>
                    <a:pt x="116" y="774"/>
                  </a:lnTo>
                  <a:lnTo>
                    <a:pt x="114" y="772"/>
                  </a:lnTo>
                  <a:lnTo>
                    <a:pt x="114" y="771"/>
                  </a:lnTo>
                  <a:lnTo>
                    <a:pt x="114" y="769"/>
                  </a:lnTo>
                  <a:lnTo>
                    <a:pt x="116" y="769"/>
                  </a:lnTo>
                  <a:lnTo>
                    <a:pt x="117" y="768"/>
                  </a:lnTo>
                  <a:lnTo>
                    <a:pt x="117" y="768"/>
                  </a:lnTo>
                  <a:lnTo>
                    <a:pt x="119" y="768"/>
                  </a:lnTo>
                  <a:lnTo>
                    <a:pt x="120" y="769"/>
                  </a:lnTo>
                  <a:lnTo>
                    <a:pt x="120" y="769"/>
                  </a:lnTo>
                  <a:close/>
                  <a:moveTo>
                    <a:pt x="150" y="801"/>
                  </a:moveTo>
                  <a:lnTo>
                    <a:pt x="164" y="813"/>
                  </a:lnTo>
                  <a:lnTo>
                    <a:pt x="164" y="813"/>
                  </a:lnTo>
                  <a:lnTo>
                    <a:pt x="165" y="814"/>
                  </a:lnTo>
                  <a:lnTo>
                    <a:pt x="164" y="816"/>
                  </a:lnTo>
                  <a:lnTo>
                    <a:pt x="164" y="817"/>
                  </a:lnTo>
                  <a:lnTo>
                    <a:pt x="162" y="817"/>
                  </a:lnTo>
                  <a:lnTo>
                    <a:pt x="161" y="817"/>
                  </a:lnTo>
                  <a:lnTo>
                    <a:pt x="159" y="817"/>
                  </a:lnTo>
                  <a:lnTo>
                    <a:pt x="146" y="805"/>
                  </a:lnTo>
                  <a:lnTo>
                    <a:pt x="144" y="804"/>
                  </a:lnTo>
                  <a:lnTo>
                    <a:pt x="144" y="802"/>
                  </a:lnTo>
                  <a:lnTo>
                    <a:pt x="144" y="802"/>
                  </a:lnTo>
                  <a:lnTo>
                    <a:pt x="146" y="801"/>
                  </a:lnTo>
                  <a:lnTo>
                    <a:pt x="146" y="799"/>
                  </a:lnTo>
                  <a:lnTo>
                    <a:pt x="147" y="799"/>
                  </a:lnTo>
                  <a:lnTo>
                    <a:pt x="149" y="799"/>
                  </a:lnTo>
                  <a:lnTo>
                    <a:pt x="150" y="801"/>
                  </a:lnTo>
                  <a:lnTo>
                    <a:pt x="150" y="801"/>
                  </a:lnTo>
                  <a:close/>
                  <a:moveTo>
                    <a:pt x="182" y="828"/>
                  </a:moveTo>
                  <a:lnTo>
                    <a:pt x="183" y="829"/>
                  </a:lnTo>
                  <a:lnTo>
                    <a:pt x="197" y="840"/>
                  </a:lnTo>
                  <a:lnTo>
                    <a:pt x="198" y="840"/>
                  </a:lnTo>
                  <a:lnTo>
                    <a:pt x="198" y="841"/>
                  </a:lnTo>
                  <a:lnTo>
                    <a:pt x="198" y="843"/>
                  </a:lnTo>
                  <a:lnTo>
                    <a:pt x="198" y="843"/>
                  </a:lnTo>
                  <a:lnTo>
                    <a:pt x="197" y="844"/>
                  </a:lnTo>
                  <a:lnTo>
                    <a:pt x="195" y="844"/>
                  </a:lnTo>
                  <a:lnTo>
                    <a:pt x="194" y="844"/>
                  </a:lnTo>
                  <a:lnTo>
                    <a:pt x="194" y="844"/>
                  </a:lnTo>
                  <a:lnTo>
                    <a:pt x="179" y="834"/>
                  </a:lnTo>
                  <a:lnTo>
                    <a:pt x="179" y="832"/>
                  </a:lnTo>
                  <a:lnTo>
                    <a:pt x="177" y="832"/>
                  </a:lnTo>
                  <a:lnTo>
                    <a:pt x="177" y="831"/>
                  </a:lnTo>
                  <a:lnTo>
                    <a:pt x="177" y="829"/>
                  </a:lnTo>
                  <a:lnTo>
                    <a:pt x="177" y="829"/>
                  </a:lnTo>
                  <a:lnTo>
                    <a:pt x="179" y="828"/>
                  </a:lnTo>
                  <a:lnTo>
                    <a:pt x="180" y="828"/>
                  </a:lnTo>
                  <a:lnTo>
                    <a:pt x="182" y="828"/>
                  </a:lnTo>
                  <a:lnTo>
                    <a:pt x="182" y="828"/>
                  </a:lnTo>
                  <a:lnTo>
                    <a:pt x="182" y="828"/>
                  </a:lnTo>
                  <a:close/>
                  <a:moveTo>
                    <a:pt x="218" y="853"/>
                  </a:moveTo>
                  <a:lnTo>
                    <a:pt x="219" y="855"/>
                  </a:lnTo>
                  <a:lnTo>
                    <a:pt x="233" y="863"/>
                  </a:lnTo>
                  <a:lnTo>
                    <a:pt x="233" y="864"/>
                  </a:lnTo>
                  <a:lnTo>
                    <a:pt x="234" y="864"/>
                  </a:lnTo>
                  <a:lnTo>
                    <a:pt x="234" y="866"/>
                  </a:lnTo>
                  <a:lnTo>
                    <a:pt x="234" y="867"/>
                  </a:lnTo>
                  <a:lnTo>
                    <a:pt x="233" y="869"/>
                  </a:lnTo>
                  <a:lnTo>
                    <a:pt x="231" y="869"/>
                  </a:lnTo>
                  <a:lnTo>
                    <a:pt x="231" y="869"/>
                  </a:lnTo>
                  <a:lnTo>
                    <a:pt x="230" y="869"/>
                  </a:lnTo>
                  <a:lnTo>
                    <a:pt x="216" y="861"/>
                  </a:lnTo>
                  <a:lnTo>
                    <a:pt x="213" y="858"/>
                  </a:lnTo>
                  <a:lnTo>
                    <a:pt x="213" y="858"/>
                  </a:lnTo>
                  <a:lnTo>
                    <a:pt x="212" y="856"/>
                  </a:lnTo>
                  <a:lnTo>
                    <a:pt x="212" y="855"/>
                  </a:lnTo>
                  <a:lnTo>
                    <a:pt x="213" y="855"/>
                  </a:lnTo>
                  <a:lnTo>
                    <a:pt x="213" y="853"/>
                  </a:lnTo>
                  <a:lnTo>
                    <a:pt x="215" y="853"/>
                  </a:lnTo>
                  <a:lnTo>
                    <a:pt x="216" y="853"/>
                  </a:lnTo>
                  <a:lnTo>
                    <a:pt x="218" y="853"/>
                  </a:lnTo>
                  <a:lnTo>
                    <a:pt x="218" y="853"/>
                  </a:lnTo>
                  <a:close/>
                  <a:moveTo>
                    <a:pt x="254" y="875"/>
                  </a:moveTo>
                  <a:lnTo>
                    <a:pt x="260" y="879"/>
                  </a:lnTo>
                  <a:lnTo>
                    <a:pt x="270" y="884"/>
                  </a:lnTo>
                  <a:lnTo>
                    <a:pt x="272" y="884"/>
                  </a:lnTo>
                  <a:lnTo>
                    <a:pt x="272" y="885"/>
                  </a:lnTo>
                  <a:lnTo>
                    <a:pt x="272" y="888"/>
                  </a:lnTo>
                  <a:lnTo>
                    <a:pt x="272" y="888"/>
                  </a:lnTo>
                  <a:lnTo>
                    <a:pt x="270" y="890"/>
                  </a:lnTo>
                  <a:lnTo>
                    <a:pt x="269" y="890"/>
                  </a:lnTo>
                  <a:lnTo>
                    <a:pt x="267" y="890"/>
                  </a:lnTo>
                  <a:lnTo>
                    <a:pt x="257" y="884"/>
                  </a:lnTo>
                  <a:lnTo>
                    <a:pt x="251" y="881"/>
                  </a:lnTo>
                  <a:lnTo>
                    <a:pt x="249" y="881"/>
                  </a:lnTo>
                  <a:lnTo>
                    <a:pt x="249" y="879"/>
                  </a:lnTo>
                  <a:lnTo>
                    <a:pt x="249" y="878"/>
                  </a:lnTo>
                  <a:lnTo>
                    <a:pt x="249" y="876"/>
                  </a:lnTo>
                  <a:lnTo>
                    <a:pt x="251" y="876"/>
                  </a:lnTo>
                  <a:lnTo>
                    <a:pt x="252" y="875"/>
                  </a:lnTo>
                  <a:lnTo>
                    <a:pt x="252" y="875"/>
                  </a:lnTo>
                  <a:lnTo>
                    <a:pt x="254" y="875"/>
                  </a:lnTo>
                  <a:lnTo>
                    <a:pt x="254" y="875"/>
                  </a:lnTo>
                  <a:close/>
                  <a:moveTo>
                    <a:pt x="293" y="894"/>
                  </a:moveTo>
                  <a:lnTo>
                    <a:pt x="303" y="899"/>
                  </a:lnTo>
                  <a:lnTo>
                    <a:pt x="309" y="900"/>
                  </a:lnTo>
                  <a:lnTo>
                    <a:pt x="311" y="902"/>
                  </a:lnTo>
                  <a:lnTo>
                    <a:pt x="311" y="903"/>
                  </a:lnTo>
                  <a:lnTo>
                    <a:pt x="311" y="903"/>
                  </a:lnTo>
                  <a:lnTo>
                    <a:pt x="311" y="905"/>
                  </a:lnTo>
                  <a:lnTo>
                    <a:pt x="311" y="906"/>
                  </a:lnTo>
                  <a:lnTo>
                    <a:pt x="309" y="906"/>
                  </a:lnTo>
                  <a:lnTo>
                    <a:pt x="308" y="906"/>
                  </a:lnTo>
                  <a:lnTo>
                    <a:pt x="308" y="906"/>
                  </a:lnTo>
                  <a:lnTo>
                    <a:pt x="300" y="905"/>
                  </a:lnTo>
                  <a:lnTo>
                    <a:pt x="290" y="900"/>
                  </a:lnTo>
                  <a:lnTo>
                    <a:pt x="288" y="899"/>
                  </a:lnTo>
                  <a:lnTo>
                    <a:pt x="288" y="897"/>
                  </a:lnTo>
                  <a:lnTo>
                    <a:pt x="288" y="897"/>
                  </a:lnTo>
                  <a:lnTo>
                    <a:pt x="288" y="896"/>
                  </a:lnTo>
                  <a:lnTo>
                    <a:pt x="290" y="894"/>
                  </a:lnTo>
                  <a:lnTo>
                    <a:pt x="290" y="894"/>
                  </a:lnTo>
                  <a:lnTo>
                    <a:pt x="291" y="894"/>
                  </a:lnTo>
                  <a:lnTo>
                    <a:pt x="293" y="894"/>
                  </a:lnTo>
                  <a:lnTo>
                    <a:pt x="293" y="894"/>
                  </a:lnTo>
                  <a:close/>
                  <a:moveTo>
                    <a:pt x="333" y="909"/>
                  </a:moveTo>
                  <a:lnTo>
                    <a:pt x="347" y="914"/>
                  </a:lnTo>
                  <a:lnTo>
                    <a:pt x="350" y="915"/>
                  </a:lnTo>
                  <a:lnTo>
                    <a:pt x="351" y="915"/>
                  </a:lnTo>
                  <a:lnTo>
                    <a:pt x="351" y="917"/>
                  </a:lnTo>
                  <a:lnTo>
                    <a:pt x="351" y="917"/>
                  </a:lnTo>
                  <a:lnTo>
                    <a:pt x="351" y="918"/>
                  </a:lnTo>
                  <a:lnTo>
                    <a:pt x="351" y="920"/>
                  </a:lnTo>
                  <a:lnTo>
                    <a:pt x="351" y="920"/>
                  </a:lnTo>
                  <a:lnTo>
                    <a:pt x="350" y="921"/>
                  </a:lnTo>
                  <a:lnTo>
                    <a:pt x="348" y="921"/>
                  </a:lnTo>
                  <a:lnTo>
                    <a:pt x="345" y="920"/>
                  </a:lnTo>
                  <a:lnTo>
                    <a:pt x="330" y="915"/>
                  </a:lnTo>
                  <a:lnTo>
                    <a:pt x="329" y="914"/>
                  </a:lnTo>
                  <a:lnTo>
                    <a:pt x="329" y="914"/>
                  </a:lnTo>
                  <a:lnTo>
                    <a:pt x="329" y="912"/>
                  </a:lnTo>
                  <a:lnTo>
                    <a:pt x="329" y="911"/>
                  </a:lnTo>
                  <a:lnTo>
                    <a:pt x="329" y="909"/>
                  </a:lnTo>
                  <a:lnTo>
                    <a:pt x="330" y="909"/>
                  </a:lnTo>
                  <a:lnTo>
                    <a:pt x="332" y="909"/>
                  </a:lnTo>
                  <a:lnTo>
                    <a:pt x="333" y="909"/>
                  </a:lnTo>
                  <a:lnTo>
                    <a:pt x="333" y="909"/>
                  </a:lnTo>
                  <a:close/>
                  <a:moveTo>
                    <a:pt x="374" y="920"/>
                  </a:moveTo>
                  <a:lnTo>
                    <a:pt x="392" y="926"/>
                  </a:lnTo>
                  <a:lnTo>
                    <a:pt x="393" y="926"/>
                  </a:lnTo>
                  <a:lnTo>
                    <a:pt x="393" y="926"/>
                  </a:lnTo>
                  <a:lnTo>
                    <a:pt x="393" y="927"/>
                  </a:lnTo>
                  <a:lnTo>
                    <a:pt x="393" y="929"/>
                  </a:lnTo>
                  <a:lnTo>
                    <a:pt x="393" y="930"/>
                  </a:lnTo>
                  <a:lnTo>
                    <a:pt x="392" y="930"/>
                  </a:lnTo>
                  <a:lnTo>
                    <a:pt x="392" y="930"/>
                  </a:lnTo>
                  <a:lnTo>
                    <a:pt x="390" y="930"/>
                  </a:lnTo>
                  <a:lnTo>
                    <a:pt x="372" y="927"/>
                  </a:lnTo>
                  <a:lnTo>
                    <a:pt x="371" y="926"/>
                  </a:lnTo>
                  <a:lnTo>
                    <a:pt x="371" y="926"/>
                  </a:lnTo>
                  <a:lnTo>
                    <a:pt x="369" y="924"/>
                  </a:lnTo>
                  <a:lnTo>
                    <a:pt x="369" y="923"/>
                  </a:lnTo>
                  <a:lnTo>
                    <a:pt x="371" y="921"/>
                  </a:lnTo>
                  <a:lnTo>
                    <a:pt x="371" y="921"/>
                  </a:lnTo>
                  <a:lnTo>
                    <a:pt x="372" y="920"/>
                  </a:lnTo>
                  <a:lnTo>
                    <a:pt x="374" y="920"/>
                  </a:lnTo>
                  <a:lnTo>
                    <a:pt x="374" y="920"/>
                  </a:lnTo>
                  <a:close/>
                  <a:moveTo>
                    <a:pt x="416" y="929"/>
                  </a:moveTo>
                  <a:lnTo>
                    <a:pt x="434" y="932"/>
                  </a:lnTo>
                  <a:lnTo>
                    <a:pt x="436" y="932"/>
                  </a:lnTo>
                  <a:lnTo>
                    <a:pt x="436" y="933"/>
                  </a:lnTo>
                  <a:lnTo>
                    <a:pt x="437" y="933"/>
                  </a:lnTo>
                  <a:lnTo>
                    <a:pt x="437" y="935"/>
                  </a:lnTo>
                  <a:lnTo>
                    <a:pt x="436" y="936"/>
                  </a:lnTo>
                  <a:lnTo>
                    <a:pt x="436" y="938"/>
                  </a:lnTo>
                  <a:lnTo>
                    <a:pt x="434" y="938"/>
                  </a:lnTo>
                  <a:lnTo>
                    <a:pt x="434" y="938"/>
                  </a:lnTo>
                  <a:lnTo>
                    <a:pt x="414" y="935"/>
                  </a:lnTo>
                  <a:lnTo>
                    <a:pt x="414" y="935"/>
                  </a:lnTo>
                  <a:lnTo>
                    <a:pt x="413" y="933"/>
                  </a:lnTo>
                  <a:lnTo>
                    <a:pt x="413" y="932"/>
                  </a:lnTo>
                  <a:lnTo>
                    <a:pt x="413" y="932"/>
                  </a:lnTo>
                  <a:lnTo>
                    <a:pt x="413" y="930"/>
                  </a:lnTo>
                  <a:lnTo>
                    <a:pt x="413" y="929"/>
                  </a:lnTo>
                  <a:lnTo>
                    <a:pt x="414" y="929"/>
                  </a:lnTo>
                  <a:lnTo>
                    <a:pt x="416" y="929"/>
                  </a:lnTo>
                  <a:lnTo>
                    <a:pt x="416" y="929"/>
                  </a:lnTo>
                  <a:close/>
                  <a:moveTo>
                    <a:pt x="458" y="933"/>
                  </a:moveTo>
                  <a:lnTo>
                    <a:pt x="476" y="935"/>
                  </a:lnTo>
                  <a:lnTo>
                    <a:pt x="478" y="935"/>
                  </a:lnTo>
                  <a:lnTo>
                    <a:pt x="479" y="935"/>
                  </a:lnTo>
                  <a:lnTo>
                    <a:pt x="479" y="936"/>
                  </a:lnTo>
                  <a:lnTo>
                    <a:pt x="481" y="938"/>
                  </a:lnTo>
                  <a:lnTo>
                    <a:pt x="479" y="939"/>
                  </a:lnTo>
                  <a:lnTo>
                    <a:pt x="479" y="939"/>
                  </a:lnTo>
                  <a:lnTo>
                    <a:pt x="478" y="941"/>
                  </a:lnTo>
                  <a:lnTo>
                    <a:pt x="476" y="941"/>
                  </a:lnTo>
                  <a:lnTo>
                    <a:pt x="458" y="939"/>
                  </a:lnTo>
                  <a:lnTo>
                    <a:pt x="457" y="939"/>
                  </a:lnTo>
                  <a:lnTo>
                    <a:pt x="457" y="939"/>
                  </a:lnTo>
                  <a:lnTo>
                    <a:pt x="455" y="938"/>
                  </a:lnTo>
                  <a:lnTo>
                    <a:pt x="455" y="936"/>
                  </a:lnTo>
                  <a:lnTo>
                    <a:pt x="455" y="935"/>
                  </a:lnTo>
                  <a:lnTo>
                    <a:pt x="457" y="935"/>
                  </a:lnTo>
                  <a:lnTo>
                    <a:pt x="457" y="933"/>
                  </a:lnTo>
                  <a:lnTo>
                    <a:pt x="458" y="933"/>
                  </a:lnTo>
                  <a:lnTo>
                    <a:pt x="458" y="933"/>
                  </a:lnTo>
                  <a:close/>
                  <a:moveTo>
                    <a:pt x="502" y="935"/>
                  </a:moveTo>
                  <a:lnTo>
                    <a:pt x="520" y="933"/>
                  </a:lnTo>
                  <a:lnTo>
                    <a:pt x="521" y="933"/>
                  </a:lnTo>
                  <a:lnTo>
                    <a:pt x="523" y="935"/>
                  </a:lnTo>
                  <a:lnTo>
                    <a:pt x="523" y="935"/>
                  </a:lnTo>
                  <a:lnTo>
                    <a:pt x="523" y="936"/>
                  </a:lnTo>
                  <a:lnTo>
                    <a:pt x="523" y="938"/>
                  </a:lnTo>
                  <a:lnTo>
                    <a:pt x="523" y="939"/>
                  </a:lnTo>
                  <a:lnTo>
                    <a:pt x="521" y="939"/>
                  </a:lnTo>
                  <a:lnTo>
                    <a:pt x="520" y="939"/>
                  </a:lnTo>
                  <a:lnTo>
                    <a:pt x="502" y="941"/>
                  </a:lnTo>
                  <a:lnTo>
                    <a:pt x="500" y="941"/>
                  </a:lnTo>
                  <a:lnTo>
                    <a:pt x="500" y="939"/>
                  </a:lnTo>
                  <a:lnTo>
                    <a:pt x="499" y="939"/>
                  </a:lnTo>
                  <a:lnTo>
                    <a:pt x="499" y="938"/>
                  </a:lnTo>
                  <a:lnTo>
                    <a:pt x="499" y="936"/>
                  </a:lnTo>
                  <a:lnTo>
                    <a:pt x="499" y="936"/>
                  </a:lnTo>
                  <a:lnTo>
                    <a:pt x="502" y="935"/>
                  </a:lnTo>
                  <a:lnTo>
                    <a:pt x="502" y="935"/>
                  </a:lnTo>
                  <a:close/>
                  <a:moveTo>
                    <a:pt x="544" y="932"/>
                  </a:moveTo>
                  <a:lnTo>
                    <a:pt x="562" y="929"/>
                  </a:lnTo>
                  <a:lnTo>
                    <a:pt x="563" y="930"/>
                  </a:lnTo>
                  <a:lnTo>
                    <a:pt x="565" y="930"/>
                  </a:lnTo>
                  <a:lnTo>
                    <a:pt x="565" y="930"/>
                  </a:lnTo>
                  <a:lnTo>
                    <a:pt x="566" y="932"/>
                  </a:lnTo>
                  <a:lnTo>
                    <a:pt x="566" y="933"/>
                  </a:lnTo>
                  <a:lnTo>
                    <a:pt x="565" y="935"/>
                  </a:lnTo>
                  <a:lnTo>
                    <a:pt x="565" y="935"/>
                  </a:lnTo>
                  <a:lnTo>
                    <a:pt x="563" y="936"/>
                  </a:lnTo>
                  <a:lnTo>
                    <a:pt x="545" y="938"/>
                  </a:lnTo>
                  <a:lnTo>
                    <a:pt x="544" y="938"/>
                  </a:lnTo>
                  <a:lnTo>
                    <a:pt x="542" y="938"/>
                  </a:lnTo>
                  <a:lnTo>
                    <a:pt x="542" y="936"/>
                  </a:lnTo>
                  <a:lnTo>
                    <a:pt x="542" y="936"/>
                  </a:lnTo>
                  <a:lnTo>
                    <a:pt x="542" y="935"/>
                  </a:lnTo>
                  <a:lnTo>
                    <a:pt x="542" y="933"/>
                  </a:lnTo>
                  <a:lnTo>
                    <a:pt x="542" y="933"/>
                  </a:lnTo>
                  <a:lnTo>
                    <a:pt x="544" y="932"/>
                  </a:lnTo>
                  <a:lnTo>
                    <a:pt x="544" y="932"/>
                  </a:lnTo>
                  <a:close/>
                  <a:moveTo>
                    <a:pt x="587" y="926"/>
                  </a:moveTo>
                  <a:lnTo>
                    <a:pt x="590" y="926"/>
                  </a:lnTo>
                  <a:lnTo>
                    <a:pt x="604" y="921"/>
                  </a:lnTo>
                  <a:lnTo>
                    <a:pt x="605" y="921"/>
                  </a:lnTo>
                  <a:lnTo>
                    <a:pt x="607" y="923"/>
                  </a:lnTo>
                  <a:lnTo>
                    <a:pt x="608" y="923"/>
                  </a:lnTo>
                  <a:lnTo>
                    <a:pt x="608" y="924"/>
                  </a:lnTo>
                  <a:lnTo>
                    <a:pt x="608" y="926"/>
                  </a:lnTo>
                  <a:lnTo>
                    <a:pt x="608" y="926"/>
                  </a:lnTo>
                  <a:lnTo>
                    <a:pt x="607" y="927"/>
                  </a:lnTo>
                  <a:lnTo>
                    <a:pt x="605" y="927"/>
                  </a:lnTo>
                  <a:lnTo>
                    <a:pt x="590" y="932"/>
                  </a:lnTo>
                  <a:lnTo>
                    <a:pt x="587" y="932"/>
                  </a:lnTo>
                  <a:lnTo>
                    <a:pt x="586" y="932"/>
                  </a:lnTo>
                  <a:lnTo>
                    <a:pt x="586" y="932"/>
                  </a:lnTo>
                  <a:lnTo>
                    <a:pt x="584" y="930"/>
                  </a:lnTo>
                  <a:lnTo>
                    <a:pt x="584" y="929"/>
                  </a:lnTo>
                  <a:lnTo>
                    <a:pt x="584" y="929"/>
                  </a:lnTo>
                  <a:lnTo>
                    <a:pt x="584" y="927"/>
                  </a:lnTo>
                  <a:lnTo>
                    <a:pt x="586" y="926"/>
                  </a:lnTo>
                  <a:lnTo>
                    <a:pt x="587" y="926"/>
                  </a:lnTo>
                  <a:lnTo>
                    <a:pt x="587" y="926"/>
                  </a:lnTo>
                  <a:close/>
                  <a:moveTo>
                    <a:pt x="629" y="917"/>
                  </a:moveTo>
                  <a:lnTo>
                    <a:pt x="637" y="914"/>
                  </a:lnTo>
                  <a:lnTo>
                    <a:pt x="646" y="911"/>
                  </a:lnTo>
                  <a:lnTo>
                    <a:pt x="647" y="911"/>
                  </a:lnTo>
                  <a:lnTo>
                    <a:pt x="649" y="911"/>
                  </a:lnTo>
                  <a:lnTo>
                    <a:pt x="649" y="912"/>
                  </a:lnTo>
                  <a:lnTo>
                    <a:pt x="650" y="912"/>
                  </a:lnTo>
                  <a:lnTo>
                    <a:pt x="650" y="914"/>
                  </a:lnTo>
                  <a:lnTo>
                    <a:pt x="650" y="915"/>
                  </a:lnTo>
                  <a:lnTo>
                    <a:pt x="649" y="917"/>
                  </a:lnTo>
                  <a:lnTo>
                    <a:pt x="647" y="917"/>
                  </a:lnTo>
                  <a:lnTo>
                    <a:pt x="637" y="920"/>
                  </a:lnTo>
                  <a:lnTo>
                    <a:pt x="629" y="923"/>
                  </a:lnTo>
                  <a:lnTo>
                    <a:pt x="629" y="923"/>
                  </a:lnTo>
                  <a:lnTo>
                    <a:pt x="628" y="921"/>
                  </a:lnTo>
                  <a:lnTo>
                    <a:pt x="626" y="921"/>
                  </a:lnTo>
                  <a:lnTo>
                    <a:pt x="626" y="920"/>
                  </a:lnTo>
                  <a:lnTo>
                    <a:pt x="626" y="918"/>
                  </a:lnTo>
                  <a:lnTo>
                    <a:pt x="626" y="918"/>
                  </a:lnTo>
                  <a:lnTo>
                    <a:pt x="628" y="917"/>
                  </a:lnTo>
                  <a:lnTo>
                    <a:pt x="629" y="917"/>
                  </a:lnTo>
                  <a:lnTo>
                    <a:pt x="629" y="917"/>
                  </a:lnTo>
                  <a:close/>
                  <a:moveTo>
                    <a:pt x="670" y="903"/>
                  </a:moveTo>
                  <a:lnTo>
                    <a:pt x="680" y="899"/>
                  </a:lnTo>
                  <a:lnTo>
                    <a:pt x="686" y="896"/>
                  </a:lnTo>
                  <a:lnTo>
                    <a:pt x="688" y="896"/>
                  </a:lnTo>
                  <a:lnTo>
                    <a:pt x="688" y="896"/>
                  </a:lnTo>
                  <a:lnTo>
                    <a:pt x="689" y="897"/>
                  </a:lnTo>
                  <a:lnTo>
                    <a:pt x="691" y="897"/>
                  </a:lnTo>
                  <a:lnTo>
                    <a:pt x="691" y="899"/>
                  </a:lnTo>
                  <a:lnTo>
                    <a:pt x="691" y="900"/>
                  </a:lnTo>
                  <a:lnTo>
                    <a:pt x="689" y="900"/>
                  </a:lnTo>
                  <a:lnTo>
                    <a:pt x="689" y="902"/>
                  </a:lnTo>
                  <a:lnTo>
                    <a:pt x="683" y="905"/>
                  </a:lnTo>
                  <a:lnTo>
                    <a:pt x="671" y="909"/>
                  </a:lnTo>
                  <a:lnTo>
                    <a:pt x="670" y="909"/>
                  </a:lnTo>
                  <a:lnTo>
                    <a:pt x="668" y="908"/>
                  </a:lnTo>
                  <a:lnTo>
                    <a:pt x="667" y="906"/>
                  </a:lnTo>
                  <a:lnTo>
                    <a:pt x="667" y="905"/>
                  </a:lnTo>
                  <a:lnTo>
                    <a:pt x="667" y="905"/>
                  </a:lnTo>
                  <a:lnTo>
                    <a:pt x="668" y="903"/>
                  </a:lnTo>
                  <a:lnTo>
                    <a:pt x="670" y="903"/>
                  </a:lnTo>
                  <a:lnTo>
                    <a:pt x="670" y="903"/>
                  </a:lnTo>
                  <a:close/>
                  <a:moveTo>
                    <a:pt x="709" y="885"/>
                  </a:moveTo>
                  <a:lnTo>
                    <a:pt x="724" y="879"/>
                  </a:lnTo>
                  <a:lnTo>
                    <a:pt x="725" y="878"/>
                  </a:lnTo>
                  <a:lnTo>
                    <a:pt x="725" y="878"/>
                  </a:lnTo>
                  <a:lnTo>
                    <a:pt x="727" y="878"/>
                  </a:lnTo>
                  <a:lnTo>
                    <a:pt x="728" y="878"/>
                  </a:lnTo>
                  <a:lnTo>
                    <a:pt x="730" y="879"/>
                  </a:lnTo>
                  <a:lnTo>
                    <a:pt x="730" y="881"/>
                  </a:lnTo>
                  <a:lnTo>
                    <a:pt x="730" y="882"/>
                  </a:lnTo>
                  <a:lnTo>
                    <a:pt x="728" y="882"/>
                  </a:lnTo>
                  <a:lnTo>
                    <a:pt x="728" y="884"/>
                  </a:lnTo>
                  <a:lnTo>
                    <a:pt x="725" y="885"/>
                  </a:lnTo>
                  <a:lnTo>
                    <a:pt x="710" y="891"/>
                  </a:lnTo>
                  <a:lnTo>
                    <a:pt x="709" y="891"/>
                  </a:lnTo>
                  <a:lnTo>
                    <a:pt x="707" y="891"/>
                  </a:lnTo>
                  <a:lnTo>
                    <a:pt x="707" y="890"/>
                  </a:lnTo>
                  <a:lnTo>
                    <a:pt x="706" y="888"/>
                  </a:lnTo>
                  <a:lnTo>
                    <a:pt x="707" y="888"/>
                  </a:lnTo>
                  <a:lnTo>
                    <a:pt x="707" y="887"/>
                  </a:lnTo>
                  <a:lnTo>
                    <a:pt x="709" y="885"/>
                  </a:lnTo>
                  <a:lnTo>
                    <a:pt x="709" y="885"/>
                  </a:lnTo>
                  <a:close/>
                  <a:moveTo>
                    <a:pt x="747" y="866"/>
                  </a:moveTo>
                  <a:lnTo>
                    <a:pt x="763" y="856"/>
                  </a:lnTo>
                  <a:lnTo>
                    <a:pt x="763" y="855"/>
                  </a:lnTo>
                  <a:lnTo>
                    <a:pt x="765" y="856"/>
                  </a:lnTo>
                  <a:lnTo>
                    <a:pt x="766" y="856"/>
                  </a:lnTo>
                  <a:lnTo>
                    <a:pt x="766" y="858"/>
                  </a:lnTo>
                  <a:lnTo>
                    <a:pt x="768" y="858"/>
                  </a:lnTo>
                  <a:lnTo>
                    <a:pt x="768" y="860"/>
                  </a:lnTo>
                  <a:lnTo>
                    <a:pt x="766" y="861"/>
                  </a:lnTo>
                  <a:lnTo>
                    <a:pt x="766" y="861"/>
                  </a:lnTo>
                  <a:lnTo>
                    <a:pt x="750" y="872"/>
                  </a:lnTo>
                  <a:lnTo>
                    <a:pt x="748" y="872"/>
                  </a:lnTo>
                  <a:lnTo>
                    <a:pt x="747" y="872"/>
                  </a:lnTo>
                  <a:lnTo>
                    <a:pt x="747" y="870"/>
                  </a:lnTo>
                  <a:lnTo>
                    <a:pt x="745" y="870"/>
                  </a:lnTo>
                  <a:lnTo>
                    <a:pt x="745" y="869"/>
                  </a:lnTo>
                  <a:lnTo>
                    <a:pt x="745" y="867"/>
                  </a:lnTo>
                  <a:lnTo>
                    <a:pt x="745" y="867"/>
                  </a:lnTo>
                  <a:lnTo>
                    <a:pt x="747" y="866"/>
                  </a:lnTo>
                  <a:lnTo>
                    <a:pt x="747" y="866"/>
                  </a:lnTo>
                  <a:close/>
                  <a:moveTo>
                    <a:pt x="783" y="841"/>
                  </a:moveTo>
                  <a:lnTo>
                    <a:pt x="798" y="831"/>
                  </a:lnTo>
                  <a:lnTo>
                    <a:pt x="799" y="831"/>
                  </a:lnTo>
                  <a:lnTo>
                    <a:pt x="799" y="831"/>
                  </a:lnTo>
                  <a:lnTo>
                    <a:pt x="802" y="832"/>
                  </a:lnTo>
                  <a:lnTo>
                    <a:pt x="802" y="832"/>
                  </a:lnTo>
                  <a:lnTo>
                    <a:pt x="802" y="834"/>
                  </a:lnTo>
                  <a:lnTo>
                    <a:pt x="802" y="835"/>
                  </a:lnTo>
                  <a:lnTo>
                    <a:pt x="801" y="837"/>
                  </a:lnTo>
                  <a:lnTo>
                    <a:pt x="786" y="847"/>
                  </a:lnTo>
                  <a:lnTo>
                    <a:pt x="784" y="847"/>
                  </a:lnTo>
                  <a:lnTo>
                    <a:pt x="784" y="847"/>
                  </a:lnTo>
                  <a:lnTo>
                    <a:pt x="783" y="847"/>
                  </a:lnTo>
                  <a:lnTo>
                    <a:pt x="781" y="846"/>
                  </a:lnTo>
                  <a:lnTo>
                    <a:pt x="781" y="844"/>
                  </a:lnTo>
                  <a:lnTo>
                    <a:pt x="781" y="844"/>
                  </a:lnTo>
                  <a:lnTo>
                    <a:pt x="781" y="843"/>
                  </a:lnTo>
                  <a:lnTo>
                    <a:pt x="783" y="841"/>
                  </a:lnTo>
                  <a:lnTo>
                    <a:pt x="783" y="841"/>
                  </a:lnTo>
                  <a:close/>
                  <a:moveTo>
                    <a:pt x="816" y="816"/>
                  </a:moveTo>
                  <a:lnTo>
                    <a:pt x="829" y="804"/>
                  </a:lnTo>
                  <a:lnTo>
                    <a:pt x="832" y="802"/>
                  </a:lnTo>
                  <a:lnTo>
                    <a:pt x="834" y="802"/>
                  </a:lnTo>
                  <a:lnTo>
                    <a:pt x="835" y="804"/>
                  </a:lnTo>
                  <a:lnTo>
                    <a:pt x="835" y="805"/>
                  </a:lnTo>
                  <a:lnTo>
                    <a:pt x="835" y="807"/>
                  </a:lnTo>
                  <a:lnTo>
                    <a:pt x="835" y="807"/>
                  </a:lnTo>
                  <a:lnTo>
                    <a:pt x="834" y="808"/>
                  </a:lnTo>
                  <a:lnTo>
                    <a:pt x="820" y="820"/>
                  </a:lnTo>
                  <a:lnTo>
                    <a:pt x="819" y="820"/>
                  </a:lnTo>
                  <a:lnTo>
                    <a:pt x="817" y="820"/>
                  </a:lnTo>
                  <a:lnTo>
                    <a:pt x="817" y="820"/>
                  </a:lnTo>
                  <a:lnTo>
                    <a:pt x="816" y="820"/>
                  </a:lnTo>
                  <a:lnTo>
                    <a:pt x="816" y="819"/>
                  </a:lnTo>
                  <a:lnTo>
                    <a:pt x="816" y="817"/>
                  </a:lnTo>
                  <a:lnTo>
                    <a:pt x="816" y="817"/>
                  </a:lnTo>
                  <a:lnTo>
                    <a:pt x="816" y="816"/>
                  </a:lnTo>
                  <a:lnTo>
                    <a:pt x="816" y="816"/>
                  </a:lnTo>
                  <a:close/>
                  <a:moveTo>
                    <a:pt x="847" y="786"/>
                  </a:moveTo>
                  <a:lnTo>
                    <a:pt x="859" y="772"/>
                  </a:lnTo>
                  <a:lnTo>
                    <a:pt x="861" y="772"/>
                  </a:lnTo>
                  <a:lnTo>
                    <a:pt x="862" y="772"/>
                  </a:lnTo>
                  <a:lnTo>
                    <a:pt x="864" y="772"/>
                  </a:lnTo>
                  <a:lnTo>
                    <a:pt x="865" y="772"/>
                  </a:lnTo>
                  <a:lnTo>
                    <a:pt x="865" y="774"/>
                  </a:lnTo>
                  <a:lnTo>
                    <a:pt x="865" y="775"/>
                  </a:lnTo>
                  <a:lnTo>
                    <a:pt x="865" y="777"/>
                  </a:lnTo>
                  <a:lnTo>
                    <a:pt x="865" y="777"/>
                  </a:lnTo>
                  <a:lnTo>
                    <a:pt x="852" y="790"/>
                  </a:lnTo>
                  <a:lnTo>
                    <a:pt x="850" y="792"/>
                  </a:lnTo>
                  <a:lnTo>
                    <a:pt x="850" y="792"/>
                  </a:lnTo>
                  <a:lnTo>
                    <a:pt x="849" y="792"/>
                  </a:lnTo>
                  <a:lnTo>
                    <a:pt x="847" y="790"/>
                  </a:lnTo>
                  <a:lnTo>
                    <a:pt x="847" y="789"/>
                  </a:lnTo>
                  <a:lnTo>
                    <a:pt x="846" y="789"/>
                  </a:lnTo>
                  <a:lnTo>
                    <a:pt x="847" y="787"/>
                  </a:lnTo>
                  <a:lnTo>
                    <a:pt x="847" y="786"/>
                  </a:lnTo>
                  <a:lnTo>
                    <a:pt x="847" y="786"/>
                  </a:lnTo>
                  <a:close/>
                  <a:moveTo>
                    <a:pt x="876" y="754"/>
                  </a:moveTo>
                  <a:lnTo>
                    <a:pt x="886" y="739"/>
                  </a:lnTo>
                  <a:lnTo>
                    <a:pt x="888" y="739"/>
                  </a:lnTo>
                  <a:lnTo>
                    <a:pt x="889" y="738"/>
                  </a:lnTo>
                  <a:lnTo>
                    <a:pt x="891" y="739"/>
                  </a:lnTo>
                  <a:lnTo>
                    <a:pt x="892" y="739"/>
                  </a:lnTo>
                  <a:lnTo>
                    <a:pt x="892" y="741"/>
                  </a:lnTo>
                  <a:lnTo>
                    <a:pt x="892" y="741"/>
                  </a:lnTo>
                  <a:lnTo>
                    <a:pt x="892" y="742"/>
                  </a:lnTo>
                  <a:lnTo>
                    <a:pt x="892" y="744"/>
                  </a:lnTo>
                  <a:lnTo>
                    <a:pt x="880" y="759"/>
                  </a:lnTo>
                  <a:lnTo>
                    <a:pt x="880" y="759"/>
                  </a:lnTo>
                  <a:lnTo>
                    <a:pt x="879" y="759"/>
                  </a:lnTo>
                  <a:lnTo>
                    <a:pt x="877" y="759"/>
                  </a:lnTo>
                  <a:lnTo>
                    <a:pt x="876" y="759"/>
                  </a:lnTo>
                  <a:lnTo>
                    <a:pt x="876" y="757"/>
                  </a:lnTo>
                  <a:lnTo>
                    <a:pt x="876" y="756"/>
                  </a:lnTo>
                  <a:lnTo>
                    <a:pt x="876" y="756"/>
                  </a:lnTo>
                  <a:lnTo>
                    <a:pt x="876" y="754"/>
                  </a:lnTo>
                  <a:lnTo>
                    <a:pt x="876" y="754"/>
                  </a:lnTo>
                  <a:close/>
                  <a:moveTo>
                    <a:pt x="901" y="720"/>
                  </a:moveTo>
                  <a:lnTo>
                    <a:pt x="912" y="704"/>
                  </a:lnTo>
                  <a:lnTo>
                    <a:pt x="912" y="703"/>
                  </a:lnTo>
                  <a:lnTo>
                    <a:pt x="913" y="703"/>
                  </a:lnTo>
                  <a:lnTo>
                    <a:pt x="915" y="703"/>
                  </a:lnTo>
                  <a:lnTo>
                    <a:pt x="915" y="703"/>
                  </a:lnTo>
                  <a:lnTo>
                    <a:pt x="916" y="704"/>
                  </a:lnTo>
                  <a:lnTo>
                    <a:pt x="916" y="704"/>
                  </a:lnTo>
                  <a:lnTo>
                    <a:pt x="916" y="706"/>
                  </a:lnTo>
                  <a:lnTo>
                    <a:pt x="916" y="708"/>
                  </a:lnTo>
                  <a:lnTo>
                    <a:pt x="906" y="723"/>
                  </a:lnTo>
                  <a:lnTo>
                    <a:pt x="906" y="724"/>
                  </a:lnTo>
                  <a:lnTo>
                    <a:pt x="904" y="724"/>
                  </a:lnTo>
                  <a:lnTo>
                    <a:pt x="903" y="724"/>
                  </a:lnTo>
                  <a:lnTo>
                    <a:pt x="901" y="724"/>
                  </a:lnTo>
                  <a:lnTo>
                    <a:pt x="901" y="723"/>
                  </a:lnTo>
                  <a:lnTo>
                    <a:pt x="901" y="723"/>
                  </a:lnTo>
                  <a:lnTo>
                    <a:pt x="901" y="721"/>
                  </a:lnTo>
                  <a:lnTo>
                    <a:pt x="901" y="720"/>
                  </a:lnTo>
                  <a:lnTo>
                    <a:pt x="901" y="720"/>
                  </a:lnTo>
                  <a:close/>
                  <a:moveTo>
                    <a:pt x="924" y="683"/>
                  </a:moveTo>
                  <a:lnTo>
                    <a:pt x="931" y="667"/>
                  </a:lnTo>
                  <a:lnTo>
                    <a:pt x="933" y="665"/>
                  </a:lnTo>
                  <a:lnTo>
                    <a:pt x="933" y="665"/>
                  </a:lnTo>
                  <a:lnTo>
                    <a:pt x="934" y="664"/>
                  </a:lnTo>
                  <a:lnTo>
                    <a:pt x="936" y="665"/>
                  </a:lnTo>
                  <a:lnTo>
                    <a:pt x="937" y="665"/>
                  </a:lnTo>
                  <a:lnTo>
                    <a:pt x="937" y="667"/>
                  </a:lnTo>
                  <a:lnTo>
                    <a:pt x="937" y="668"/>
                  </a:lnTo>
                  <a:lnTo>
                    <a:pt x="937" y="668"/>
                  </a:lnTo>
                  <a:lnTo>
                    <a:pt x="928" y="686"/>
                  </a:lnTo>
                  <a:lnTo>
                    <a:pt x="928" y="686"/>
                  </a:lnTo>
                  <a:lnTo>
                    <a:pt x="927" y="686"/>
                  </a:lnTo>
                  <a:lnTo>
                    <a:pt x="925" y="688"/>
                  </a:lnTo>
                  <a:lnTo>
                    <a:pt x="925" y="686"/>
                  </a:lnTo>
                  <a:lnTo>
                    <a:pt x="924" y="685"/>
                  </a:lnTo>
                  <a:lnTo>
                    <a:pt x="924" y="685"/>
                  </a:lnTo>
                  <a:lnTo>
                    <a:pt x="924" y="683"/>
                  </a:lnTo>
                  <a:lnTo>
                    <a:pt x="924" y="683"/>
                  </a:lnTo>
                  <a:close/>
                  <a:moveTo>
                    <a:pt x="942" y="644"/>
                  </a:moveTo>
                  <a:lnTo>
                    <a:pt x="949" y="626"/>
                  </a:lnTo>
                  <a:lnTo>
                    <a:pt x="949" y="626"/>
                  </a:lnTo>
                  <a:lnTo>
                    <a:pt x="951" y="625"/>
                  </a:lnTo>
                  <a:lnTo>
                    <a:pt x="952" y="625"/>
                  </a:lnTo>
                  <a:lnTo>
                    <a:pt x="952" y="625"/>
                  </a:lnTo>
                  <a:lnTo>
                    <a:pt x="954" y="626"/>
                  </a:lnTo>
                  <a:lnTo>
                    <a:pt x="954" y="626"/>
                  </a:lnTo>
                  <a:lnTo>
                    <a:pt x="955" y="628"/>
                  </a:lnTo>
                  <a:lnTo>
                    <a:pt x="954" y="629"/>
                  </a:lnTo>
                  <a:lnTo>
                    <a:pt x="948" y="646"/>
                  </a:lnTo>
                  <a:lnTo>
                    <a:pt x="946" y="647"/>
                  </a:lnTo>
                  <a:lnTo>
                    <a:pt x="945" y="649"/>
                  </a:lnTo>
                  <a:lnTo>
                    <a:pt x="943" y="649"/>
                  </a:lnTo>
                  <a:lnTo>
                    <a:pt x="943" y="647"/>
                  </a:lnTo>
                  <a:lnTo>
                    <a:pt x="942" y="646"/>
                  </a:lnTo>
                  <a:lnTo>
                    <a:pt x="942" y="646"/>
                  </a:lnTo>
                  <a:lnTo>
                    <a:pt x="942" y="644"/>
                  </a:lnTo>
                  <a:lnTo>
                    <a:pt x="942" y="644"/>
                  </a:lnTo>
                  <a:close/>
                  <a:moveTo>
                    <a:pt x="957" y="604"/>
                  </a:moveTo>
                  <a:lnTo>
                    <a:pt x="961" y="586"/>
                  </a:lnTo>
                  <a:lnTo>
                    <a:pt x="963" y="586"/>
                  </a:lnTo>
                  <a:lnTo>
                    <a:pt x="963" y="584"/>
                  </a:lnTo>
                  <a:lnTo>
                    <a:pt x="964" y="584"/>
                  </a:lnTo>
                  <a:lnTo>
                    <a:pt x="966" y="584"/>
                  </a:lnTo>
                  <a:lnTo>
                    <a:pt x="967" y="586"/>
                  </a:lnTo>
                  <a:lnTo>
                    <a:pt x="967" y="587"/>
                  </a:lnTo>
                  <a:lnTo>
                    <a:pt x="967" y="587"/>
                  </a:lnTo>
                  <a:lnTo>
                    <a:pt x="963" y="605"/>
                  </a:lnTo>
                  <a:lnTo>
                    <a:pt x="963" y="607"/>
                  </a:lnTo>
                  <a:lnTo>
                    <a:pt x="961" y="607"/>
                  </a:lnTo>
                  <a:lnTo>
                    <a:pt x="960" y="608"/>
                  </a:lnTo>
                  <a:lnTo>
                    <a:pt x="960" y="608"/>
                  </a:lnTo>
                  <a:lnTo>
                    <a:pt x="958" y="607"/>
                  </a:lnTo>
                  <a:lnTo>
                    <a:pt x="957" y="607"/>
                  </a:lnTo>
                  <a:lnTo>
                    <a:pt x="957" y="605"/>
                  </a:lnTo>
                  <a:lnTo>
                    <a:pt x="957" y="604"/>
                  </a:lnTo>
                  <a:lnTo>
                    <a:pt x="957" y="604"/>
                  </a:lnTo>
                  <a:close/>
                  <a:moveTo>
                    <a:pt x="967" y="563"/>
                  </a:moveTo>
                  <a:lnTo>
                    <a:pt x="970" y="545"/>
                  </a:lnTo>
                  <a:lnTo>
                    <a:pt x="972" y="543"/>
                  </a:lnTo>
                  <a:lnTo>
                    <a:pt x="972" y="542"/>
                  </a:lnTo>
                  <a:lnTo>
                    <a:pt x="973" y="542"/>
                  </a:lnTo>
                  <a:lnTo>
                    <a:pt x="975" y="542"/>
                  </a:lnTo>
                  <a:lnTo>
                    <a:pt x="975" y="542"/>
                  </a:lnTo>
                  <a:lnTo>
                    <a:pt x="976" y="543"/>
                  </a:lnTo>
                  <a:lnTo>
                    <a:pt x="976" y="543"/>
                  </a:lnTo>
                  <a:lnTo>
                    <a:pt x="976" y="545"/>
                  </a:lnTo>
                  <a:lnTo>
                    <a:pt x="973" y="563"/>
                  </a:lnTo>
                  <a:lnTo>
                    <a:pt x="973" y="565"/>
                  </a:lnTo>
                  <a:lnTo>
                    <a:pt x="973" y="566"/>
                  </a:lnTo>
                  <a:lnTo>
                    <a:pt x="972" y="566"/>
                  </a:lnTo>
                  <a:lnTo>
                    <a:pt x="970" y="566"/>
                  </a:lnTo>
                  <a:lnTo>
                    <a:pt x="969" y="566"/>
                  </a:lnTo>
                  <a:lnTo>
                    <a:pt x="969" y="565"/>
                  </a:lnTo>
                  <a:lnTo>
                    <a:pt x="967" y="563"/>
                  </a:lnTo>
                  <a:lnTo>
                    <a:pt x="967" y="563"/>
                  </a:lnTo>
                  <a:lnTo>
                    <a:pt x="967" y="563"/>
                  </a:lnTo>
                  <a:close/>
                  <a:moveTo>
                    <a:pt x="975" y="519"/>
                  </a:moveTo>
                  <a:lnTo>
                    <a:pt x="975" y="518"/>
                  </a:lnTo>
                  <a:lnTo>
                    <a:pt x="976" y="501"/>
                  </a:lnTo>
                  <a:lnTo>
                    <a:pt x="976" y="500"/>
                  </a:lnTo>
                  <a:lnTo>
                    <a:pt x="976" y="500"/>
                  </a:lnTo>
                  <a:lnTo>
                    <a:pt x="978" y="498"/>
                  </a:lnTo>
                  <a:lnTo>
                    <a:pt x="979" y="498"/>
                  </a:lnTo>
                  <a:lnTo>
                    <a:pt x="981" y="498"/>
                  </a:lnTo>
                  <a:lnTo>
                    <a:pt x="981" y="500"/>
                  </a:lnTo>
                  <a:lnTo>
                    <a:pt x="982" y="500"/>
                  </a:lnTo>
                  <a:lnTo>
                    <a:pt x="982" y="501"/>
                  </a:lnTo>
                  <a:lnTo>
                    <a:pt x="981" y="519"/>
                  </a:lnTo>
                  <a:lnTo>
                    <a:pt x="981" y="521"/>
                  </a:lnTo>
                  <a:lnTo>
                    <a:pt x="981" y="522"/>
                  </a:lnTo>
                  <a:lnTo>
                    <a:pt x="979" y="522"/>
                  </a:lnTo>
                  <a:lnTo>
                    <a:pt x="978" y="522"/>
                  </a:lnTo>
                  <a:lnTo>
                    <a:pt x="976" y="522"/>
                  </a:lnTo>
                  <a:lnTo>
                    <a:pt x="976" y="522"/>
                  </a:lnTo>
                  <a:lnTo>
                    <a:pt x="975" y="522"/>
                  </a:lnTo>
                  <a:lnTo>
                    <a:pt x="975" y="521"/>
                  </a:lnTo>
                  <a:lnTo>
                    <a:pt x="975" y="519"/>
                  </a:lnTo>
                  <a:lnTo>
                    <a:pt x="975" y="519"/>
                  </a:lnTo>
                  <a:close/>
                  <a:moveTo>
                    <a:pt x="978" y="477"/>
                  </a:moveTo>
                  <a:lnTo>
                    <a:pt x="978" y="470"/>
                  </a:lnTo>
                  <a:lnTo>
                    <a:pt x="976" y="458"/>
                  </a:lnTo>
                  <a:lnTo>
                    <a:pt x="978" y="458"/>
                  </a:lnTo>
                  <a:lnTo>
                    <a:pt x="978" y="456"/>
                  </a:lnTo>
                  <a:lnTo>
                    <a:pt x="979" y="456"/>
                  </a:lnTo>
                  <a:lnTo>
                    <a:pt x="979" y="455"/>
                  </a:lnTo>
                  <a:lnTo>
                    <a:pt x="981" y="456"/>
                  </a:lnTo>
                  <a:lnTo>
                    <a:pt x="982" y="456"/>
                  </a:lnTo>
                  <a:lnTo>
                    <a:pt x="984" y="458"/>
                  </a:lnTo>
                  <a:lnTo>
                    <a:pt x="984" y="470"/>
                  </a:lnTo>
                  <a:lnTo>
                    <a:pt x="984" y="477"/>
                  </a:lnTo>
                  <a:lnTo>
                    <a:pt x="982" y="479"/>
                  </a:lnTo>
                  <a:lnTo>
                    <a:pt x="982" y="479"/>
                  </a:lnTo>
                  <a:lnTo>
                    <a:pt x="981" y="480"/>
                  </a:lnTo>
                  <a:lnTo>
                    <a:pt x="981" y="480"/>
                  </a:lnTo>
                  <a:lnTo>
                    <a:pt x="979" y="480"/>
                  </a:lnTo>
                  <a:lnTo>
                    <a:pt x="978" y="479"/>
                  </a:lnTo>
                  <a:lnTo>
                    <a:pt x="978" y="477"/>
                  </a:lnTo>
                  <a:lnTo>
                    <a:pt x="978" y="477"/>
                  </a:lnTo>
                  <a:lnTo>
                    <a:pt x="978" y="477"/>
                  </a:lnTo>
                  <a:close/>
                  <a:moveTo>
                    <a:pt x="975" y="434"/>
                  </a:moveTo>
                  <a:lnTo>
                    <a:pt x="975" y="423"/>
                  </a:lnTo>
                  <a:lnTo>
                    <a:pt x="973" y="416"/>
                  </a:lnTo>
                  <a:lnTo>
                    <a:pt x="973" y="414"/>
                  </a:lnTo>
                  <a:lnTo>
                    <a:pt x="975" y="414"/>
                  </a:lnTo>
                  <a:lnTo>
                    <a:pt x="975" y="413"/>
                  </a:lnTo>
                  <a:lnTo>
                    <a:pt x="976" y="413"/>
                  </a:lnTo>
                  <a:lnTo>
                    <a:pt x="978" y="413"/>
                  </a:lnTo>
                  <a:lnTo>
                    <a:pt x="979" y="413"/>
                  </a:lnTo>
                  <a:lnTo>
                    <a:pt x="979" y="414"/>
                  </a:lnTo>
                  <a:lnTo>
                    <a:pt x="979" y="414"/>
                  </a:lnTo>
                  <a:lnTo>
                    <a:pt x="981" y="423"/>
                  </a:lnTo>
                  <a:lnTo>
                    <a:pt x="982" y="434"/>
                  </a:lnTo>
                  <a:lnTo>
                    <a:pt x="981" y="435"/>
                  </a:lnTo>
                  <a:lnTo>
                    <a:pt x="981" y="435"/>
                  </a:lnTo>
                  <a:lnTo>
                    <a:pt x="979" y="437"/>
                  </a:lnTo>
                  <a:lnTo>
                    <a:pt x="979" y="437"/>
                  </a:lnTo>
                  <a:lnTo>
                    <a:pt x="978" y="437"/>
                  </a:lnTo>
                  <a:lnTo>
                    <a:pt x="976" y="437"/>
                  </a:lnTo>
                  <a:lnTo>
                    <a:pt x="976" y="435"/>
                  </a:lnTo>
                  <a:lnTo>
                    <a:pt x="975" y="434"/>
                  </a:lnTo>
                  <a:lnTo>
                    <a:pt x="975" y="434"/>
                  </a:lnTo>
                  <a:close/>
                  <a:moveTo>
                    <a:pt x="970" y="391"/>
                  </a:moveTo>
                  <a:lnTo>
                    <a:pt x="967" y="376"/>
                  </a:lnTo>
                  <a:lnTo>
                    <a:pt x="967" y="373"/>
                  </a:lnTo>
                  <a:lnTo>
                    <a:pt x="967" y="372"/>
                  </a:lnTo>
                  <a:lnTo>
                    <a:pt x="967" y="370"/>
                  </a:lnTo>
                  <a:lnTo>
                    <a:pt x="967" y="370"/>
                  </a:lnTo>
                  <a:lnTo>
                    <a:pt x="969" y="369"/>
                  </a:lnTo>
                  <a:lnTo>
                    <a:pt x="970" y="369"/>
                  </a:lnTo>
                  <a:lnTo>
                    <a:pt x="972" y="370"/>
                  </a:lnTo>
                  <a:lnTo>
                    <a:pt x="973" y="372"/>
                  </a:lnTo>
                  <a:lnTo>
                    <a:pt x="973" y="375"/>
                  </a:lnTo>
                  <a:lnTo>
                    <a:pt x="976" y="390"/>
                  </a:lnTo>
                  <a:lnTo>
                    <a:pt x="976" y="391"/>
                  </a:lnTo>
                  <a:lnTo>
                    <a:pt x="975" y="393"/>
                  </a:lnTo>
                  <a:lnTo>
                    <a:pt x="975" y="393"/>
                  </a:lnTo>
                  <a:lnTo>
                    <a:pt x="973" y="394"/>
                  </a:lnTo>
                  <a:lnTo>
                    <a:pt x="972" y="394"/>
                  </a:lnTo>
                  <a:lnTo>
                    <a:pt x="972" y="393"/>
                  </a:lnTo>
                  <a:lnTo>
                    <a:pt x="970" y="393"/>
                  </a:lnTo>
                  <a:lnTo>
                    <a:pt x="970" y="391"/>
                  </a:lnTo>
                  <a:lnTo>
                    <a:pt x="970" y="391"/>
                  </a:lnTo>
                  <a:close/>
                  <a:moveTo>
                    <a:pt x="960" y="349"/>
                  </a:moveTo>
                  <a:lnTo>
                    <a:pt x="955" y="333"/>
                  </a:lnTo>
                  <a:lnTo>
                    <a:pt x="955" y="331"/>
                  </a:lnTo>
                  <a:lnTo>
                    <a:pt x="955" y="331"/>
                  </a:lnTo>
                  <a:lnTo>
                    <a:pt x="955" y="330"/>
                  </a:lnTo>
                  <a:lnTo>
                    <a:pt x="957" y="328"/>
                  </a:lnTo>
                  <a:lnTo>
                    <a:pt x="957" y="328"/>
                  </a:lnTo>
                  <a:lnTo>
                    <a:pt x="958" y="328"/>
                  </a:lnTo>
                  <a:lnTo>
                    <a:pt x="960" y="328"/>
                  </a:lnTo>
                  <a:lnTo>
                    <a:pt x="961" y="328"/>
                  </a:lnTo>
                  <a:lnTo>
                    <a:pt x="961" y="330"/>
                  </a:lnTo>
                  <a:lnTo>
                    <a:pt x="961" y="330"/>
                  </a:lnTo>
                  <a:lnTo>
                    <a:pt x="966" y="348"/>
                  </a:lnTo>
                  <a:lnTo>
                    <a:pt x="966" y="349"/>
                  </a:lnTo>
                  <a:lnTo>
                    <a:pt x="966" y="351"/>
                  </a:lnTo>
                  <a:lnTo>
                    <a:pt x="966" y="351"/>
                  </a:lnTo>
                  <a:lnTo>
                    <a:pt x="964" y="352"/>
                  </a:lnTo>
                  <a:lnTo>
                    <a:pt x="963" y="352"/>
                  </a:lnTo>
                  <a:lnTo>
                    <a:pt x="961" y="351"/>
                  </a:lnTo>
                  <a:lnTo>
                    <a:pt x="961" y="351"/>
                  </a:lnTo>
                  <a:lnTo>
                    <a:pt x="960" y="349"/>
                  </a:lnTo>
                  <a:lnTo>
                    <a:pt x="960" y="349"/>
                  </a:lnTo>
                  <a:close/>
                  <a:moveTo>
                    <a:pt x="946" y="309"/>
                  </a:moveTo>
                  <a:lnTo>
                    <a:pt x="940" y="291"/>
                  </a:lnTo>
                  <a:lnTo>
                    <a:pt x="940" y="291"/>
                  </a:lnTo>
                  <a:lnTo>
                    <a:pt x="940" y="289"/>
                  </a:lnTo>
                  <a:lnTo>
                    <a:pt x="940" y="288"/>
                  </a:lnTo>
                  <a:lnTo>
                    <a:pt x="942" y="288"/>
                  </a:lnTo>
                  <a:lnTo>
                    <a:pt x="943" y="288"/>
                  </a:lnTo>
                  <a:lnTo>
                    <a:pt x="945" y="288"/>
                  </a:lnTo>
                  <a:lnTo>
                    <a:pt x="945" y="288"/>
                  </a:lnTo>
                  <a:lnTo>
                    <a:pt x="946" y="289"/>
                  </a:lnTo>
                  <a:lnTo>
                    <a:pt x="952" y="307"/>
                  </a:lnTo>
                  <a:lnTo>
                    <a:pt x="952" y="307"/>
                  </a:lnTo>
                  <a:lnTo>
                    <a:pt x="952" y="309"/>
                  </a:lnTo>
                  <a:lnTo>
                    <a:pt x="952" y="310"/>
                  </a:lnTo>
                  <a:lnTo>
                    <a:pt x="951" y="310"/>
                  </a:lnTo>
                  <a:lnTo>
                    <a:pt x="949" y="310"/>
                  </a:lnTo>
                  <a:lnTo>
                    <a:pt x="948" y="310"/>
                  </a:lnTo>
                  <a:lnTo>
                    <a:pt x="946" y="309"/>
                  </a:lnTo>
                  <a:lnTo>
                    <a:pt x="946" y="309"/>
                  </a:lnTo>
                  <a:close/>
                  <a:moveTo>
                    <a:pt x="930" y="270"/>
                  </a:moveTo>
                  <a:lnTo>
                    <a:pt x="921" y="253"/>
                  </a:lnTo>
                  <a:lnTo>
                    <a:pt x="921" y="252"/>
                  </a:lnTo>
                  <a:lnTo>
                    <a:pt x="921" y="250"/>
                  </a:lnTo>
                  <a:lnTo>
                    <a:pt x="921" y="250"/>
                  </a:lnTo>
                  <a:lnTo>
                    <a:pt x="922" y="248"/>
                  </a:lnTo>
                  <a:lnTo>
                    <a:pt x="924" y="248"/>
                  </a:lnTo>
                  <a:lnTo>
                    <a:pt x="925" y="248"/>
                  </a:lnTo>
                  <a:lnTo>
                    <a:pt x="925" y="248"/>
                  </a:lnTo>
                  <a:lnTo>
                    <a:pt x="927" y="250"/>
                  </a:lnTo>
                  <a:lnTo>
                    <a:pt x="934" y="267"/>
                  </a:lnTo>
                  <a:lnTo>
                    <a:pt x="936" y="268"/>
                  </a:lnTo>
                  <a:lnTo>
                    <a:pt x="934" y="270"/>
                  </a:lnTo>
                  <a:lnTo>
                    <a:pt x="934" y="270"/>
                  </a:lnTo>
                  <a:lnTo>
                    <a:pt x="933" y="271"/>
                  </a:lnTo>
                  <a:lnTo>
                    <a:pt x="933" y="271"/>
                  </a:lnTo>
                  <a:lnTo>
                    <a:pt x="931" y="271"/>
                  </a:lnTo>
                  <a:lnTo>
                    <a:pt x="930" y="271"/>
                  </a:lnTo>
                  <a:lnTo>
                    <a:pt x="930" y="270"/>
                  </a:lnTo>
                  <a:lnTo>
                    <a:pt x="930" y="270"/>
                  </a:lnTo>
                  <a:close/>
                  <a:moveTo>
                    <a:pt x="909" y="232"/>
                  </a:moveTo>
                  <a:lnTo>
                    <a:pt x="898" y="217"/>
                  </a:lnTo>
                  <a:lnTo>
                    <a:pt x="898" y="215"/>
                  </a:lnTo>
                  <a:lnTo>
                    <a:pt x="898" y="214"/>
                  </a:lnTo>
                  <a:lnTo>
                    <a:pt x="898" y="212"/>
                  </a:lnTo>
                  <a:lnTo>
                    <a:pt x="900" y="212"/>
                  </a:lnTo>
                  <a:lnTo>
                    <a:pt x="900" y="212"/>
                  </a:lnTo>
                  <a:lnTo>
                    <a:pt x="901" y="212"/>
                  </a:lnTo>
                  <a:lnTo>
                    <a:pt x="903" y="212"/>
                  </a:lnTo>
                  <a:lnTo>
                    <a:pt x="903" y="214"/>
                  </a:lnTo>
                  <a:lnTo>
                    <a:pt x="913" y="229"/>
                  </a:lnTo>
                  <a:lnTo>
                    <a:pt x="913" y="230"/>
                  </a:lnTo>
                  <a:lnTo>
                    <a:pt x="913" y="230"/>
                  </a:lnTo>
                  <a:lnTo>
                    <a:pt x="913" y="232"/>
                  </a:lnTo>
                  <a:lnTo>
                    <a:pt x="913" y="233"/>
                  </a:lnTo>
                  <a:lnTo>
                    <a:pt x="912" y="233"/>
                  </a:lnTo>
                  <a:lnTo>
                    <a:pt x="910" y="233"/>
                  </a:lnTo>
                  <a:lnTo>
                    <a:pt x="909" y="233"/>
                  </a:lnTo>
                  <a:lnTo>
                    <a:pt x="909" y="232"/>
                  </a:lnTo>
                  <a:lnTo>
                    <a:pt x="909" y="232"/>
                  </a:lnTo>
                  <a:close/>
                  <a:moveTo>
                    <a:pt x="883" y="197"/>
                  </a:moveTo>
                  <a:lnTo>
                    <a:pt x="873" y="182"/>
                  </a:lnTo>
                  <a:lnTo>
                    <a:pt x="871" y="181"/>
                  </a:lnTo>
                  <a:lnTo>
                    <a:pt x="871" y="179"/>
                  </a:lnTo>
                  <a:lnTo>
                    <a:pt x="873" y="179"/>
                  </a:lnTo>
                  <a:lnTo>
                    <a:pt x="873" y="178"/>
                  </a:lnTo>
                  <a:lnTo>
                    <a:pt x="874" y="178"/>
                  </a:lnTo>
                  <a:lnTo>
                    <a:pt x="876" y="178"/>
                  </a:lnTo>
                  <a:lnTo>
                    <a:pt x="876" y="178"/>
                  </a:lnTo>
                  <a:lnTo>
                    <a:pt x="877" y="178"/>
                  </a:lnTo>
                  <a:lnTo>
                    <a:pt x="889" y="193"/>
                  </a:lnTo>
                  <a:lnTo>
                    <a:pt x="889" y="194"/>
                  </a:lnTo>
                  <a:lnTo>
                    <a:pt x="889" y="196"/>
                  </a:lnTo>
                  <a:lnTo>
                    <a:pt x="889" y="196"/>
                  </a:lnTo>
                  <a:lnTo>
                    <a:pt x="888" y="197"/>
                  </a:lnTo>
                  <a:lnTo>
                    <a:pt x="888" y="197"/>
                  </a:lnTo>
                  <a:lnTo>
                    <a:pt x="886" y="199"/>
                  </a:lnTo>
                  <a:lnTo>
                    <a:pt x="885" y="197"/>
                  </a:lnTo>
                  <a:lnTo>
                    <a:pt x="883" y="197"/>
                  </a:lnTo>
                  <a:lnTo>
                    <a:pt x="883" y="197"/>
                  </a:lnTo>
                  <a:close/>
                  <a:moveTo>
                    <a:pt x="856" y="164"/>
                  </a:moveTo>
                  <a:lnTo>
                    <a:pt x="843" y="151"/>
                  </a:lnTo>
                  <a:lnTo>
                    <a:pt x="843" y="149"/>
                  </a:lnTo>
                  <a:lnTo>
                    <a:pt x="843" y="149"/>
                  </a:lnTo>
                  <a:lnTo>
                    <a:pt x="843" y="148"/>
                  </a:lnTo>
                  <a:lnTo>
                    <a:pt x="844" y="146"/>
                  </a:lnTo>
                  <a:lnTo>
                    <a:pt x="844" y="145"/>
                  </a:lnTo>
                  <a:lnTo>
                    <a:pt x="846" y="145"/>
                  </a:lnTo>
                  <a:lnTo>
                    <a:pt x="847" y="146"/>
                  </a:lnTo>
                  <a:lnTo>
                    <a:pt x="849" y="146"/>
                  </a:lnTo>
                  <a:lnTo>
                    <a:pt x="861" y="160"/>
                  </a:lnTo>
                  <a:lnTo>
                    <a:pt x="861" y="161"/>
                  </a:lnTo>
                  <a:lnTo>
                    <a:pt x="862" y="163"/>
                  </a:lnTo>
                  <a:lnTo>
                    <a:pt x="861" y="163"/>
                  </a:lnTo>
                  <a:lnTo>
                    <a:pt x="861" y="164"/>
                  </a:lnTo>
                  <a:lnTo>
                    <a:pt x="859" y="164"/>
                  </a:lnTo>
                  <a:lnTo>
                    <a:pt x="859" y="166"/>
                  </a:lnTo>
                  <a:lnTo>
                    <a:pt x="858" y="164"/>
                  </a:lnTo>
                  <a:lnTo>
                    <a:pt x="856" y="164"/>
                  </a:lnTo>
                  <a:lnTo>
                    <a:pt x="856" y="164"/>
                  </a:lnTo>
                  <a:close/>
                  <a:moveTo>
                    <a:pt x="826" y="134"/>
                  </a:moveTo>
                  <a:lnTo>
                    <a:pt x="811" y="122"/>
                  </a:lnTo>
                  <a:lnTo>
                    <a:pt x="811" y="121"/>
                  </a:lnTo>
                  <a:lnTo>
                    <a:pt x="811" y="119"/>
                  </a:lnTo>
                  <a:lnTo>
                    <a:pt x="811" y="118"/>
                  </a:lnTo>
                  <a:lnTo>
                    <a:pt x="811" y="118"/>
                  </a:lnTo>
                  <a:lnTo>
                    <a:pt x="813" y="116"/>
                  </a:lnTo>
                  <a:lnTo>
                    <a:pt x="814" y="116"/>
                  </a:lnTo>
                  <a:lnTo>
                    <a:pt x="816" y="116"/>
                  </a:lnTo>
                  <a:lnTo>
                    <a:pt x="816" y="118"/>
                  </a:lnTo>
                  <a:lnTo>
                    <a:pt x="829" y="130"/>
                  </a:lnTo>
                  <a:lnTo>
                    <a:pt x="831" y="130"/>
                  </a:lnTo>
                  <a:lnTo>
                    <a:pt x="831" y="131"/>
                  </a:lnTo>
                  <a:lnTo>
                    <a:pt x="831" y="133"/>
                  </a:lnTo>
                  <a:lnTo>
                    <a:pt x="831" y="133"/>
                  </a:lnTo>
                  <a:lnTo>
                    <a:pt x="829" y="134"/>
                  </a:lnTo>
                  <a:lnTo>
                    <a:pt x="828" y="134"/>
                  </a:lnTo>
                  <a:lnTo>
                    <a:pt x="828" y="134"/>
                  </a:lnTo>
                  <a:lnTo>
                    <a:pt x="826" y="134"/>
                  </a:lnTo>
                  <a:lnTo>
                    <a:pt x="826" y="134"/>
                  </a:lnTo>
                  <a:close/>
                  <a:moveTo>
                    <a:pt x="793" y="106"/>
                  </a:moveTo>
                  <a:lnTo>
                    <a:pt x="778" y="95"/>
                  </a:lnTo>
                  <a:lnTo>
                    <a:pt x="777" y="95"/>
                  </a:lnTo>
                  <a:lnTo>
                    <a:pt x="777" y="93"/>
                  </a:lnTo>
                  <a:lnTo>
                    <a:pt x="777" y="92"/>
                  </a:lnTo>
                  <a:lnTo>
                    <a:pt x="777" y="90"/>
                  </a:lnTo>
                  <a:lnTo>
                    <a:pt x="780" y="90"/>
                  </a:lnTo>
                  <a:lnTo>
                    <a:pt x="780" y="90"/>
                  </a:lnTo>
                  <a:lnTo>
                    <a:pt x="781" y="90"/>
                  </a:lnTo>
                  <a:lnTo>
                    <a:pt x="796" y="101"/>
                  </a:lnTo>
                  <a:lnTo>
                    <a:pt x="798" y="103"/>
                  </a:lnTo>
                  <a:lnTo>
                    <a:pt x="798" y="103"/>
                  </a:lnTo>
                  <a:lnTo>
                    <a:pt x="798" y="104"/>
                  </a:lnTo>
                  <a:lnTo>
                    <a:pt x="798" y="106"/>
                  </a:lnTo>
                  <a:lnTo>
                    <a:pt x="796" y="107"/>
                  </a:lnTo>
                  <a:lnTo>
                    <a:pt x="795" y="107"/>
                  </a:lnTo>
                  <a:lnTo>
                    <a:pt x="795" y="107"/>
                  </a:lnTo>
                  <a:lnTo>
                    <a:pt x="793" y="106"/>
                  </a:lnTo>
                  <a:lnTo>
                    <a:pt x="793" y="106"/>
                  </a:lnTo>
                  <a:close/>
                  <a:moveTo>
                    <a:pt x="759" y="81"/>
                  </a:moveTo>
                  <a:lnTo>
                    <a:pt x="742" y="72"/>
                  </a:lnTo>
                  <a:lnTo>
                    <a:pt x="741" y="72"/>
                  </a:lnTo>
                  <a:lnTo>
                    <a:pt x="741" y="71"/>
                  </a:lnTo>
                  <a:lnTo>
                    <a:pt x="741" y="69"/>
                  </a:lnTo>
                  <a:lnTo>
                    <a:pt x="741" y="68"/>
                  </a:lnTo>
                  <a:lnTo>
                    <a:pt x="741" y="68"/>
                  </a:lnTo>
                  <a:lnTo>
                    <a:pt x="742" y="66"/>
                  </a:lnTo>
                  <a:lnTo>
                    <a:pt x="744" y="66"/>
                  </a:lnTo>
                  <a:lnTo>
                    <a:pt x="745" y="66"/>
                  </a:lnTo>
                  <a:lnTo>
                    <a:pt x="762" y="77"/>
                  </a:lnTo>
                  <a:lnTo>
                    <a:pt x="762" y="77"/>
                  </a:lnTo>
                  <a:lnTo>
                    <a:pt x="762" y="78"/>
                  </a:lnTo>
                  <a:lnTo>
                    <a:pt x="762" y="80"/>
                  </a:lnTo>
                  <a:lnTo>
                    <a:pt x="762" y="80"/>
                  </a:lnTo>
                  <a:lnTo>
                    <a:pt x="762" y="81"/>
                  </a:lnTo>
                  <a:lnTo>
                    <a:pt x="760" y="81"/>
                  </a:lnTo>
                  <a:lnTo>
                    <a:pt x="759" y="81"/>
                  </a:lnTo>
                  <a:lnTo>
                    <a:pt x="759" y="81"/>
                  </a:lnTo>
                  <a:lnTo>
                    <a:pt x="759" y="81"/>
                  </a:lnTo>
                  <a:close/>
                  <a:moveTo>
                    <a:pt x="721" y="60"/>
                  </a:moveTo>
                  <a:lnTo>
                    <a:pt x="703" y="53"/>
                  </a:lnTo>
                  <a:lnTo>
                    <a:pt x="703" y="51"/>
                  </a:lnTo>
                  <a:lnTo>
                    <a:pt x="701" y="51"/>
                  </a:lnTo>
                  <a:lnTo>
                    <a:pt x="701" y="48"/>
                  </a:lnTo>
                  <a:lnTo>
                    <a:pt x="703" y="48"/>
                  </a:lnTo>
                  <a:lnTo>
                    <a:pt x="704" y="47"/>
                  </a:lnTo>
                  <a:lnTo>
                    <a:pt x="706" y="47"/>
                  </a:lnTo>
                  <a:lnTo>
                    <a:pt x="722" y="54"/>
                  </a:lnTo>
                  <a:lnTo>
                    <a:pt x="724" y="56"/>
                  </a:lnTo>
                  <a:lnTo>
                    <a:pt x="724" y="56"/>
                  </a:lnTo>
                  <a:lnTo>
                    <a:pt x="724" y="59"/>
                  </a:lnTo>
                  <a:lnTo>
                    <a:pt x="724" y="60"/>
                  </a:lnTo>
                  <a:lnTo>
                    <a:pt x="722" y="60"/>
                  </a:lnTo>
                  <a:lnTo>
                    <a:pt x="721" y="60"/>
                  </a:lnTo>
                  <a:lnTo>
                    <a:pt x="721" y="60"/>
                  </a:lnTo>
                  <a:lnTo>
                    <a:pt x="721" y="60"/>
                  </a:lnTo>
                  <a:close/>
                  <a:moveTo>
                    <a:pt x="680" y="42"/>
                  </a:moveTo>
                  <a:lnTo>
                    <a:pt x="680" y="42"/>
                  </a:lnTo>
                  <a:lnTo>
                    <a:pt x="664" y="36"/>
                  </a:lnTo>
                  <a:lnTo>
                    <a:pt x="662" y="36"/>
                  </a:lnTo>
                  <a:lnTo>
                    <a:pt x="662" y="35"/>
                  </a:lnTo>
                  <a:lnTo>
                    <a:pt x="662" y="33"/>
                  </a:lnTo>
                  <a:lnTo>
                    <a:pt x="662" y="32"/>
                  </a:lnTo>
                  <a:lnTo>
                    <a:pt x="662" y="32"/>
                  </a:lnTo>
                  <a:lnTo>
                    <a:pt x="664" y="30"/>
                  </a:lnTo>
                  <a:lnTo>
                    <a:pt x="665" y="30"/>
                  </a:lnTo>
                  <a:lnTo>
                    <a:pt x="665" y="30"/>
                  </a:lnTo>
                  <a:lnTo>
                    <a:pt x="683" y="36"/>
                  </a:lnTo>
                  <a:lnTo>
                    <a:pt x="683" y="36"/>
                  </a:lnTo>
                  <a:lnTo>
                    <a:pt x="685" y="38"/>
                  </a:lnTo>
                  <a:lnTo>
                    <a:pt x="685" y="39"/>
                  </a:lnTo>
                  <a:lnTo>
                    <a:pt x="685" y="39"/>
                  </a:lnTo>
                  <a:lnTo>
                    <a:pt x="685" y="41"/>
                  </a:lnTo>
                  <a:lnTo>
                    <a:pt x="685" y="42"/>
                  </a:lnTo>
                  <a:lnTo>
                    <a:pt x="683" y="42"/>
                  </a:lnTo>
                  <a:lnTo>
                    <a:pt x="682" y="42"/>
                  </a:lnTo>
                  <a:lnTo>
                    <a:pt x="680" y="42"/>
                  </a:lnTo>
                  <a:lnTo>
                    <a:pt x="680" y="42"/>
                  </a:lnTo>
                  <a:close/>
                  <a:moveTo>
                    <a:pt x="641" y="29"/>
                  </a:moveTo>
                  <a:lnTo>
                    <a:pt x="635" y="26"/>
                  </a:lnTo>
                  <a:lnTo>
                    <a:pt x="623" y="23"/>
                  </a:lnTo>
                  <a:lnTo>
                    <a:pt x="622" y="23"/>
                  </a:lnTo>
                  <a:lnTo>
                    <a:pt x="622" y="23"/>
                  </a:lnTo>
                  <a:lnTo>
                    <a:pt x="620" y="21"/>
                  </a:lnTo>
                  <a:lnTo>
                    <a:pt x="620" y="20"/>
                  </a:lnTo>
                  <a:lnTo>
                    <a:pt x="622" y="18"/>
                  </a:lnTo>
                  <a:lnTo>
                    <a:pt x="622" y="18"/>
                  </a:lnTo>
                  <a:lnTo>
                    <a:pt x="623" y="18"/>
                  </a:lnTo>
                  <a:lnTo>
                    <a:pt x="625" y="18"/>
                  </a:lnTo>
                  <a:lnTo>
                    <a:pt x="638" y="21"/>
                  </a:lnTo>
                  <a:lnTo>
                    <a:pt x="643" y="23"/>
                  </a:lnTo>
                  <a:lnTo>
                    <a:pt x="644" y="23"/>
                  </a:lnTo>
                  <a:lnTo>
                    <a:pt x="644" y="24"/>
                  </a:lnTo>
                  <a:lnTo>
                    <a:pt x="644" y="24"/>
                  </a:lnTo>
                  <a:lnTo>
                    <a:pt x="644" y="26"/>
                  </a:lnTo>
                  <a:lnTo>
                    <a:pt x="644" y="27"/>
                  </a:lnTo>
                  <a:lnTo>
                    <a:pt x="643" y="29"/>
                  </a:lnTo>
                  <a:lnTo>
                    <a:pt x="641" y="29"/>
                  </a:lnTo>
                  <a:lnTo>
                    <a:pt x="641" y="29"/>
                  </a:lnTo>
                  <a:lnTo>
                    <a:pt x="641" y="29"/>
                  </a:lnTo>
                  <a:close/>
                  <a:moveTo>
                    <a:pt x="599" y="18"/>
                  </a:moveTo>
                  <a:lnTo>
                    <a:pt x="590" y="15"/>
                  </a:lnTo>
                  <a:lnTo>
                    <a:pt x="581" y="14"/>
                  </a:lnTo>
                  <a:lnTo>
                    <a:pt x="580" y="14"/>
                  </a:lnTo>
                  <a:lnTo>
                    <a:pt x="580" y="12"/>
                  </a:lnTo>
                  <a:lnTo>
                    <a:pt x="578" y="12"/>
                  </a:lnTo>
                  <a:lnTo>
                    <a:pt x="578" y="11"/>
                  </a:lnTo>
                  <a:lnTo>
                    <a:pt x="580" y="9"/>
                  </a:lnTo>
                  <a:lnTo>
                    <a:pt x="580" y="9"/>
                  </a:lnTo>
                  <a:lnTo>
                    <a:pt x="581" y="8"/>
                  </a:lnTo>
                  <a:lnTo>
                    <a:pt x="583" y="8"/>
                  </a:lnTo>
                  <a:lnTo>
                    <a:pt x="590" y="9"/>
                  </a:lnTo>
                  <a:lnTo>
                    <a:pt x="601" y="12"/>
                  </a:lnTo>
                  <a:lnTo>
                    <a:pt x="602" y="12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602" y="15"/>
                  </a:lnTo>
                  <a:lnTo>
                    <a:pt x="602" y="17"/>
                  </a:lnTo>
                  <a:lnTo>
                    <a:pt x="602" y="17"/>
                  </a:lnTo>
                  <a:lnTo>
                    <a:pt x="601" y="18"/>
                  </a:lnTo>
                  <a:lnTo>
                    <a:pt x="599" y="18"/>
                  </a:lnTo>
                  <a:lnTo>
                    <a:pt x="599" y="18"/>
                  </a:lnTo>
                  <a:close/>
                  <a:moveTo>
                    <a:pt x="557" y="11"/>
                  </a:moveTo>
                  <a:lnTo>
                    <a:pt x="541" y="8"/>
                  </a:lnTo>
                  <a:lnTo>
                    <a:pt x="541" y="8"/>
                  </a:lnTo>
                  <a:lnTo>
                    <a:pt x="539" y="6"/>
                  </a:lnTo>
                  <a:lnTo>
                    <a:pt x="539" y="6"/>
                  </a:lnTo>
                  <a:lnTo>
                    <a:pt x="539" y="5"/>
                  </a:lnTo>
                  <a:lnTo>
                    <a:pt x="539" y="3"/>
                  </a:lnTo>
                  <a:lnTo>
                    <a:pt x="539" y="3"/>
                  </a:lnTo>
                  <a:lnTo>
                    <a:pt x="541" y="2"/>
                  </a:lnTo>
                  <a:lnTo>
                    <a:pt x="542" y="2"/>
                  </a:lnTo>
                  <a:lnTo>
                    <a:pt x="557" y="5"/>
                  </a:lnTo>
                  <a:lnTo>
                    <a:pt x="559" y="5"/>
                  </a:lnTo>
                  <a:lnTo>
                    <a:pt x="560" y="6"/>
                  </a:lnTo>
                  <a:lnTo>
                    <a:pt x="560" y="6"/>
                  </a:lnTo>
                  <a:lnTo>
                    <a:pt x="560" y="8"/>
                  </a:lnTo>
                  <a:lnTo>
                    <a:pt x="560" y="9"/>
                  </a:lnTo>
                  <a:lnTo>
                    <a:pt x="559" y="9"/>
                  </a:lnTo>
                  <a:lnTo>
                    <a:pt x="559" y="11"/>
                  </a:lnTo>
                  <a:lnTo>
                    <a:pt x="557" y="11"/>
                  </a:lnTo>
                  <a:lnTo>
                    <a:pt x="557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7440" y="2084400"/>
              <a:ext cx="971640" cy="1563840"/>
            </a:xfrm>
            <a:custGeom>
              <a:avLst/>
              <a:gdLst/>
              <a:ahLst/>
              <a:rect l="l" t="t" r="r" b="b"/>
              <a:pathLst>
                <a:path w="612" h="985">
                  <a:moveTo>
                    <a:pt x="329" y="7"/>
                  </a:moveTo>
                  <a:lnTo>
                    <a:pt x="311" y="6"/>
                  </a:lnTo>
                  <a:lnTo>
                    <a:pt x="310" y="4"/>
                  </a:lnTo>
                  <a:lnTo>
                    <a:pt x="308" y="3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31" y="1"/>
                  </a:lnTo>
                  <a:lnTo>
                    <a:pt x="332" y="1"/>
                  </a:lnTo>
                  <a:lnTo>
                    <a:pt x="332" y="1"/>
                  </a:lnTo>
                  <a:lnTo>
                    <a:pt x="334" y="3"/>
                  </a:lnTo>
                  <a:lnTo>
                    <a:pt x="334" y="4"/>
                  </a:lnTo>
                  <a:lnTo>
                    <a:pt x="332" y="6"/>
                  </a:lnTo>
                  <a:lnTo>
                    <a:pt x="332" y="6"/>
                  </a:lnTo>
                  <a:lnTo>
                    <a:pt x="331" y="7"/>
                  </a:lnTo>
                  <a:lnTo>
                    <a:pt x="329" y="7"/>
                  </a:lnTo>
                  <a:lnTo>
                    <a:pt x="329" y="7"/>
                  </a:lnTo>
                  <a:close/>
                  <a:moveTo>
                    <a:pt x="287" y="6"/>
                  </a:moveTo>
                  <a:lnTo>
                    <a:pt x="275" y="7"/>
                  </a:lnTo>
                  <a:lnTo>
                    <a:pt x="275" y="7"/>
                  </a:lnTo>
                  <a:lnTo>
                    <a:pt x="269" y="9"/>
                  </a:lnTo>
                  <a:lnTo>
                    <a:pt x="268" y="9"/>
                  </a:lnTo>
                  <a:lnTo>
                    <a:pt x="268" y="9"/>
                  </a:lnTo>
                  <a:lnTo>
                    <a:pt x="266" y="7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66" y="4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74" y="1"/>
                  </a:lnTo>
                  <a:lnTo>
                    <a:pt x="274" y="1"/>
                  </a:lnTo>
                  <a:lnTo>
                    <a:pt x="275" y="1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0" y="3"/>
                  </a:lnTo>
                  <a:lnTo>
                    <a:pt x="290" y="4"/>
                  </a:lnTo>
                  <a:lnTo>
                    <a:pt x="290" y="6"/>
                  </a:lnTo>
                  <a:lnTo>
                    <a:pt x="289" y="6"/>
                  </a:lnTo>
                  <a:lnTo>
                    <a:pt x="287" y="6"/>
                  </a:lnTo>
                  <a:lnTo>
                    <a:pt x="287" y="6"/>
                  </a:lnTo>
                  <a:close/>
                  <a:moveTo>
                    <a:pt x="245" y="15"/>
                  </a:moveTo>
                  <a:lnTo>
                    <a:pt x="245" y="15"/>
                  </a:lnTo>
                  <a:lnTo>
                    <a:pt x="245" y="15"/>
                  </a:lnTo>
                  <a:lnTo>
                    <a:pt x="228" y="21"/>
                  </a:lnTo>
                  <a:lnTo>
                    <a:pt x="227" y="21"/>
                  </a:lnTo>
                  <a:lnTo>
                    <a:pt x="227" y="21"/>
                  </a:lnTo>
                  <a:lnTo>
                    <a:pt x="225" y="21"/>
                  </a:lnTo>
                  <a:lnTo>
                    <a:pt x="224" y="19"/>
                  </a:lnTo>
                  <a:lnTo>
                    <a:pt x="224" y="18"/>
                  </a:lnTo>
                  <a:lnTo>
                    <a:pt x="225" y="18"/>
                  </a:lnTo>
                  <a:lnTo>
                    <a:pt x="227" y="16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5" y="9"/>
                  </a:lnTo>
                  <a:lnTo>
                    <a:pt x="247" y="9"/>
                  </a:lnTo>
                  <a:lnTo>
                    <a:pt x="248" y="10"/>
                  </a:lnTo>
                  <a:lnTo>
                    <a:pt x="248" y="10"/>
                  </a:lnTo>
                  <a:lnTo>
                    <a:pt x="248" y="12"/>
                  </a:lnTo>
                  <a:lnTo>
                    <a:pt x="248" y="13"/>
                  </a:lnTo>
                  <a:lnTo>
                    <a:pt x="247" y="13"/>
                  </a:lnTo>
                  <a:lnTo>
                    <a:pt x="245" y="15"/>
                  </a:lnTo>
                  <a:lnTo>
                    <a:pt x="245" y="15"/>
                  </a:lnTo>
                  <a:close/>
                  <a:moveTo>
                    <a:pt x="207" y="31"/>
                  </a:moveTo>
                  <a:lnTo>
                    <a:pt x="191" y="42"/>
                  </a:lnTo>
                  <a:lnTo>
                    <a:pt x="189" y="42"/>
                  </a:lnTo>
                  <a:lnTo>
                    <a:pt x="189" y="42"/>
                  </a:lnTo>
                  <a:lnTo>
                    <a:pt x="188" y="42"/>
                  </a:lnTo>
                  <a:lnTo>
                    <a:pt x="186" y="40"/>
                  </a:lnTo>
                  <a:lnTo>
                    <a:pt x="186" y="39"/>
                  </a:lnTo>
                  <a:lnTo>
                    <a:pt x="186" y="37"/>
                  </a:lnTo>
                  <a:lnTo>
                    <a:pt x="186" y="37"/>
                  </a:lnTo>
                  <a:lnTo>
                    <a:pt x="188" y="36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7" y="27"/>
                  </a:lnTo>
                  <a:lnTo>
                    <a:pt x="207" y="28"/>
                  </a:lnTo>
                  <a:lnTo>
                    <a:pt x="209" y="28"/>
                  </a:lnTo>
                  <a:lnTo>
                    <a:pt x="209" y="3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  <a:moveTo>
                    <a:pt x="171" y="57"/>
                  </a:moveTo>
                  <a:lnTo>
                    <a:pt x="162" y="63"/>
                  </a:lnTo>
                  <a:lnTo>
                    <a:pt x="158" y="67"/>
                  </a:lnTo>
                  <a:lnTo>
                    <a:pt x="158" y="69"/>
                  </a:lnTo>
                  <a:lnTo>
                    <a:pt x="156" y="69"/>
                  </a:lnTo>
                  <a:lnTo>
                    <a:pt x="155" y="69"/>
                  </a:lnTo>
                  <a:lnTo>
                    <a:pt x="153" y="67"/>
                  </a:lnTo>
                  <a:lnTo>
                    <a:pt x="153" y="67"/>
                  </a:lnTo>
                  <a:lnTo>
                    <a:pt x="153" y="66"/>
                  </a:lnTo>
                  <a:lnTo>
                    <a:pt x="153" y="64"/>
                  </a:lnTo>
                  <a:lnTo>
                    <a:pt x="153" y="63"/>
                  </a:lnTo>
                  <a:lnTo>
                    <a:pt x="159" y="58"/>
                  </a:lnTo>
                  <a:lnTo>
                    <a:pt x="168" y="51"/>
                  </a:lnTo>
                  <a:lnTo>
                    <a:pt x="170" y="51"/>
                  </a:lnTo>
                  <a:lnTo>
                    <a:pt x="170" y="51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4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71" y="57"/>
                  </a:lnTo>
                  <a:close/>
                  <a:moveTo>
                    <a:pt x="141" y="85"/>
                  </a:moveTo>
                  <a:lnTo>
                    <a:pt x="138" y="87"/>
                  </a:lnTo>
                  <a:lnTo>
                    <a:pt x="129" y="99"/>
                  </a:lnTo>
                  <a:lnTo>
                    <a:pt x="128" y="100"/>
                  </a:lnTo>
                  <a:lnTo>
                    <a:pt x="126" y="100"/>
                  </a:lnTo>
                  <a:lnTo>
                    <a:pt x="125" y="100"/>
                  </a:lnTo>
                  <a:lnTo>
                    <a:pt x="125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3" y="96"/>
                  </a:lnTo>
                  <a:lnTo>
                    <a:pt x="123" y="96"/>
                  </a:lnTo>
                  <a:lnTo>
                    <a:pt x="134" y="84"/>
                  </a:lnTo>
                  <a:lnTo>
                    <a:pt x="137" y="81"/>
                  </a:lnTo>
                  <a:lnTo>
                    <a:pt x="137" y="81"/>
                  </a:lnTo>
                  <a:lnTo>
                    <a:pt x="138" y="79"/>
                  </a:lnTo>
                  <a:lnTo>
                    <a:pt x="140" y="81"/>
                  </a:lnTo>
                  <a:lnTo>
                    <a:pt x="141" y="81"/>
                  </a:lnTo>
                  <a:lnTo>
                    <a:pt x="141" y="82"/>
                  </a:lnTo>
                  <a:lnTo>
                    <a:pt x="141" y="82"/>
                  </a:lnTo>
                  <a:lnTo>
                    <a:pt x="141" y="84"/>
                  </a:lnTo>
                  <a:lnTo>
                    <a:pt x="141" y="85"/>
                  </a:lnTo>
                  <a:lnTo>
                    <a:pt x="141" y="85"/>
                  </a:lnTo>
                  <a:close/>
                  <a:moveTo>
                    <a:pt x="113" y="119"/>
                  </a:moveTo>
                  <a:lnTo>
                    <a:pt x="104" y="134"/>
                  </a:lnTo>
                  <a:lnTo>
                    <a:pt x="102" y="135"/>
                  </a:lnTo>
                  <a:lnTo>
                    <a:pt x="101" y="135"/>
                  </a:lnTo>
                  <a:lnTo>
                    <a:pt x="99" y="135"/>
                  </a:lnTo>
                  <a:lnTo>
                    <a:pt x="99" y="134"/>
                  </a:lnTo>
                  <a:lnTo>
                    <a:pt x="98" y="134"/>
                  </a:lnTo>
                  <a:lnTo>
                    <a:pt x="98" y="132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4"/>
                  </a:lnTo>
                  <a:lnTo>
                    <a:pt x="113" y="114"/>
                  </a:lnTo>
                  <a:lnTo>
                    <a:pt x="114" y="116"/>
                  </a:lnTo>
                  <a:lnTo>
                    <a:pt x="114" y="117"/>
                  </a:lnTo>
                  <a:lnTo>
                    <a:pt x="113" y="119"/>
                  </a:lnTo>
                  <a:lnTo>
                    <a:pt x="113" y="119"/>
                  </a:lnTo>
                  <a:close/>
                  <a:moveTo>
                    <a:pt x="90" y="155"/>
                  </a:moveTo>
                  <a:lnTo>
                    <a:pt x="81" y="170"/>
                  </a:lnTo>
                  <a:lnTo>
                    <a:pt x="80" y="171"/>
                  </a:lnTo>
                  <a:lnTo>
                    <a:pt x="80" y="171"/>
                  </a:lnTo>
                  <a:lnTo>
                    <a:pt x="78" y="171"/>
                  </a:lnTo>
                  <a:lnTo>
                    <a:pt x="77" y="171"/>
                  </a:lnTo>
                  <a:lnTo>
                    <a:pt x="75" y="171"/>
                  </a:lnTo>
                  <a:lnTo>
                    <a:pt x="75" y="170"/>
                  </a:lnTo>
                  <a:lnTo>
                    <a:pt x="75" y="168"/>
                  </a:lnTo>
                  <a:lnTo>
                    <a:pt x="75" y="167"/>
                  </a:lnTo>
                  <a:lnTo>
                    <a:pt x="84" y="152"/>
                  </a:lnTo>
                  <a:lnTo>
                    <a:pt x="86" y="150"/>
                  </a:lnTo>
                  <a:lnTo>
                    <a:pt x="87" y="150"/>
                  </a:lnTo>
                  <a:lnTo>
                    <a:pt x="87" y="150"/>
                  </a:lnTo>
                  <a:lnTo>
                    <a:pt x="89" y="150"/>
                  </a:lnTo>
                  <a:lnTo>
                    <a:pt x="90" y="150"/>
                  </a:lnTo>
                  <a:lnTo>
                    <a:pt x="90" y="152"/>
                  </a:lnTo>
                  <a:lnTo>
                    <a:pt x="90" y="153"/>
                  </a:lnTo>
                  <a:lnTo>
                    <a:pt x="90" y="155"/>
                  </a:lnTo>
                  <a:lnTo>
                    <a:pt x="90" y="155"/>
                  </a:lnTo>
                  <a:close/>
                  <a:moveTo>
                    <a:pt x="69" y="192"/>
                  </a:moveTo>
                  <a:lnTo>
                    <a:pt x="62" y="209"/>
                  </a:lnTo>
                  <a:lnTo>
                    <a:pt x="62" y="210"/>
                  </a:lnTo>
                  <a:lnTo>
                    <a:pt x="60" y="210"/>
                  </a:lnTo>
                  <a:lnTo>
                    <a:pt x="59" y="210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56" y="209"/>
                  </a:lnTo>
                  <a:lnTo>
                    <a:pt x="56" y="207"/>
                  </a:lnTo>
                  <a:lnTo>
                    <a:pt x="56" y="206"/>
                  </a:lnTo>
                  <a:lnTo>
                    <a:pt x="63" y="189"/>
                  </a:lnTo>
                  <a:lnTo>
                    <a:pt x="65" y="189"/>
                  </a:lnTo>
                  <a:lnTo>
                    <a:pt x="66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9" y="189"/>
                  </a:lnTo>
                  <a:lnTo>
                    <a:pt x="69" y="189"/>
                  </a:lnTo>
                  <a:lnTo>
                    <a:pt x="71" y="191"/>
                  </a:lnTo>
                  <a:lnTo>
                    <a:pt x="69" y="192"/>
                  </a:lnTo>
                  <a:lnTo>
                    <a:pt x="69" y="192"/>
                  </a:lnTo>
                  <a:close/>
                  <a:moveTo>
                    <a:pt x="53" y="231"/>
                  </a:moveTo>
                  <a:lnTo>
                    <a:pt x="47" y="249"/>
                  </a:lnTo>
                  <a:lnTo>
                    <a:pt x="45" y="249"/>
                  </a:lnTo>
                  <a:lnTo>
                    <a:pt x="45" y="251"/>
                  </a:lnTo>
                  <a:lnTo>
                    <a:pt x="44" y="251"/>
                  </a:lnTo>
                  <a:lnTo>
                    <a:pt x="42" y="251"/>
                  </a:lnTo>
                  <a:lnTo>
                    <a:pt x="41" y="249"/>
                  </a:lnTo>
                  <a:lnTo>
                    <a:pt x="41" y="249"/>
                  </a:lnTo>
                  <a:lnTo>
                    <a:pt x="41" y="248"/>
                  </a:lnTo>
                  <a:lnTo>
                    <a:pt x="41" y="246"/>
                  </a:lnTo>
                  <a:lnTo>
                    <a:pt x="47" y="230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0" y="227"/>
                  </a:lnTo>
                  <a:lnTo>
                    <a:pt x="51" y="227"/>
                  </a:lnTo>
                  <a:lnTo>
                    <a:pt x="53" y="228"/>
                  </a:lnTo>
                  <a:lnTo>
                    <a:pt x="53" y="230"/>
                  </a:lnTo>
                  <a:lnTo>
                    <a:pt x="53" y="231"/>
                  </a:lnTo>
                  <a:lnTo>
                    <a:pt x="53" y="231"/>
                  </a:lnTo>
                  <a:close/>
                  <a:moveTo>
                    <a:pt x="39" y="272"/>
                  </a:moveTo>
                  <a:lnTo>
                    <a:pt x="33" y="290"/>
                  </a:lnTo>
                  <a:lnTo>
                    <a:pt x="33" y="292"/>
                  </a:lnTo>
                  <a:lnTo>
                    <a:pt x="32" y="292"/>
                  </a:lnTo>
                  <a:lnTo>
                    <a:pt x="30" y="292"/>
                  </a:lnTo>
                  <a:lnTo>
                    <a:pt x="29" y="292"/>
                  </a:lnTo>
                  <a:lnTo>
                    <a:pt x="29" y="292"/>
                  </a:lnTo>
                  <a:lnTo>
                    <a:pt x="27" y="290"/>
                  </a:lnTo>
                  <a:lnTo>
                    <a:pt x="27" y="289"/>
                  </a:lnTo>
                  <a:lnTo>
                    <a:pt x="27" y="289"/>
                  </a:lnTo>
                  <a:lnTo>
                    <a:pt x="33" y="271"/>
                  </a:lnTo>
                  <a:lnTo>
                    <a:pt x="33" y="269"/>
                  </a:lnTo>
                  <a:lnTo>
                    <a:pt x="35" y="269"/>
                  </a:lnTo>
                  <a:lnTo>
                    <a:pt x="35" y="269"/>
                  </a:lnTo>
                  <a:lnTo>
                    <a:pt x="36" y="269"/>
                  </a:lnTo>
                  <a:lnTo>
                    <a:pt x="38" y="269"/>
                  </a:lnTo>
                  <a:lnTo>
                    <a:pt x="38" y="271"/>
                  </a:lnTo>
                  <a:lnTo>
                    <a:pt x="39" y="271"/>
                  </a:lnTo>
                  <a:lnTo>
                    <a:pt x="39" y="272"/>
                  </a:lnTo>
                  <a:lnTo>
                    <a:pt x="39" y="272"/>
                  </a:lnTo>
                  <a:close/>
                  <a:moveTo>
                    <a:pt x="27" y="314"/>
                  </a:moveTo>
                  <a:lnTo>
                    <a:pt x="23" y="332"/>
                  </a:lnTo>
                  <a:lnTo>
                    <a:pt x="23" y="332"/>
                  </a:lnTo>
                  <a:lnTo>
                    <a:pt x="21" y="334"/>
                  </a:lnTo>
                  <a:lnTo>
                    <a:pt x="20" y="334"/>
                  </a:lnTo>
                  <a:lnTo>
                    <a:pt x="20" y="334"/>
                  </a:lnTo>
                  <a:lnTo>
                    <a:pt x="18" y="334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7" y="331"/>
                  </a:lnTo>
                  <a:lnTo>
                    <a:pt x="21" y="313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0"/>
                  </a:lnTo>
                  <a:lnTo>
                    <a:pt x="24" y="310"/>
                  </a:lnTo>
                  <a:lnTo>
                    <a:pt x="26" y="311"/>
                  </a:lnTo>
                  <a:lnTo>
                    <a:pt x="27" y="311"/>
                  </a:lnTo>
                  <a:lnTo>
                    <a:pt x="27" y="313"/>
                  </a:lnTo>
                  <a:lnTo>
                    <a:pt x="27" y="314"/>
                  </a:lnTo>
                  <a:lnTo>
                    <a:pt x="27" y="314"/>
                  </a:lnTo>
                  <a:close/>
                  <a:moveTo>
                    <a:pt x="18" y="356"/>
                  </a:moveTo>
                  <a:lnTo>
                    <a:pt x="15" y="374"/>
                  </a:lnTo>
                  <a:lnTo>
                    <a:pt x="15" y="376"/>
                  </a:lnTo>
                  <a:lnTo>
                    <a:pt x="14" y="376"/>
                  </a:lnTo>
                  <a:lnTo>
                    <a:pt x="12" y="377"/>
                  </a:lnTo>
                  <a:lnTo>
                    <a:pt x="12" y="377"/>
                  </a:lnTo>
                  <a:lnTo>
                    <a:pt x="11" y="376"/>
                  </a:lnTo>
                  <a:lnTo>
                    <a:pt x="9" y="376"/>
                  </a:lnTo>
                  <a:lnTo>
                    <a:pt x="9" y="374"/>
                  </a:lnTo>
                  <a:lnTo>
                    <a:pt x="9" y="373"/>
                  </a:lnTo>
                  <a:lnTo>
                    <a:pt x="12" y="355"/>
                  </a:lnTo>
                  <a:lnTo>
                    <a:pt x="12" y="353"/>
                  </a:lnTo>
                  <a:lnTo>
                    <a:pt x="14" y="353"/>
                  </a:lnTo>
                  <a:lnTo>
                    <a:pt x="14" y="352"/>
                  </a:lnTo>
                  <a:lnTo>
                    <a:pt x="15" y="352"/>
                  </a:lnTo>
                  <a:lnTo>
                    <a:pt x="17" y="353"/>
                  </a:lnTo>
                  <a:lnTo>
                    <a:pt x="17" y="353"/>
                  </a:lnTo>
                  <a:lnTo>
                    <a:pt x="18" y="355"/>
                  </a:lnTo>
                  <a:lnTo>
                    <a:pt x="18" y="356"/>
                  </a:lnTo>
                  <a:lnTo>
                    <a:pt x="18" y="356"/>
                  </a:lnTo>
                  <a:close/>
                  <a:moveTo>
                    <a:pt x="12" y="398"/>
                  </a:moveTo>
                  <a:lnTo>
                    <a:pt x="11" y="417"/>
                  </a:lnTo>
                  <a:lnTo>
                    <a:pt x="9" y="418"/>
                  </a:lnTo>
                  <a:lnTo>
                    <a:pt x="9" y="420"/>
                  </a:lnTo>
                  <a:lnTo>
                    <a:pt x="8" y="420"/>
                  </a:lnTo>
                  <a:lnTo>
                    <a:pt x="6" y="420"/>
                  </a:lnTo>
                  <a:lnTo>
                    <a:pt x="6" y="420"/>
                  </a:lnTo>
                  <a:lnTo>
                    <a:pt x="5" y="418"/>
                  </a:lnTo>
                  <a:lnTo>
                    <a:pt x="3" y="418"/>
                  </a:lnTo>
                  <a:lnTo>
                    <a:pt x="3" y="417"/>
                  </a:lnTo>
                  <a:lnTo>
                    <a:pt x="5" y="398"/>
                  </a:lnTo>
                  <a:lnTo>
                    <a:pt x="6" y="397"/>
                  </a:lnTo>
                  <a:lnTo>
                    <a:pt x="6" y="395"/>
                  </a:lnTo>
                  <a:lnTo>
                    <a:pt x="8" y="395"/>
                  </a:lnTo>
                  <a:lnTo>
                    <a:pt x="9" y="395"/>
                  </a:lnTo>
                  <a:lnTo>
                    <a:pt x="11" y="395"/>
                  </a:lnTo>
                  <a:lnTo>
                    <a:pt x="11" y="397"/>
                  </a:lnTo>
                  <a:lnTo>
                    <a:pt x="12" y="397"/>
                  </a:lnTo>
                  <a:lnTo>
                    <a:pt x="12" y="398"/>
                  </a:lnTo>
                  <a:lnTo>
                    <a:pt x="12" y="398"/>
                  </a:lnTo>
                  <a:close/>
                  <a:moveTo>
                    <a:pt x="8" y="442"/>
                  </a:moveTo>
                  <a:lnTo>
                    <a:pt x="8" y="442"/>
                  </a:lnTo>
                  <a:lnTo>
                    <a:pt x="8" y="460"/>
                  </a:lnTo>
                  <a:lnTo>
                    <a:pt x="6" y="462"/>
                  </a:lnTo>
                  <a:lnTo>
                    <a:pt x="6" y="462"/>
                  </a:lnTo>
                  <a:lnTo>
                    <a:pt x="5" y="463"/>
                  </a:lnTo>
                  <a:lnTo>
                    <a:pt x="3" y="463"/>
                  </a:lnTo>
                  <a:lnTo>
                    <a:pt x="3" y="463"/>
                  </a:lnTo>
                  <a:lnTo>
                    <a:pt x="2" y="462"/>
                  </a:lnTo>
                  <a:lnTo>
                    <a:pt x="2" y="462"/>
                  </a:lnTo>
                  <a:lnTo>
                    <a:pt x="0" y="460"/>
                  </a:lnTo>
                  <a:lnTo>
                    <a:pt x="2" y="442"/>
                  </a:lnTo>
                  <a:lnTo>
                    <a:pt x="2" y="441"/>
                  </a:lnTo>
                  <a:lnTo>
                    <a:pt x="2" y="439"/>
                  </a:lnTo>
                  <a:lnTo>
                    <a:pt x="3" y="439"/>
                  </a:lnTo>
                  <a:lnTo>
                    <a:pt x="3" y="439"/>
                  </a:lnTo>
                  <a:lnTo>
                    <a:pt x="5" y="438"/>
                  </a:lnTo>
                  <a:lnTo>
                    <a:pt x="6" y="439"/>
                  </a:lnTo>
                  <a:lnTo>
                    <a:pt x="6" y="439"/>
                  </a:lnTo>
                  <a:lnTo>
                    <a:pt x="8" y="441"/>
                  </a:lnTo>
                  <a:lnTo>
                    <a:pt x="8" y="442"/>
                  </a:lnTo>
                  <a:lnTo>
                    <a:pt x="8" y="442"/>
                  </a:lnTo>
                  <a:close/>
                  <a:moveTo>
                    <a:pt x="6" y="484"/>
                  </a:moveTo>
                  <a:lnTo>
                    <a:pt x="6" y="492"/>
                  </a:lnTo>
                  <a:lnTo>
                    <a:pt x="6" y="504"/>
                  </a:lnTo>
                  <a:lnTo>
                    <a:pt x="6" y="504"/>
                  </a:lnTo>
                  <a:lnTo>
                    <a:pt x="5" y="505"/>
                  </a:lnTo>
                  <a:lnTo>
                    <a:pt x="5" y="505"/>
                  </a:lnTo>
                  <a:lnTo>
                    <a:pt x="3" y="507"/>
                  </a:lnTo>
                  <a:lnTo>
                    <a:pt x="2" y="505"/>
                  </a:lnTo>
                  <a:lnTo>
                    <a:pt x="2" y="505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0" y="492"/>
                  </a:lnTo>
                  <a:lnTo>
                    <a:pt x="0" y="484"/>
                  </a:lnTo>
                  <a:lnTo>
                    <a:pt x="0" y="483"/>
                  </a:lnTo>
                  <a:lnTo>
                    <a:pt x="2" y="483"/>
                  </a:lnTo>
                  <a:lnTo>
                    <a:pt x="2" y="481"/>
                  </a:lnTo>
                  <a:lnTo>
                    <a:pt x="3" y="481"/>
                  </a:lnTo>
                  <a:lnTo>
                    <a:pt x="5" y="481"/>
                  </a:lnTo>
                  <a:lnTo>
                    <a:pt x="5" y="483"/>
                  </a:lnTo>
                  <a:lnTo>
                    <a:pt x="6" y="483"/>
                  </a:lnTo>
                  <a:lnTo>
                    <a:pt x="6" y="484"/>
                  </a:lnTo>
                  <a:lnTo>
                    <a:pt x="6" y="484"/>
                  </a:lnTo>
                  <a:close/>
                  <a:moveTo>
                    <a:pt x="8" y="528"/>
                  </a:moveTo>
                  <a:lnTo>
                    <a:pt x="8" y="541"/>
                  </a:lnTo>
                  <a:lnTo>
                    <a:pt x="8" y="546"/>
                  </a:lnTo>
                  <a:lnTo>
                    <a:pt x="8" y="547"/>
                  </a:lnTo>
                  <a:lnTo>
                    <a:pt x="8" y="549"/>
                  </a:lnTo>
                  <a:lnTo>
                    <a:pt x="6" y="549"/>
                  </a:lnTo>
                  <a:lnTo>
                    <a:pt x="5" y="549"/>
                  </a:lnTo>
                  <a:lnTo>
                    <a:pt x="3" y="549"/>
                  </a:lnTo>
                  <a:lnTo>
                    <a:pt x="3" y="549"/>
                  </a:lnTo>
                  <a:lnTo>
                    <a:pt x="2" y="547"/>
                  </a:lnTo>
                  <a:lnTo>
                    <a:pt x="2" y="547"/>
                  </a:lnTo>
                  <a:lnTo>
                    <a:pt x="2" y="543"/>
                  </a:lnTo>
                  <a:lnTo>
                    <a:pt x="0" y="528"/>
                  </a:lnTo>
                  <a:lnTo>
                    <a:pt x="2" y="526"/>
                  </a:lnTo>
                  <a:lnTo>
                    <a:pt x="2" y="526"/>
                  </a:lnTo>
                  <a:lnTo>
                    <a:pt x="3" y="525"/>
                  </a:lnTo>
                  <a:lnTo>
                    <a:pt x="3" y="525"/>
                  </a:lnTo>
                  <a:lnTo>
                    <a:pt x="5" y="525"/>
                  </a:lnTo>
                  <a:lnTo>
                    <a:pt x="6" y="525"/>
                  </a:lnTo>
                  <a:lnTo>
                    <a:pt x="6" y="526"/>
                  </a:lnTo>
                  <a:lnTo>
                    <a:pt x="8" y="528"/>
                  </a:lnTo>
                  <a:lnTo>
                    <a:pt x="8" y="528"/>
                  </a:lnTo>
                  <a:close/>
                  <a:moveTo>
                    <a:pt x="11" y="572"/>
                  </a:moveTo>
                  <a:lnTo>
                    <a:pt x="12" y="590"/>
                  </a:lnTo>
                  <a:lnTo>
                    <a:pt x="12" y="591"/>
                  </a:lnTo>
                  <a:lnTo>
                    <a:pt x="11" y="591"/>
                  </a:lnTo>
                  <a:lnTo>
                    <a:pt x="11" y="593"/>
                  </a:lnTo>
                  <a:lnTo>
                    <a:pt x="9" y="593"/>
                  </a:lnTo>
                  <a:lnTo>
                    <a:pt x="8" y="593"/>
                  </a:lnTo>
                  <a:lnTo>
                    <a:pt x="8" y="593"/>
                  </a:lnTo>
                  <a:lnTo>
                    <a:pt x="6" y="591"/>
                  </a:lnTo>
                  <a:lnTo>
                    <a:pt x="6" y="590"/>
                  </a:lnTo>
                  <a:lnTo>
                    <a:pt x="5" y="572"/>
                  </a:lnTo>
                  <a:lnTo>
                    <a:pt x="5" y="570"/>
                  </a:lnTo>
                  <a:lnTo>
                    <a:pt x="5" y="569"/>
                  </a:lnTo>
                  <a:lnTo>
                    <a:pt x="6" y="569"/>
                  </a:lnTo>
                  <a:lnTo>
                    <a:pt x="8" y="569"/>
                  </a:lnTo>
                  <a:lnTo>
                    <a:pt x="8" y="569"/>
                  </a:lnTo>
                  <a:lnTo>
                    <a:pt x="9" y="569"/>
                  </a:lnTo>
                  <a:lnTo>
                    <a:pt x="9" y="570"/>
                  </a:lnTo>
                  <a:lnTo>
                    <a:pt x="11" y="572"/>
                  </a:lnTo>
                  <a:lnTo>
                    <a:pt x="11" y="572"/>
                  </a:lnTo>
                  <a:close/>
                  <a:moveTo>
                    <a:pt x="15" y="614"/>
                  </a:moveTo>
                  <a:lnTo>
                    <a:pt x="18" y="632"/>
                  </a:lnTo>
                  <a:lnTo>
                    <a:pt x="18" y="633"/>
                  </a:lnTo>
                  <a:lnTo>
                    <a:pt x="18" y="635"/>
                  </a:lnTo>
                  <a:lnTo>
                    <a:pt x="17" y="635"/>
                  </a:lnTo>
                  <a:lnTo>
                    <a:pt x="15" y="635"/>
                  </a:lnTo>
                  <a:lnTo>
                    <a:pt x="15" y="635"/>
                  </a:lnTo>
                  <a:lnTo>
                    <a:pt x="14" y="635"/>
                  </a:lnTo>
                  <a:lnTo>
                    <a:pt x="12" y="633"/>
                  </a:lnTo>
                  <a:lnTo>
                    <a:pt x="12" y="633"/>
                  </a:lnTo>
                  <a:lnTo>
                    <a:pt x="9" y="615"/>
                  </a:lnTo>
                  <a:lnTo>
                    <a:pt x="9" y="614"/>
                  </a:lnTo>
                  <a:lnTo>
                    <a:pt x="11" y="612"/>
                  </a:lnTo>
                  <a:lnTo>
                    <a:pt x="11" y="611"/>
                  </a:lnTo>
                  <a:lnTo>
                    <a:pt x="12" y="611"/>
                  </a:lnTo>
                  <a:lnTo>
                    <a:pt x="14" y="611"/>
                  </a:lnTo>
                  <a:lnTo>
                    <a:pt x="15" y="612"/>
                  </a:lnTo>
                  <a:lnTo>
                    <a:pt x="15" y="612"/>
                  </a:lnTo>
                  <a:lnTo>
                    <a:pt x="15" y="614"/>
                  </a:lnTo>
                  <a:lnTo>
                    <a:pt x="15" y="614"/>
                  </a:lnTo>
                  <a:close/>
                  <a:moveTo>
                    <a:pt x="24" y="656"/>
                  </a:moveTo>
                  <a:lnTo>
                    <a:pt x="27" y="674"/>
                  </a:lnTo>
                  <a:lnTo>
                    <a:pt x="27" y="675"/>
                  </a:lnTo>
                  <a:lnTo>
                    <a:pt x="27" y="677"/>
                  </a:lnTo>
                  <a:lnTo>
                    <a:pt x="27" y="677"/>
                  </a:lnTo>
                  <a:lnTo>
                    <a:pt x="26" y="677"/>
                  </a:lnTo>
                  <a:lnTo>
                    <a:pt x="24" y="677"/>
                  </a:lnTo>
                  <a:lnTo>
                    <a:pt x="23" y="677"/>
                  </a:lnTo>
                  <a:lnTo>
                    <a:pt x="23" y="677"/>
                  </a:lnTo>
                  <a:lnTo>
                    <a:pt x="23" y="675"/>
                  </a:lnTo>
                  <a:lnTo>
                    <a:pt x="18" y="657"/>
                  </a:lnTo>
                  <a:lnTo>
                    <a:pt x="18" y="656"/>
                  </a:lnTo>
                  <a:lnTo>
                    <a:pt x="18" y="654"/>
                  </a:lnTo>
                  <a:lnTo>
                    <a:pt x="18" y="654"/>
                  </a:lnTo>
                  <a:lnTo>
                    <a:pt x="20" y="653"/>
                  </a:lnTo>
                  <a:lnTo>
                    <a:pt x="21" y="653"/>
                  </a:lnTo>
                  <a:lnTo>
                    <a:pt x="23" y="654"/>
                  </a:lnTo>
                  <a:lnTo>
                    <a:pt x="23" y="654"/>
                  </a:lnTo>
                  <a:lnTo>
                    <a:pt x="24" y="656"/>
                  </a:lnTo>
                  <a:lnTo>
                    <a:pt x="24" y="656"/>
                  </a:lnTo>
                  <a:close/>
                  <a:moveTo>
                    <a:pt x="35" y="698"/>
                  </a:moveTo>
                  <a:lnTo>
                    <a:pt x="39" y="716"/>
                  </a:lnTo>
                  <a:lnTo>
                    <a:pt x="39" y="716"/>
                  </a:lnTo>
                  <a:lnTo>
                    <a:pt x="39" y="718"/>
                  </a:lnTo>
                  <a:lnTo>
                    <a:pt x="38" y="719"/>
                  </a:lnTo>
                  <a:lnTo>
                    <a:pt x="36" y="719"/>
                  </a:lnTo>
                  <a:lnTo>
                    <a:pt x="35" y="719"/>
                  </a:lnTo>
                  <a:lnTo>
                    <a:pt x="35" y="718"/>
                  </a:lnTo>
                  <a:lnTo>
                    <a:pt x="33" y="718"/>
                  </a:lnTo>
                  <a:lnTo>
                    <a:pt x="29" y="699"/>
                  </a:lnTo>
                  <a:lnTo>
                    <a:pt x="29" y="698"/>
                  </a:lnTo>
                  <a:lnTo>
                    <a:pt x="29" y="696"/>
                  </a:lnTo>
                  <a:lnTo>
                    <a:pt x="29" y="696"/>
                  </a:lnTo>
                  <a:lnTo>
                    <a:pt x="30" y="695"/>
                  </a:lnTo>
                  <a:lnTo>
                    <a:pt x="32" y="695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35" y="698"/>
                  </a:lnTo>
                  <a:lnTo>
                    <a:pt x="35" y="698"/>
                  </a:lnTo>
                  <a:close/>
                  <a:moveTo>
                    <a:pt x="47" y="739"/>
                  </a:moveTo>
                  <a:lnTo>
                    <a:pt x="54" y="757"/>
                  </a:lnTo>
                  <a:lnTo>
                    <a:pt x="54" y="757"/>
                  </a:lnTo>
                  <a:lnTo>
                    <a:pt x="54" y="758"/>
                  </a:lnTo>
                  <a:lnTo>
                    <a:pt x="53" y="760"/>
                  </a:lnTo>
                  <a:lnTo>
                    <a:pt x="53" y="760"/>
                  </a:lnTo>
                  <a:lnTo>
                    <a:pt x="51" y="760"/>
                  </a:lnTo>
                  <a:lnTo>
                    <a:pt x="50" y="760"/>
                  </a:lnTo>
                  <a:lnTo>
                    <a:pt x="48" y="760"/>
                  </a:lnTo>
                  <a:lnTo>
                    <a:pt x="48" y="758"/>
                  </a:lnTo>
                  <a:lnTo>
                    <a:pt x="42" y="740"/>
                  </a:lnTo>
                  <a:lnTo>
                    <a:pt x="41" y="740"/>
                  </a:lnTo>
                  <a:lnTo>
                    <a:pt x="42" y="739"/>
                  </a:lnTo>
                  <a:lnTo>
                    <a:pt x="42" y="737"/>
                  </a:lnTo>
                  <a:lnTo>
                    <a:pt x="44" y="737"/>
                  </a:lnTo>
                  <a:lnTo>
                    <a:pt x="45" y="737"/>
                  </a:lnTo>
                  <a:lnTo>
                    <a:pt x="45" y="737"/>
                  </a:lnTo>
                  <a:lnTo>
                    <a:pt x="47" y="739"/>
                  </a:lnTo>
                  <a:lnTo>
                    <a:pt x="47" y="739"/>
                  </a:lnTo>
                  <a:close/>
                  <a:moveTo>
                    <a:pt x="63" y="778"/>
                  </a:moveTo>
                  <a:lnTo>
                    <a:pt x="71" y="796"/>
                  </a:lnTo>
                  <a:lnTo>
                    <a:pt x="72" y="797"/>
                  </a:lnTo>
                  <a:lnTo>
                    <a:pt x="71" y="797"/>
                  </a:lnTo>
                  <a:lnTo>
                    <a:pt x="71" y="799"/>
                  </a:lnTo>
                  <a:lnTo>
                    <a:pt x="69" y="799"/>
                  </a:lnTo>
                  <a:lnTo>
                    <a:pt x="69" y="800"/>
                  </a:lnTo>
                  <a:lnTo>
                    <a:pt x="68" y="799"/>
                  </a:lnTo>
                  <a:lnTo>
                    <a:pt x="66" y="799"/>
                  </a:lnTo>
                  <a:lnTo>
                    <a:pt x="66" y="797"/>
                  </a:lnTo>
                  <a:lnTo>
                    <a:pt x="57" y="781"/>
                  </a:lnTo>
                  <a:lnTo>
                    <a:pt x="57" y="779"/>
                  </a:lnTo>
                  <a:lnTo>
                    <a:pt x="57" y="779"/>
                  </a:lnTo>
                  <a:lnTo>
                    <a:pt x="59" y="778"/>
                  </a:lnTo>
                  <a:lnTo>
                    <a:pt x="59" y="776"/>
                  </a:lnTo>
                  <a:lnTo>
                    <a:pt x="60" y="776"/>
                  </a:lnTo>
                  <a:lnTo>
                    <a:pt x="62" y="776"/>
                  </a:lnTo>
                  <a:lnTo>
                    <a:pt x="63" y="778"/>
                  </a:lnTo>
                  <a:lnTo>
                    <a:pt x="63" y="778"/>
                  </a:lnTo>
                  <a:lnTo>
                    <a:pt x="63" y="778"/>
                  </a:lnTo>
                  <a:close/>
                  <a:moveTo>
                    <a:pt x="83" y="817"/>
                  </a:moveTo>
                  <a:lnTo>
                    <a:pt x="92" y="833"/>
                  </a:lnTo>
                  <a:lnTo>
                    <a:pt x="92" y="833"/>
                  </a:lnTo>
                  <a:lnTo>
                    <a:pt x="92" y="835"/>
                  </a:lnTo>
                  <a:lnTo>
                    <a:pt x="92" y="836"/>
                  </a:lnTo>
                  <a:lnTo>
                    <a:pt x="90" y="838"/>
                  </a:lnTo>
                  <a:lnTo>
                    <a:pt x="89" y="838"/>
                  </a:lnTo>
                  <a:lnTo>
                    <a:pt x="89" y="838"/>
                  </a:lnTo>
                  <a:lnTo>
                    <a:pt x="87" y="836"/>
                  </a:lnTo>
                  <a:lnTo>
                    <a:pt x="86" y="836"/>
                  </a:lnTo>
                  <a:lnTo>
                    <a:pt x="77" y="820"/>
                  </a:lnTo>
                  <a:lnTo>
                    <a:pt x="77" y="818"/>
                  </a:lnTo>
                  <a:lnTo>
                    <a:pt x="77" y="818"/>
                  </a:lnTo>
                  <a:lnTo>
                    <a:pt x="78" y="817"/>
                  </a:lnTo>
                  <a:lnTo>
                    <a:pt x="78" y="815"/>
                  </a:lnTo>
                  <a:lnTo>
                    <a:pt x="80" y="815"/>
                  </a:lnTo>
                  <a:lnTo>
                    <a:pt x="81" y="815"/>
                  </a:lnTo>
                  <a:lnTo>
                    <a:pt x="81" y="817"/>
                  </a:lnTo>
                  <a:lnTo>
                    <a:pt x="83" y="817"/>
                  </a:lnTo>
                  <a:lnTo>
                    <a:pt x="83" y="817"/>
                  </a:lnTo>
                  <a:close/>
                  <a:moveTo>
                    <a:pt x="105" y="853"/>
                  </a:move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1"/>
                  </a:lnTo>
                  <a:lnTo>
                    <a:pt x="116" y="873"/>
                  </a:lnTo>
                  <a:lnTo>
                    <a:pt x="114" y="873"/>
                  </a:lnTo>
                  <a:lnTo>
                    <a:pt x="114" y="874"/>
                  </a:lnTo>
                  <a:lnTo>
                    <a:pt x="113" y="874"/>
                  </a:lnTo>
                  <a:lnTo>
                    <a:pt x="111" y="874"/>
                  </a:lnTo>
                  <a:lnTo>
                    <a:pt x="111" y="873"/>
                  </a:lnTo>
                  <a:lnTo>
                    <a:pt x="110" y="873"/>
                  </a:lnTo>
                  <a:lnTo>
                    <a:pt x="99" y="857"/>
                  </a:lnTo>
                  <a:lnTo>
                    <a:pt x="99" y="856"/>
                  </a:lnTo>
                  <a:lnTo>
                    <a:pt x="99" y="854"/>
                  </a:lnTo>
                  <a:lnTo>
                    <a:pt x="101" y="853"/>
                  </a:lnTo>
                  <a:lnTo>
                    <a:pt x="102" y="853"/>
                  </a:lnTo>
                  <a:lnTo>
                    <a:pt x="102" y="853"/>
                  </a:lnTo>
                  <a:lnTo>
                    <a:pt x="105" y="853"/>
                  </a:lnTo>
                  <a:lnTo>
                    <a:pt x="105" y="853"/>
                  </a:lnTo>
                  <a:close/>
                  <a:moveTo>
                    <a:pt x="131" y="888"/>
                  </a:moveTo>
                  <a:lnTo>
                    <a:pt x="138" y="897"/>
                  </a:lnTo>
                  <a:lnTo>
                    <a:pt x="143" y="901"/>
                  </a:lnTo>
                  <a:lnTo>
                    <a:pt x="144" y="903"/>
                  </a:lnTo>
                  <a:lnTo>
                    <a:pt x="144" y="904"/>
                  </a:lnTo>
                  <a:lnTo>
                    <a:pt x="144" y="904"/>
                  </a:lnTo>
                  <a:lnTo>
                    <a:pt x="143" y="906"/>
                  </a:lnTo>
                  <a:lnTo>
                    <a:pt x="141" y="906"/>
                  </a:lnTo>
                  <a:lnTo>
                    <a:pt x="141" y="907"/>
                  </a:lnTo>
                  <a:lnTo>
                    <a:pt x="140" y="906"/>
                  </a:lnTo>
                  <a:lnTo>
                    <a:pt x="138" y="906"/>
                  </a:lnTo>
                  <a:lnTo>
                    <a:pt x="134" y="901"/>
                  </a:lnTo>
                  <a:lnTo>
                    <a:pt x="126" y="892"/>
                  </a:lnTo>
                  <a:lnTo>
                    <a:pt x="126" y="891"/>
                  </a:lnTo>
                  <a:lnTo>
                    <a:pt x="125" y="889"/>
                  </a:lnTo>
                  <a:lnTo>
                    <a:pt x="126" y="889"/>
                  </a:lnTo>
                  <a:lnTo>
                    <a:pt x="126" y="888"/>
                  </a:lnTo>
                  <a:lnTo>
                    <a:pt x="128" y="886"/>
                  </a:lnTo>
                  <a:lnTo>
                    <a:pt x="129" y="886"/>
                  </a:lnTo>
                  <a:lnTo>
                    <a:pt x="129" y="888"/>
                  </a:lnTo>
                  <a:lnTo>
                    <a:pt x="131" y="888"/>
                  </a:lnTo>
                  <a:lnTo>
                    <a:pt x="131" y="888"/>
                  </a:lnTo>
                  <a:close/>
                  <a:moveTo>
                    <a:pt x="161" y="919"/>
                  </a:moveTo>
                  <a:lnTo>
                    <a:pt x="164" y="922"/>
                  </a:lnTo>
                  <a:lnTo>
                    <a:pt x="174" y="930"/>
                  </a:lnTo>
                  <a:lnTo>
                    <a:pt x="176" y="931"/>
                  </a:lnTo>
                  <a:lnTo>
                    <a:pt x="176" y="933"/>
                  </a:lnTo>
                  <a:lnTo>
                    <a:pt x="176" y="933"/>
                  </a:lnTo>
                  <a:lnTo>
                    <a:pt x="176" y="934"/>
                  </a:lnTo>
                  <a:lnTo>
                    <a:pt x="174" y="936"/>
                  </a:lnTo>
                  <a:lnTo>
                    <a:pt x="173" y="936"/>
                  </a:lnTo>
                  <a:lnTo>
                    <a:pt x="171" y="936"/>
                  </a:lnTo>
                  <a:lnTo>
                    <a:pt x="171" y="936"/>
                  </a:lnTo>
                  <a:lnTo>
                    <a:pt x="159" y="925"/>
                  </a:lnTo>
                  <a:lnTo>
                    <a:pt x="156" y="924"/>
                  </a:lnTo>
                  <a:lnTo>
                    <a:pt x="156" y="922"/>
                  </a:lnTo>
                  <a:lnTo>
                    <a:pt x="155" y="921"/>
                  </a:lnTo>
                  <a:lnTo>
                    <a:pt x="156" y="919"/>
                  </a:lnTo>
                  <a:lnTo>
                    <a:pt x="156" y="919"/>
                  </a:lnTo>
                  <a:lnTo>
                    <a:pt x="158" y="918"/>
                  </a:lnTo>
                  <a:lnTo>
                    <a:pt x="158" y="918"/>
                  </a:lnTo>
                  <a:lnTo>
                    <a:pt x="159" y="918"/>
                  </a:lnTo>
                  <a:lnTo>
                    <a:pt x="161" y="919"/>
                  </a:lnTo>
                  <a:lnTo>
                    <a:pt x="161" y="919"/>
                  </a:lnTo>
                  <a:close/>
                  <a:moveTo>
                    <a:pt x="194" y="945"/>
                  </a:moveTo>
                  <a:lnTo>
                    <a:pt x="210" y="954"/>
                  </a:lnTo>
                  <a:lnTo>
                    <a:pt x="210" y="955"/>
                  </a:lnTo>
                  <a:lnTo>
                    <a:pt x="212" y="955"/>
                  </a:lnTo>
                  <a:lnTo>
                    <a:pt x="212" y="957"/>
                  </a:lnTo>
                  <a:lnTo>
                    <a:pt x="210" y="958"/>
                  </a:lnTo>
                  <a:lnTo>
                    <a:pt x="210" y="960"/>
                  </a:lnTo>
                  <a:lnTo>
                    <a:pt x="209" y="960"/>
                  </a:lnTo>
                  <a:lnTo>
                    <a:pt x="207" y="960"/>
                  </a:lnTo>
                  <a:lnTo>
                    <a:pt x="207" y="960"/>
                  </a:lnTo>
                  <a:lnTo>
                    <a:pt x="191" y="949"/>
                  </a:lnTo>
                  <a:lnTo>
                    <a:pt x="191" y="949"/>
                  </a:lnTo>
                  <a:lnTo>
                    <a:pt x="189" y="948"/>
                  </a:lnTo>
                  <a:lnTo>
                    <a:pt x="189" y="946"/>
                  </a:lnTo>
                  <a:lnTo>
                    <a:pt x="189" y="945"/>
                  </a:lnTo>
                  <a:lnTo>
                    <a:pt x="191" y="945"/>
                  </a:lnTo>
                  <a:lnTo>
                    <a:pt x="192" y="945"/>
                  </a:lnTo>
                  <a:lnTo>
                    <a:pt x="192" y="945"/>
                  </a:lnTo>
                  <a:lnTo>
                    <a:pt x="194" y="945"/>
                  </a:lnTo>
                  <a:lnTo>
                    <a:pt x="194" y="945"/>
                  </a:lnTo>
                  <a:close/>
                  <a:moveTo>
                    <a:pt x="231" y="964"/>
                  </a:moveTo>
                  <a:lnTo>
                    <a:pt x="245" y="970"/>
                  </a:lnTo>
                  <a:lnTo>
                    <a:pt x="245" y="970"/>
                  </a:lnTo>
                  <a:lnTo>
                    <a:pt x="250" y="970"/>
                  </a:lnTo>
                  <a:lnTo>
                    <a:pt x="250" y="970"/>
                  </a:lnTo>
                  <a:lnTo>
                    <a:pt x="251" y="972"/>
                  </a:lnTo>
                  <a:lnTo>
                    <a:pt x="251" y="973"/>
                  </a:lnTo>
                  <a:lnTo>
                    <a:pt x="251" y="975"/>
                  </a:lnTo>
                  <a:lnTo>
                    <a:pt x="251" y="975"/>
                  </a:lnTo>
                  <a:lnTo>
                    <a:pt x="250" y="976"/>
                  </a:lnTo>
                  <a:lnTo>
                    <a:pt x="248" y="976"/>
                  </a:lnTo>
                  <a:lnTo>
                    <a:pt x="248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30" y="970"/>
                  </a:lnTo>
                  <a:lnTo>
                    <a:pt x="228" y="969"/>
                  </a:lnTo>
                  <a:lnTo>
                    <a:pt x="228" y="969"/>
                  </a:lnTo>
                  <a:lnTo>
                    <a:pt x="228" y="967"/>
                  </a:lnTo>
                  <a:lnTo>
                    <a:pt x="228" y="966"/>
                  </a:lnTo>
                  <a:lnTo>
                    <a:pt x="228" y="964"/>
                  </a:lnTo>
                  <a:lnTo>
                    <a:pt x="230" y="964"/>
                  </a:lnTo>
                  <a:lnTo>
                    <a:pt x="231" y="964"/>
                  </a:lnTo>
                  <a:lnTo>
                    <a:pt x="231" y="964"/>
                  </a:lnTo>
                  <a:lnTo>
                    <a:pt x="231" y="964"/>
                  </a:lnTo>
                  <a:close/>
                  <a:moveTo>
                    <a:pt x="274" y="976"/>
                  </a:moveTo>
                  <a:lnTo>
                    <a:pt x="275" y="978"/>
                  </a:lnTo>
                  <a:lnTo>
                    <a:pt x="275" y="976"/>
                  </a:lnTo>
                  <a:lnTo>
                    <a:pt x="292" y="978"/>
                  </a:lnTo>
                  <a:lnTo>
                    <a:pt x="293" y="979"/>
                  </a:lnTo>
                  <a:lnTo>
                    <a:pt x="293" y="981"/>
                  </a:lnTo>
                  <a:lnTo>
                    <a:pt x="293" y="982"/>
                  </a:lnTo>
                  <a:lnTo>
                    <a:pt x="293" y="984"/>
                  </a:lnTo>
                  <a:lnTo>
                    <a:pt x="292" y="984"/>
                  </a:lnTo>
                  <a:lnTo>
                    <a:pt x="290" y="984"/>
                  </a:lnTo>
                  <a:lnTo>
                    <a:pt x="275" y="982"/>
                  </a:lnTo>
                  <a:lnTo>
                    <a:pt x="274" y="982"/>
                  </a:lnTo>
                  <a:lnTo>
                    <a:pt x="274" y="982"/>
                  </a:lnTo>
                  <a:lnTo>
                    <a:pt x="271" y="982"/>
                  </a:lnTo>
                  <a:lnTo>
                    <a:pt x="271" y="982"/>
                  </a:lnTo>
                  <a:lnTo>
                    <a:pt x="269" y="981"/>
                  </a:lnTo>
                  <a:lnTo>
                    <a:pt x="269" y="979"/>
                  </a:lnTo>
                  <a:lnTo>
                    <a:pt x="269" y="979"/>
                  </a:lnTo>
                  <a:lnTo>
                    <a:pt x="271" y="976"/>
                  </a:lnTo>
                  <a:lnTo>
                    <a:pt x="272" y="976"/>
                  </a:lnTo>
                  <a:lnTo>
                    <a:pt x="274" y="976"/>
                  </a:lnTo>
                  <a:lnTo>
                    <a:pt x="274" y="976"/>
                  </a:lnTo>
                  <a:close/>
                  <a:moveTo>
                    <a:pt x="314" y="979"/>
                  </a:moveTo>
                  <a:lnTo>
                    <a:pt x="334" y="978"/>
                  </a:lnTo>
                  <a:lnTo>
                    <a:pt x="335" y="978"/>
                  </a:lnTo>
                  <a:lnTo>
                    <a:pt x="335" y="978"/>
                  </a:lnTo>
                  <a:lnTo>
                    <a:pt x="337" y="979"/>
                  </a:lnTo>
                  <a:lnTo>
                    <a:pt x="337" y="979"/>
                  </a:lnTo>
                  <a:lnTo>
                    <a:pt x="337" y="981"/>
                  </a:lnTo>
                  <a:lnTo>
                    <a:pt x="337" y="982"/>
                  </a:lnTo>
                  <a:lnTo>
                    <a:pt x="335" y="982"/>
                  </a:lnTo>
                  <a:lnTo>
                    <a:pt x="334" y="984"/>
                  </a:lnTo>
                  <a:lnTo>
                    <a:pt x="316" y="985"/>
                  </a:lnTo>
                  <a:lnTo>
                    <a:pt x="314" y="985"/>
                  </a:lnTo>
                  <a:lnTo>
                    <a:pt x="313" y="984"/>
                  </a:lnTo>
                  <a:lnTo>
                    <a:pt x="313" y="984"/>
                  </a:lnTo>
                  <a:lnTo>
                    <a:pt x="313" y="982"/>
                  </a:lnTo>
                  <a:lnTo>
                    <a:pt x="313" y="981"/>
                  </a:lnTo>
                  <a:lnTo>
                    <a:pt x="313" y="979"/>
                  </a:lnTo>
                  <a:lnTo>
                    <a:pt x="314" y="979"/>
                  </a:lnTo>
                  <a:lnTo>
                    <a:pt x="314" y="979"/>
                  </a:lnTo>
                  <a:lnTo>
                    <a:pt x="314" y="979"/>
                  </a:lnTo>
                  <a:close/>
                  <a:moveTo>
                    <a:pt x="356" y="972"/>
                  </a:moveTo>
                  <a:lnTo>
                    <a:pt x="365" y="970"/>
                  </a:lnTo>
                  <a:lnTo>
                    <a:pt x="365" y="970"/>
                  </a:lnTo>
                  <a:lnTo>
                    <a:pt x="374" y="966"/>
                  </a:lnTo>
                  <a:lnTo>
                    <a:pt x="376" y="966"/>
                  </a:lnTo>
                  <a:lnTo>
                    <a:pt x="376" y="966"/>
                  </a:lnTo>
                  <a:lnTo>
                    <a:pt x="377" y="967"/>
                  </a:lnTo>
                  <a:lnTo>
                    <a:pt x="379" y="967"/>
                  </a:lnTo>
                  <a:lnTo>
                    <a:pt x="379" y="969"/>
                  </a:lnTo>
                  <a:lnTo>
                    <a:pt x="377" y="970"/>
                  </a:lnTo>
                  <a:lnTo>
                    <a:pt x="377" y="972"/>
                  </a:lnTo>
                  <a:lnTo>
                    <a:pt x="376" y="972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58" y="978"/>
                  </a:lnTo>
                  <a:lnTo>
                    <a:pt x="358" y="978"/>
                  </a:lnTo>
                  <a:lnTo>
                    <a:pt x="356" y="978"/>
                  </a:lnTo>
                  <a:lnTo>
                    <a:pt x="355" y="976"/>
                  </a:lnTo>
                  <a:lnTo>
                    <a:pt x="355" y="976"/>
                  </a:lnTo>
                  <a:lnTo>
                    <a:pt x="355" y="975"/>
                  </a:lnTo>
                  <a:lnTo>
                    <a:pt x="355" y="973"/>
                  </a:lnTo>
                  <a:lnTo>
                    <a:pt x="356" y="972"/>
                  </a:lnTo>
                  <a:lnTo>
                    <a:pt x="356" y="972"/>
                  </a:lnTo>
                  <a:lnTo>
                    <a:pt x="356" y="972"/>
                  </a:lnTo>
                  <a:close/>
                  <a:moveTo>
                    <a:pt x="397" y="957"/>
                  </a:moveTo>
                  <a:lnTo>
                    <a:pt x="412" y="948"/>
                  </a:lnTo>
                  <a:lnTo>
                    <a:pt x="413" y="946"/>
                  </a:lnTo>
                  <a:lnTo>
                    <a:pt x="415" y="946"/>
                  </a:lnTo>
                  <a:lnTo>
                    <a:pt x="415" y="948"/>
                  </a:lnTo>
                  <a:lnTo>
                    <a:pt x="416" y="948"/>
                  </a:lnTo>
                  <a:lnTo>
                    <a:pt x="416" y="949"/>
                  </a:lnTo>
                  <a:lnTo>
                    <a:pt x="416" y="951"/>
                  </a:lnTo>
                  <a:lnTo>
                    <a:pt x="416" y="952"/>
                  </a:lnTo>
                  <a:lnTo>
                    <a:pt x="415" y="952"/>
                  </a:lnTo>
                  <a:lnTo>
                    <a:pt x="400" y="963"/>
                  </a:lnTo>
                  <a:lnTo>
                    <a:pt x="398" y="963"/>
                  </a:lnTo>
                  <a:lnTo>
                    <a:pt x="397" y="963"/>
                  </a:lnTo>
                  <a:lnTo>
                    <a:pt x="395" y="961"/>
                  </a:lnTo>
                  <a:lnTo>
                    <a:pt x="395" y="961"/>
                  </a:lnTo>
                  <a:lnTo>
                    <a:pt x="395" y="960"/>
                  </a:lnTo>
                  <a:lnTo>
                    <a:pt x="395" y="958"/>
                  </a:lnTo>
                  <a:lnTo>
                    <a:pt x="395" y="957"/>
                  </a:lnTo>
                  <a:lnTo>
                    <a:pt x="397" y="957"/>
                  </a:lnTo>
                  <a:lnTo>
                    <a:pt x="397" y="957"/>
                  </a:lnTo>
                  <a:close/>
                  <a:moveTo>
                    <a:pt x="431" y="934"/>
                  </a:moveTo>
                  <a:lnTo>
                    <a:pt x="446" y="922"/>
                  </a:lnTo>
                  <a:lnTo>
                    <a:pt x="448" y="922"/>
                  </a:lnTo>
                  <a:lnTo>
                    <a:pt x="449" y="921"/>
                  </a:lnTo>
                  <a:lnTo>
                    <a:pt x="449" y="922"/>
                  </a:lnTo>
                  <a:lnTo>
                    <a:pt x="451" y="922"/>
                  </a:lnTo>
                  <a:lnTo>
                    <a:pt x="451" y="924"/>
                  </a:lnTo>
                  <a:lnTo>
                    <a:pt x="451" y="925"/>
                  </a:lnTo>
                  <a:lnTo>
                    <a:pt x="451" y="925"/>
                  </a:lnTo>
                  <a:lnTo>
                    <a:pt x="451" y="927"/>
                  </a:lnTo>
                  <a:lnTo>
                    <a:pt x="436" y="939"/>
                  </a:lnTo>
                  <a:lnTo>
                    <a:pt x="434" y="939"/>
                  </a:lnTo>
                  <a:lnTo>
                    <a:pt x="433" y="939"/>
                  </a:lnTo>
                  <a:lnTo>
                    <a:pt x="433" y="939"/>
                  </a:lnTo>
                  <a:lnTo>
                    <a:pt x="431" y="937"/>
                  </a:lnTo>
                  <a:lnTo>
                    <a:pt x="431" y="937"/>
                  </a:lnTo>
                  <a:lnTo>
                    <a:pt x="431" y="936"/>
                  </a:lnTo>
                  <a:lnTo>
                    <a:pt x="431" y="934"/>
                  </a:lnTo>
                  <a:lnTo>
                    <a:pt x="431" y="934"/>
                  </a:lnTo>
                  <a:lnTo>
                    <a:pt x="431" y="934"/>
                  </a:lnTo>
                  <a:close/>
                  <a:moveTo>
                    <a:pt x="464" y="904"/>
                  </a:moveTo>
                  <a:lnTo>
                    <a:pt x="472" y="897"/>
                  </a:lnTo>
                  <a:lnTo>
                    <a:pt x="476" y="892"/>
                  </a:lnTo>
                  <a:lnTo>
                    <a:pt x="478" y="891"/>
                  </a:lnTo>
                  <a:lnTo>
                    <a:pt x="478" y="891"/>
                  </a:lnTo>
                  <a:lnTo>
                    <a:pt x="479" y="891"/>
                  </a:lnTo>
                  <a:lnTo>
                    <a:pt x="481" y="891"/>
                  </a:lnTo>
                  <a:lnTo>
                    <a:pt x="482" y="892"/>
                  </a:lnTo>
                  <a:lnTo>
                    <a:pt x="482" y="894"/>
                  </a:lnTo>
                  <a:lnTo>
                    <a:pt x="482" y="895"/>
                  </a:lnTo>
                  <a:lnTo>
                    <a:pt x="481" y="895"/>
                  </a:lnTo>
                  <a:lnTo>
                    <a:pt x="476" y="901"/>
                  </a:lnTo>
                  <a:lnTo>
                    <a:pt x="469" y="910"/>
                  </a:lnTo>
                  <a:lnTo>
                    <a:pt x="467" y="910"/>
                  </a:lnTo>
                  <a:lnTo>
                    <a:pt x="466" y="910"/>
                  </a:lnTo>
                  <a:lnTo>
                    <a:pt x="464" y="910"/>
                  </a:lnTo>
                  <a:lnTo>
                    <a:pt x="464" y="910"/>
                  </a:lnTo>
                  <a:lnTo>
                    <a:pt x="463" y="909"/>
                  </a:lnTo>
                  <a:lnTo>
                    <a:pt x="463" y="907"/>
                  </a:lnTo>
                  <a:lnTo>
                    <a:pt x="463" y="906"/>
                  </a:lnTo>
                  <a:lnTo>
                    <a:pt x="464" y="904"/>
                  </a:lnTo>
                  <a:lnTo>
                    <a:pt x="464" y="904"/>
                  </a:lnTo>
                  <a:close/>
                  <a:moveTo>
                    <a:pt x="491" y="873"/>
                  </a:moveTo>
                  <a:lnTo>
                    <a:pt x="496" y="868"/>
                  </a:lnTo>
                  <a:lnTo>
                    <a:pt x="503" y="857"/>
                  </a:lnTo>
                  <a:lnTo>
                    <a:pt x="503" y="857"/>
                  </a:lnTo>
                  <a:lnTo>
                    <a:pt x="505" y="856"/>
                  </a:lnTo>
                  <a:lnTo>
                    <a:pt x="506" y="856"/>
                  </a:lnTo>
                  <a:lnTo>
                    <a:pt x="506" y="857"/>
                  </a:lnTo>
                  <a:lnTo>
                    <a:pt x="508" y="857"/>
                  </a:lnTo>
                  <a:lnTo>
                    <a:pt x="508" y="859"/>
                  </a:lnTo>
                  <a:lnTo>
                    <a:pt x="508" y="860"/>
                  </a:lnTo>
                  <a:lnTo>
                    <a:pt x="508" y="862"/>
                  </a:lnTo>
                  <a:lnTo>
                    <a:pt x="500" y="873"/>
                  </a:lnTo>
                  <a:lnTo>
                    <a:pt x="497" y="877"/>
                  </a:lnTo>
                  <a:lnTo>
                    <a:pt x="496" y="877"/>
                  </a:lnTo>
                  <a:lnTo>
                    <a:pt x="494" y="879"/>
                  </a:lnTo>
                  <a:lnTo>
                    <a:pt x="494" y="877"/>
                  </a:lnTo>
                  <a:lnTo>
                    <a:pt x="493" y="877"/>
                  </a:lnTo>
                  <a:lnTo>
                    <a:pt x="491" y="876"/>
                  </a:lnTo>
                  <a:lnTo>
                    <a:pt x="491" y="876"/>
                  </a:lnTo>
                  <a:lnTo>
                    <a:pt x="491" y="873"/>
                  </a:lnTo>
                  <a:lnTo>
                    <a:pt x="491" y="873"/>
                  </a:lnTo>
                  <a:close/>
                  <a:moveTo>
                    <a:pt x="517" y="838"/>
                  </a:moveTo>
                  <a:lnTo>
                    <a:pt x="517" y="838"/>
                  </a:lnTo>
                  <a:lnTo>
                    <a:pt x="526" y="821"/>
                  </a:lnTo>
                  <a:lnTo>
                    <a:pt x="526" y="820"/>
                  </a:lnTo>
                  <a:lnTo>
                    <a:pt x="527" y="820"/>
                  </a:lnTo>
                  <a:lnTo>
                    <a:pt x="529" y="820"/>
                  </a:lnTo>
                  <a:lnTo>
                    <a:pt x="530" y="820"/>
                  </a:lnTo>
                  <a:lnTo>
                    <a:pt x="530" y="821"/>
                  </a:lnTo>
                  <a:lnTo>
                    <a:pt x="532" y="821"/>
                  </a:lnTo>
                  <a:lnTo>
                    <a:pt x="532" y="823"/>
                  </a:lnTo>
                  <a:lnTo>
                    <a:pt x="530" y="824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0" y="842"/>
                  </a:lnTo>
                  <a:lnTo>
                    <a:pt x="518" y="842"/>
                  </a:lnTo>
                  <a:lnTo>
                    <a:pt x="517" y="842"/>
                  </a:lnTo>
                  <a:lnTo>
                    <a:pt x="517" y="841"/>
                  </a:lnTo>
                  <a:lnTo>
                    <a:pt x="515" y="839"/>
                  </a:lnTo>
                  <a:lnTo>
                    <a:pt x="517" y="838"/>
                  </a:lnTo>
                  <a:lnTo>
                    <a:pt x="517" y="838"/>
                  </a:lnTo>
                  <a:lnTo>
                    <a:pt x="517" y="838"/>
                  </a:lnTo>
                  <a:close/>
                  <a:moveTo>
                    <a:pt x="538" y="800"/>
                  </a:moveTo>
                  <a:lnTo>
                    <a:pt x="545" y="784"/>
                  </a:lnTo>
                  <a:lnTo>
                    <a:pt x="545" y="782"/>
                  </a:lnTo>
                  <a:lnTo>
                    <a:pt x="547" y="782"/>
                  </a:lnTo>
                  <a:lnTo>
                    <a:pt x="548" y="782"/>
                  </a:lnTo>
                  <a:lnTo>
                    <a:pt x="550" y="782"/>
                  </a:lnTo>
                  <a:lnTo>
                    <a:pt x="551" y="784"/>
                  </a:lnTo>
                  <a:lnTo>
                    <a:pt x="551" y="785"/>
                  </a:lnTo>
                  <a:lnTo>
                    <a:pt x="550" y="785"/>
                  </a:lnTo>
                  <a:lnTo>
                    <a:pt x="542" y="803"/>
                  </a:lnTo>
                  <a:lnTo>
                    <a:pt x="542" y="803"/>
                  </a:lnTo>
                  <a:lnTo>
                    <a:pt x="541" y="805"/>
                  </a:lnTo>
                  <a:lnTo>
                    <a:pt x="539" y="805"/>
                  </a:lnTo>
                  <a:lnTo>
                    <a:pt x="539" y="803"/>
                  </a:lnTo>
                  <a:lnTo>
                    <a:pt x="538" y="803"/>
                  </a:lnTo>
                  <a:lnTo>
                    <a:pt x="538" y="802"/>
                  </a:lnTo>
                  <a:lnTo>
                    <a:pt x="538" y="802"/>
                  </a:lnTo>
                  <a:lnTo>
                    <a:pt x="538" y="800"/>
                  </a:lnTo>
                  <a:lnTo>
                    <a:pt x="538" y="800"/>
                  </a:lnTo>
                  <a:close/>
                  <a:moveTo>
                    <a:pt x="556" y="761"/>
                  </a:moveTo>
                  <a:lnTo>
                    <a:pt x="562" y="743"/>
                  </a:lnTo>
                  <a:lnTo>
                    <a:pt x="562" y="742"/>
                  </a:lnTo>
                  <a:lnTo>
                    <a:pt x="564" y="742"/>
                  </a:lnTo>
                  <a:lnTo>
                    <a:pt x="565" y="742"/>
                  </a:lnTo>
                  <a:lnTo>
                    <a:pt x="565" y="742"/>
                  </a:lnTo>
                  <a:lnTo>
                    <a:pt x="567" y="742"/>
                  </a:lnTo>
                  <a:lnTo>
                    <a:pt x="568" y="743"/>
                  </a:lnTo>
                  <a:lnTo>
                    <a:pt x="568" y="745"/>
                  </a:lnTo>
                  <a:lnTo>
                    <a:pt x="568" y="746"/>
                  </a:lnTo>
                  <a:lnTo>
                    <a:pt x="561" y="763"/>
                  </a:lnTo>
                  <a:lnTo>
                    <a:pt x="561" y="764"/>
                  </a:lnTo>
                  <a:lnTo>
                    <a:pt x="559" y="764"/>
                  </a:lnTo>
                  <a:lnTo>
                    <a:pt x="557" y="766"/>
                  </a:lnTo>
                  <a:lnTo>
                    <a:pt x="557" y="764"/>
                  </a:lnTo>
                  <a:lnTo>
                    <a:pt x="556" y="764"/>
                  </a:lnTo>
                  <a:lnTo>
                    <a:pt x="556" y="763"/>
                  </a:lnTo>
                  <a:lnTo>
                    <a:pt x="554" y="763"/>
                  </a:lnTo>
                  <a:lnTo>
                    <a:pt x="556" y="761"/>
                  </a:lnTo>
                  <a:lnTo>
                    <a:pt x="556" y="761"/>
                  </a:lnTo>
                  <a:close/>
                  <a:moveTo>
                    <a:pt x="570" y="721"/>
                  </a:moveTo>
                  <a:lnTo>
                    <a:pt x="576" y="702"/>
                  </a:lnTo>
                  <a:lnTo>
                    <a:pt x="576" y="701"/>
                  </a:lnTo>
                  <a:lnTo>
                    <a:pt x="577" y="701"/>
                  </a:lnTo>
                  <a:lnTo>
                    <a:pt x="577" y="701"/>
                  </a:lnTo>
                  <a:lnTo>
                    <a:pt x="579" y="701"/>
                  </a:lnTo>
                  <a:lnTo>
                    <a:pt x="580" y="702"/>
                  </a:lnTo>
                  <a:lnTo>
                    <a:pt x="582" y="702"/>
                  </a:lnTo>
                  <a:lnTo>
                    <a:pt x="582" y="704"/>
                  </a:lnTo>
                  <a:lnTo>
                    <a:pt x="576" y="722"/>
                  </a:lnTo>
                  <a:lnTo>
                    <a:pt x="576" y="724"/>
                  </a:lnTo>
                  <a:lnTo>
                    <a:pt x="574" y="724"/>
                  </a:lnTo>
                  <a:lnTo>
                    <a:pt x="573" y="725"/>
                  </a:lnTo>
                  <a:lnTo>
                    <a:pt x="573" y="725"/>
                  </a:lnTo>
                  <a:lnTo>
                    <a:pt x="571" y="724"/>
                  </a:lnTo>
                  <a:lnTo>
                    <a:pt x="570" y="722"/>
                  </a:lnTo>
                  <a:lnTo>
                    <a:pt x="570" y="722"/>
                  </a:lnTo>
                  <a:lnTo>
                    <a:pt x="570" y="721"/>
                  </a:lnTo>
                  <a:lnTo>
                    <a:pt x="570" y="721"/>
                  </a:lnTo>
                  <a:close/>
                  <a:moveTo>
                    <a:pt x="582" y="678"/>
                  </a:moveTo>
                  <a:lnTo>
                    <a:pt x="586" y="660"/>
                  </a:lnTo>
                  <a:lnTo>
                    <a:pt x="586" y="660"/>
                  </a:lnTo>
                  <a:lnTo>
                    <a:pt x="588" y="659"/>
                  </a:lnTo>
                  <a:lnTo>
                    <a:pt x="589" y="659"/>
                  </a:lnTo>
                  <a:lnTo>
                    <a:pt x="589" y="659"/>
                  </a:lnTo>
                  <a:lnTo>
                    <a:pt x="591" y="659"/>
                  </a:lnTo>
                  <a:lnTo>
                    <a:pt x="592" y="660"/>
                  </a:lnTo>
                  <a:lnTo>
                    <a:pt x="592" y="660"/>
                  </a:lnTo>
                  <a:lnTo>
                    <a:pt x="592" y="662"/>
                  </a:lnTo>
                  <a:lnTo>
                    <a:pt x="588" y="680"/>
                  </a:lnTo>
                  <a:lnTo>
                    <a:pt x="588" y="681"/>
                  </a:lnTo>
                  <a:lnTo>
                    <a:pt x="586" y="683"/>
                  </a:lnTo>
                  <a:lnTo>
                    <a:pt x="586" y="683"/>
                  </a:lnTo>
                  <a:lnTo>
                    <a:pt x="585" y="683"/>
                  </a:lnTo>
                  <a:lnTo>
                    <a:pt x="583" y="681"/>
                  </a:lnTo>
                  <a:lnTo>
                    <a:pt x="582" y="681"/>
                  </a:lnTo>
                  <a:lnTo>
                    <a:pt x="582" y="680"/>
                  </a:lnTo>
                  <a:lnTo>
                    <a:pt x="582" y="678"/>
                  </a:lnTo>
                  <a:lnTo>
                    <a:pt x="582" y="678"/>
                  </a:lnTo>
                  <a:close/>
                  <a:moveTo>
                    <a:pt x="592" y="636"/>
                  </a:moveTo>
                  <a:lnTo>
                    <a:pt x="594" y="618"/>
                  </a:lnTo>
                  <a:lnTo>
                    <a:pt x="595" y="618"/>
                  </a:lnTo>
                  <a:lnTo>
                    <a:pt x="595" y="617"/>
                  </a:lnTo>
                  <a:lnTo>
                    <a:pt x="597" y="617"/>
                  </a:lnTo>
                  <a:lnTo>
                    <a:pt x="598" y="617"/>
                  </a:lnTo>
                  <a:lnTo>
                    <a:pt x="600" y="617"/>
                  </a:lnTo>
                  <a:lnTo>
                    <a:pt x="600" y="617"/>
                  </a:lnTo>
                  <a:lnTo>
                    <a:pt x="601" y="618"/>
                  </a:lnTo>
                  <a:lnTo>
                    <a:pt x="601" y="620"/>
                  </a:lnTo>
                  <a:lnTo>
                    <a:pt x="598" y="638"/>
                  </a:lnTo>
                  <a:lnTo>
                    <a:pt x="597" y="639"/>
                  </a:lnTo>
                  <a:lnTo>
                    <a:pt x="597" y="639"/>
                  </a:lnTo>
                  <a:lnTo>
                    <a:pt x="595" y="641"/>
                  </a:lnTo>
                  <a:lnTo>
                    <a:pt x="594" y="641"/>
                  </a:lnTo>
                  <a:lnTo>
                    <a:pt x="594" y="641"/>
                  </a:lnTo>
                  <a:lnTo>
                    <a:pt x="592" y="639"/>
                  </a:lnTo>
                  <a:lnTo>
                    <a:pt x="592" y="638"/>
                  </a:lnTo>
                  <a:lnTo>
                    <a:pt x="592" y="636"/>
                  </a:lnTo>
                  <a:lnTo>
                    <a:pt x="592" y="636"/>
                  </a:lnTo>
                  <a:close/>
                  <a:moveTo>
                    <a:pt x="598" y="594"/>
                  </a:moveTo>
                  <a:lnTo>
                    <a:pt x="600" y="591"/>
                  </a:lnTo>
                  <a:lnTo>
                    <a:pt x="600" y="576"/>
                  </a:lnTo>
                  <a:lnTo>
                    <a:pt x="601" y="575"/>
                  </a:lnTo>
                  <a:lnTo>
                    <a:pt x="603" y="573"/>
                  </a:lnTo>
                  <a:lnTo>
                    <a:pt x="604" y="573"/>
                  </a:lnTo>
                  <a:lnTo>
                    <a:pt x="604" y="573"/>
                  </a:lnTo>
                  <a:lnTo>
                    <a:pt x="606" y="575"/>
                  </a:lnTo>
                  <a:lnTo>
                    <a:pt x="606" y="575"/>
                  </a:lnTo>
                  <a:lnTo>
                    <a:pt x="606" y="576"/>
                  </a:lnTo>
                  <a:lnTo>
                    <a:pt x="604" y="591"/>
                  </a:lnTo>
                  <a:lnTo>
                    <a:pt x="604" y="596"/>
                  </a:lnTo>
                  <a:lnTo>
                    <a:pt x="604" y="596"/>
                  </a:lnTo>
                  <a:lnTo>
                    <a:pt x="603" y="597"/>
                  </a:lnTo>
                  <a:lnTo>
                    <a:pt x="603" y="597"/>
                  </a:lnTo>
                  <a:lnTo>
                    <a:pt x="601" y="597"/>
                  </a:lnTo>
                  <a:lnTo>
                    <a:pt x="600" y="597"/>
                  </a:lnTo>
                  <a:lnTo>
                    <a:pt x="598" y="597"/>
                  </a:lnTo>
                  <a:lnTo>
                    <a:pt x="598" y="596"/>
                  </a:lnTo>
                  <a:lnTo>
                    <a:pt x="598" y="594"/>
                  </a:lnTo>
                  <a:lnTo>
                    <a:pt x="598" y="594"/>
                  </a:lnTo>
                  <a:close/>
                  <a:moveTo>
                    <a:pt x="603" y="550"/>
                  </a:moveTo>
                  <a:lnTo>
                    <a:pt x="604" y="541"/>
                  </a:lnTo>
                  <a:lnTo>
                    <a:pt x="604" y="532"/>
                  </a:lnTo>
                  <a:lnTo>
                    <a:pt x="604" y="532"/>
                  </a:lnTo>
                  <a:lnTo>
                    <a:pt x="604" y="531"/>
                  </a:lnTo>
                  <a:lnTo>
                    <a:pt x="606" y="529"/>
                  </a:lnTo>
                  <a:lnTo>
                    <a:pt x="607" y="529"/>
                  </a:lnTo>
                  <a:lnTo>
                    <a:pt x="609" y="529"/>
                  </a:lnTo>
                  <a:lnTo>
                    <a:pt x="609" y="531"/>
                  </a:lnTo>
                  <a:lnTo>
                    <a:pt x="610" y="532"/>
                  </a:lnTo>
                  <a:lnTo>
                    <a:pt x="610" y="534"/>
                  </a:lnTo>
                  <a:lnTo>
                    <a:pt x="609" y="543"/>
                  </a:lnTo>
                  <a:lnTo>
                    <a:pt x="609" y="552"/>
                  </a:lnTo>
                  <a:lnTo>
                    <a:pt x="609" y="553"/>
                  </a:lnTo>
                  <a:lnTo>
                    <a:pt x="607" y="553"/>
                  </a:lnTo>
                  <a:lnTo>
                    <a:pt x="607" y="555"/>
                  </a:lnTo>
                  <a:lnTo>
                    <a:pt x="606" y="555"/>
                  </a:lnTo>
                  <a:lnTo>
                    <a:pt x="604" y="555"/>
                  </a:lnTo>
                  <a:lnTo>
                    <a:pt x="603" y="553"/>
                  </a:lnTo>
                  <a:lnTo>
                    <a:pt x="603" y="552"/>
                  </a:lnTo>
                  <a:lnTo>
                    <a:pt x="603" y="550"/>
                  </a:lnTo>
                  <a:lnTo>
                    <a:pt x="603" y="550"/>
                  </a:lnTo>
                  <a:close/>
                  <a:moveTo>
                    <a:pt x="604" y="508"/>
                  </a:moveTo>
                  <a:lnTo>
                    <a:pt x="604" y="492"/>
                  </a:lnTo>
                  <a:lnTo>
                    <a:pt x="604" y="490"/>
                  </a:lnTo>
                  <a:lnTo>
                    <a:pt x="606" y="489"/>
                  </a:lnTo>
                  <a:lnTo>
                    <a:pt x="606" y="487"/>
                  </a:lnTo>
                  <a:lnTo>
                    <a:pt x="607" y="487"/>
                  </a:lnTo>
                  <a:lnTo>
                    <a:pt x="609" y="487"/>
                  </a:lnTo>
                  <a:lnTo>
                    <a:pt x="610" y="487"/>
                  </a:lnTo>
                  <a:lnTo>
                    <a:pt x="610" y="489"/>
                  </a:lnTo>
                  <a:lnTo>
                    <a:pt x="612" y="490"/>
                  </a:lnTo>
                  <a:lnTo>
                    <a:pt x="612" y="492"/>
                  </a:lnTo>
                  <a:lnTo>
                    <a:pt x="610" y="508"/>
                  </a:lnTo>
                  <a:lnTo>
                    <a:pt x="610" y="510"/>
                  </a:lnTo>
                  <a:lnTo>
                    <a:pt x="610" y="511"/>
                  </a:lnTo>
                  <a:lnTo>
                    <a:pt x="609" y="511"/>
                  </a:lnTo>
                  <a:lnTo>
                    <a:pt x="607" y="511"/>
                  </a:lnTo>
                  <a:lnTo>
                    <a:pt x="606" y="511"/>
                  </a:lnTo>
                  <a:lnTo>
                    <a:pt x="606" y="510"/>
                  </a:lnTo>
                  <a:lnTo>
                    <a:pt x="604" y="510"/>
                  </a:lnTo>
                  <a:lnTo>
                    <a:pt x="604" y="508"/>
                  </a:lnTo>
                  <a:lnTo>
                    <a:pt x="604" y="508"/>
                  </a:lnTo>
                  <a:close/>
                  <a:moveTo>
                    <a:pt x="604" y="465"/>
                  </a:moveTo>
                  <a:lnTo>
                    <a:pt x="604" y="447"/>
                  </a:lnTo>
                  <a:lnTo>
                    <a:pt x="604" y="445"/>
                  </a:lnTo>
                  <a:lnTo>
                    <a:pt x="604" y="445"/>
                  </a:lnTo>
                  <a:lnTo>
                    <a:pt x="607" y="444"/>
                  </a:lnTo>
                  <a:lnTo>
                    <a:pt x="607" y="444"/>
                  </a:lnTo>
                  <a:lnTo>
                    <a:pt x="609" y="444"/>
                  </a:lnTo>
                  <a:lnTo>
                    <a:pt x="610" y="445"/>
                  </a:lnTo>
                  <a:lnTo>
                    <a:pt x="610" y="447"/>
                  </a:lnTo>
                  <a:lnTo>
                    <a:pt x="610" y="465"/>
                  </a:lnTo>
                  <a:lnTo>
                    <a:pt x="610" y="466"/>
                  </a:lnTo>
                  <a:lnTo>
                    <a:pt x="609" y="468"/>
                  </a:lnTo>
                  <a:lnTo>
                    <a:pt x="609" y="468"/>
                  </a:lnTo>
                  <a:lnTo>
                    <a:pt x="607" y="468"/>
                  </a:lnTo>
                  <a:lnTo>
                    <a:pt x="606" y="468"/>
                  </a:lnTo>
                  <a:lnTo>
                    <a:pt x="606" y="468"/>
                  </a:lnTo>
                  <a:lnTo>
                    <a:pt x="604" y="466"/>
                  </a:lnTo>
                  <a:lnTo>
                    <a:pt x="604" y="465"/>
                  </a:lnTo>
                  <a:lnTo>
                    <a:pt x="604" y="465"/>
                  </a:lnTo>
                  <a:close/>
                  <a:moveTo>
                    <a:pt x="601" y="423"/>
                  </a:moveTo>
                  <a:lnTo>
                    <a:pt x="600" y="404"/>
                  </a:lnTo>
                  <a:lnTo>
                    <a:pt x="600" y="403"/>
                  </a:lnTo>
                  <a:lnTo>
                    <a:pt x="601" y="401"/>
                  </a:lnTo>
                  <a:lnTo>
                    <a:pt x="601" y="400"/>
                  </a:lnTo>
                  <a:lnTo>
                    <a:pt x="603" y="400"/>
                  </a:lnTo>
                  <a:lnTo>
                    <a:pt x="604" y="400"/>
                  </a:lnTo>
                  <a:lnTo>
                    <a:pt x="606" y="401"/>
                  </a:lnTo>
                  <a:lnTo>
                    <a:pt x="606" y="401"/>
                  </a:lnTo>
                  <a:lnTo>
                    <a:pt x="606" y="403"/>
                  </a:lnTo>
                  <a:lnTo>
                    <a:pt x="607" y="421"/>
                  </a:lnTo>
                  <a:lnTo>
                    <a:pt x="607" y="423"/>
                  </a:lnTo>
                  <a:lnTo>
                    <a:pt x="607" y="424"/>
                  </a:lnTo>
                  <a:lnTo>
                    <a:pt x="606" y="424"/>
                  </a:lnTo>
                  <a:lnTo>
                    <a:pt x="604" y="426"/>
                  </a:lnTo>
                  <a:lnTo>
                    <a:pt x="604" y="426"/>
                  </a:lnTo>
                  <a:lnTo>
                    <a:pt x="603" y="424"/>
                  </a:lnTo>
                  <a:lnTo>
                    <a:pt x="603" y="423"/>
                  </a:lnTo>
                  <a:lnTo>
                    <a:pt x="601" y="423"/>
                  </a:lnTo>
                  <a:lnTo>
                    <a:pt x="601" y="423"/>
                  </a:lnTo>
                  <a:close/>
                  <a:moveTo>
                    <a:pt x="597" y="379"/>
                  </a:moveTo>
                  <a:lnTo>
                    <a:pt x="594" y="361"/>
                  </a:lnTo>
                  <a:lnTo>
                    <a:pt x="594" y="359"/>
                  </a:lnTo>
                  <a:lnTo>
                    <a:pt x="594" y="359"/>
                  </a:lnTo>
                  <a:lnTo>
                    <a:pt x="595" y="358"/>
                  </a:lnTo>
                  <a:lnTo>
                    <a:pt x="597" y="358"/>
                  </a:lnTo>
                  <a:lnTo>
                    <a:pt x="598" y="358"/>
                  </a:lnTo>
                  <a:lnTo>
                    <a:pt x="598" y="358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3" y="379"/>
                  </a:lnTo>
                  <a:lnTo>
                    <a:pt x="603" y="379"/>
                  </a:lnTo>
                  <a:lnTo>
                    <a:pt x="603" y="380"/>
                  </a:lnTo>
                  <a:lnTo>
                    <a:pt x="601" y="382"/>
                  </a:lnTo>
                  <a:lnTo>
                    <a:pt x="600" y="382"/>
                  </a:lnTo>
                  <a:lnTo>
                    <a:pt x="600" y="382"/>
                  </a:lnTo>
                  <a:lnTo>
                    <a:pt x="598" y="382"/>
                  </a:lnTo>
                  <a:lnTo>
                    <a:pt x="597" y="380"/>
                  </a:lnTo>
                  <a:lnTo>
                    <a:pt x="597" y="379"/>
                  </a:lnTo>
                  <a:lnTo>
                    <a:pt x="597" y="379"/>
                  </a:lnTo>
                  <a:close/>
                  <a:moveTo>
                    <a:pt x="589" y="337"/>
                  </a:moveTo>
                  <a:lnTo>
                    <a:pt x="585" y="319"/>
                  </a:lnTo>
                  <a:lnTo>
                    <a:pt x="585" y="317"/>
                  </a:lnTo>
                  <a:lnTo>
                    <a:pt x="586" y="317"/>
                  </a:lnTo>
                  <a:lnTo>
                    <a:pt x="586" y="316"/>
                  </a:lnTo>
                  <a:lnTo>
                    <a:pt x="588" y="316"/>
                  </a:lnTo>
                  <a:lnTo>
                    <a:pt x="589" y="316"/>
                  </a:lnTo>
                  <a:lnTo>
                    <a:pt x="589" y="316"/>
                  </a:lnTo>
                  <a:lnTo>
                    <a:pt x="591" y="316"/>
                  </a:lnTo>
                  <a:lnTo>
                    <a:pt x="591" y="317"/>
                  </a:lnTo>
                  <a:lnTo>
                    <a:pt x="595" y="335"/>
                  </a:lnTo>
                  <a:lnTo>
                    <a:pt x="595" y="337"/>
                  </a:lnTo>
                  <a:lnTo>
                    <a:pt x="595" y="338"/>
                  </a:lnTo>
                  <a:lnTo>
                    <a:pt x="594" y="338"/>
                  </a:lnTo>
                  <a:lnTo>
                    <a:pt x="592" y="340"/>
                  </a:lnTo>
                  <a:lnTo>
                    <a:pt x="592" y="340"/>
                  </a:lnTo>
                  <a:lnTo>
                    <a:pt x="591" y="338"/>
                  </a:lnTo>
                  <a:lnTo>
                    <a:pt x="589" y="338"/>
                  </a:lnTo>
                  <a:lnTo>
                    <a:pt x="589" y="337"/>
                  </a:lnTo>
                  <a:lnTo>
                    <a:pt x="589" y="337"/>
                  </a:lnTo>
                  <a:close/>
                  <a:moveTo>
                    <a:pt x="579" y="295"/>
                  </a:moveTo>
                  <a:lnTo>
                    <a:pt x="574" y="278"/>
                  </a:lnTo>
                  <a:lnTo>
                    <a:pt x="574" y="277"/>
                  </a:lnTo>
                  <a:lnTo>
                    <a:pt x="574" y="275"/>
                  </a:lnTo>
                  <a:lnTo>
                    <a:pt x="574" y="274"/>
                  </a:lnTo>
                  <a:lnTo>
                    <a:pt x="576" y="274"/>
                  </a:lnTo>
                  <a:lnTo>
                    <a:pt x="577" y="274"/>
                  </a:lnTo>
                  <a:lnTo>
                    <a:pt x="579" y="274"/>
                  </a:lnTo>
                  <a:lnTo>
                    <a:pt x="579" y="275"/>
                  </a:lnTo>
                  <a:lnTo>
                    <a:pt x="580" y="275"/>
                  </a:lnTo>
                  <a:lnTo>
                    <a:pt x="585" y="293"/>
                  </a:lnTo>
                  <a:lnTo>
                    <a:pt x="585" y="295"/>
                  </a:lnTo>
                  <a:lnTo>
                    <a:pt x="585" y="296"/>
                  </a:lnTo>
                  <a:lnTo>
                    <a:pt x="585" y="296"/>
                  </a:lnTo>
                  <a:lnTo>
                    <a:pt x="583" y="298"/>
                  </a:lnTo>
                  <a:lnTo>
                    <a:pt x="582" y="298"/>
                  </a:lnTo>
                  <a:lnTo>
                    <a:pt x="580" y="296"/>
                  </a:lnTo>
                  <a:lnTo>
                    <a:pt x="579" y="295"/>
                  </a:lnTo>
                  <a:lnTo>
                    <a:pt x="579" y="295"/>
                  </a:lnTo>
                  <a:close/>
                  <a:moveTo>
                    <a:pt x="567" y="254"/>
                  </a:moveTo>
                  <a:lnTo>
                    <a:pt x="561" y="236"/>
                  </a:lnTo>
                  <a:lnTo>
                    <a:pt x="559" y="234"/>
                  </a:lnTo>
                  <a:lnTo>
                    <a:pt x="561" y="234"/>
                  </a:lnTo>
                  <a:lnTo>
                    <a:pt x="561" y="233"/>
                  </a:lnTo>
                  <a:lnTo>
                    <a:pt x="562" y="233"/>
                  </a:lnTo>
                  <a:lnTo>
                    <a:pt x="564" y="231"/>
                  </a:lnTo>
                  <a:lnTo>
                    <a:pt x="564" y="233"/>
                  </a:lnTo>
                  <a:lnTo>
                    <a:pt x="565" y="233"/>
                  </a:lnTo>
                  <a:lnTo>
                    <a:pt x="565" y="234"/>
                  </a:lnTo>
                  <a:lnTo>
                    <a:pt x="573" y="252"/>
                  </a:lnTo>
                  <a:lnTo>
                    <a:pt x="573" y="252"/>
                  </a:lnTo>
                  <a:lnTo>
                    <a:pt x="573" y="254"/>
                  </a:lnTo>
                  <a:lnTo>
                    <a:pt x="571" y="255"/>
                  </a:lnTo>
                  <a:lnTo>
                    <a:pt x="570" y="255"/>
                  </a:lnTo>
                  <a:lnTo>
                    <a:pt x="568" y="255"/>
                  </a:lnTo>
                  <a:lnTo>
                    <a:pt x="567" y="255"/>
                  </a:lnTo>
                  <a:lnTo>
                    <a:pt x="567" y="254"/>
                  </a:lnTo>
                  <a:lnTo>
                    <a:pt x="567" y="254"/>
                  </a:lnTo>
                  <a:close/>
                  <a:moveTo>
                    <a:pt x="551" y="213"/>
                  </a:moveTo>
                  <a:lnTo>
                    <a:pt x="544" y="197"/>
                  </a:lnTo>
                  <a:lnTo>
                    <a:pt x="542" y="195"/>
                  </a:lnTo>
                  <a:lnTo>
                    <a:pt x="544" y="194"/>
                  </a:lnTo>
                  <a:lnTo>
                    <a:pt x="544" y="194"/>
                  </a:lnTo>
                  <a:lnTo>
                    <a:pt x="545" y="192"/>
                  </a:lnTo>
                  <a:lnTo>
                    <a:pt x="545" y="192"/>
                  </a:lnTo>
                  <a:lnTo>
                    <a:pt x="547" y="192"/>
                  </a:lnTo>
                  <a:lnTo>
                    <a:pt x="548" y="194"/>
                  </a:lnTo>
                  <a:lnTo>
                    <a:pt x="548" y="194"/>
                  </a:lnTo>
                  <a:lnTo>
                    <a:pt x="556" y="210"/>
                  </a:lnTo>
                  <a:lnTo>
                    <a:pt x="557" y="212"/>
                  </a:lnTo>
                  <a:lnTo>
                    <a:pt x="556" y="213"/>
                  </a:lnTo>
                  <a:lnTo>
                    <a:pt x="556" y="215"/>
                  </a:lnTo>
                  <a:lnTo>
                    <a:pt x="554" y="215"/>
                  </a:lnTo>
                  <a:lnTo>
                    <a:pt x="554" y="215"/>
                  </a:lnTo>
                  <a:lnTo>
                    <a:pt x="553" y="215"/>
                  </a:lnTo>
                  <a:lnTo>
                    <a:pt x="551" y="215"/>
                  </a:lnTo>
                  <a:lnTo>
                    <a:pt x="551" y="213"/>
                  </a:lnTo>
                  <a:lnTo>
                    <a:pt x="551" y="213"/>
                  </a:lnTo>
                  <a:close/>
                  <a:moveTo>
                    <a:pt x="532" y="174"/>
                  </a:moveTo>
                  <a:lnTo>
                    <a:pt x="523" y="159"/>
                  </a:lnTo>
                  <a:lnTo>
                    <a:pt x="523" y="158"/>
                  </a:lnTo>
                  <a:lnTo>
                    <a:pt x="523" y="156"/>
                  </a:lnTo>
                  <a:lnTo>
                    <a:pt x="523" y="155"/>
                  </a:lnTo>
                  <a:lnTo>
                    <a:pt x="524" y="155"/>
                  </a:lnTo>
                  <a:lnTo>
                    <a:pt x="526" y="155"/>
                  </a:lnTo>
                  <a:lnTo>
                    <a:pt x="527" y="155"/>
                  </a:lnTo>
                  <a:lnTo>
                    <a:pt x="527" y="155"/>
                  </a:lnTo>
                  <a:lnTo>
                    <a:pt x="529" y="156"/>
                  </a:lnTo>
                  <a:lnTo>
                    <a:pt x="538" y="171"/>
                  </a:lnTo>
                  <a:lnTo>
                    <a:pt x="538" y="173"/>
                  </a:lnTo>
                  <a:lnTo>
                    <a:pt x="538" y="174"/>
                  </a:lnTo>
                  <a:lnTo>
                    <a:pt x="538" y="176"/>
                  </a:lnTo>
                  <a:lnTo>
                    <a:pt x="536" y="176"/>
                  </a:lnTo>
                  <a:lnTo>
                    <a:pt x="535" y="176"/>
                  </a:lnTo>
                  <a:lnTo>
                    <a:pt x="535" y="176"/>
                  </a:lnTo>
                  <a:lnTo>
                    <a:pt x="533" y="176"/>
                  </a:lnTo>
                  <a:lnTo>
                    <a:pt x="532" y="174"/>
                  </a:lnTo>
                  <a:lnTo>
                    <a:pt x="532" y="174"/>
                  </a:lnTo>
                  <a:close/>
                  <a:moveTo>
                    <a:pt x="511" y="138"/>
                  </a:moveTo>
                  <a:lnTo>
                    <a:pt x="500" y="122"/>
                  </a:lnTo>
                  <a:lnTo>
                    <a:pt x="500" y="122"/>
                  </a:lnTo>
                  <a:lnTo>
                    <a:pt x="500" y="120"/>
                  </a:lnTo>
                  <a:lnTo>
                    <a:pt x="500" y="119"/>
                  </a:lnTo>
                  <a:lnTo>
                    <a:pt x="502" y="117"/>
                  </a:lnTo>
                  <a:lnTo>
                    <a:pt x="503" y="117"/>
                  </a:lnTo>
                  <a:lnTo>
                    <a:pt x="505" y="119"/>
                  </a:lnTo>
                  <a:lnTo>
                    <a:pt x="505" y="119"/>
                  </a:lnTo>
                  <a:lnTo>
                    <a:pt x="515" y="134"/>
                  </a:lnTo>
                  <a:lnTo>
                    <a:pt x="517" y="135"/>
                  </a:lnTo>
                  <a:lnTo>
                    <a:pt x="517" y="137"/>
                  </a:lnTo>
                  <a:lnTo>
                    <a:pt x="515" y="138"/>
                  </a:lnTo>
                  <a:lnTo>
                    <a:pt x="515" y="138"/>
                  </a:lnTo>
                  <a:lnTo>
                    <a:pt x="514" y="140"/>
                  </a:lnTo>
                  <a:lnTo>
                    <a:pt x="512" y="140"/>
                  </a:lnTo>
                  <a:lnTo>
                    <a:pt x="511" y="138"/>
                  </a:lnTo>
                  <a:lnTo>
                    <a:pt x="511" y="138"/>
                  </a:lnTo>
                  <a:lnTo>
                    <a:pt x="511" y="138"/>
                  </a:lnTo>
                  <a:close/>
                  <a:moveTo>
                    <a:pt x="485" y="103"/>
                  </a:moveTo>
                  <a:lnTo>
                    <a:pt x="473" y="88"/>
                  </a:lnTo>
                  <a:lnTo>
                    <a:pt x="473" y="88"/>
                  </a:lnTo>
                  <a:lnTo>
                    <a:pt x="473" y="87"/>
                  </a:lnTo>
                  <a:lnTo>
                    <a:pt x="473" y="85"/>
                  </a:lnTo>
                  <a:lnTo>
                    <a:pt x="473" y="84"/>
                  </a:lnTo>
                  <a:lnTo>
                    <a:pt x="475" y="84"/>
                  </a:lnTo>
                  <a:lnTo>
                    <a:pt x="476" y="84"/>
                  </a:lnTo>
                  <a:lnTo>
                    <a:pt x="478" y="84"/>
                  </a:lnTo>
                  <a:lnTo>
                    <a:pt x="478" y="85"/>
                  </a:lnTo>
                  <a:lnTo>
                    <a:pt x="490" y="99"/>
                  </a:lnTo>
                  <a:lnTo>
                    <a:pt x="491" y="100"/>
                  </a:lnTo>
                  <a:lnTo>
                    <a:pt x="491" y="102"/>
                  </a:lnTo>
                  <a:lnTo>
                    <a:pt x="490" y="102"/>
                  </a:lnTo>
                  <a:lnTo>
                    <a:pt x="490" y="103"/>
                  </a:lnTo>
                  <a:lnTo>
                    <a:pt x="488" y="103"/>
                  </a:lnTo>
                  <a:lnTo>
                    <a:pt x="487" y="103"/>
                  </a:lnTo>
                  <a:lnTo>
                    <a:pt x="487" y="103"/>
                  </a:lnTo>
                  <a:lnTo>
                    <a:pt x="485" y="103"/>
                  </a:lnTo>
                  <a:lnTo>
                    <a:pt x="485" y="103"/>
                  </a:lnTo>
                  <a:close/>
                  <a:moveTo>
                    <a:pt x="457" y="72"/>
                  </a:moveTo>
                  <a:lnTo>
                    <a:pt x="448" y="63"/>
                  </a:lnTo>
                  <a:lnTo>
                    <a:pt x="443" y="60"/>
                  </a:lnTo>
                  <a:lnTo>
                    <a:pt x="442" y="58"/>
                  </a:lnTo>
                  <a:lnTo>
                    <a:pt x="442" y="57"/>
                  </a:lnTo>
                  <a:lnTo>
                    <a:pt x="442" y="55"/>
                  </a:lnTo>
                  <a:lnTo>
                    <a:pt x="442" y="55"/>
                  </a:lnTo>
                  <a:lnTo>
                    <a:pt x="443" y="54"/>
                  </a:lnTo>
                  <a:lnTo>
                    <a:pt x="445" y="54"/>
                  </a:lnTo>
                  <a:lnTo>
                    <a:pt x="446" y="54"/>
                  </a:lnTo>
                  <a:lnTo>
                    <a:pt x="446" y="55"/>
                  </a:lnTo>
                  <a:lnTo>
                    <a:pt x="452" y="58"/>
                  </a:lnTo>
                  <a:lnTo>
                    <a:pt x="460" y="67"/>
                  </a:lnTo>
                  <a:lnTo>
                    <a:pt x="461" y="69"/>
                  </a:lnTo>
                  <a:lnTo>
                    <a:pt x="461" y="69"/>
                  </a:lnTo>
                  <a:lnTo>
                    <a:pt x="461" y="70"/>
                  </a:lnTo>
                  <a:lnTo>
                    <a:pt x="460" y="72"/>
                  </a:lnTo>
                  <a:lnTo>
                    <a:pt x="460" y="72"/>
                  </a:lnTo>
                  <a:lnTo>
                    <a:pt x="458" y="72"/>
                  </a:lnTo>
                  <a:lnTo>
                    <a:pt x="457" y="72"/>
                  </a:lnTo>
                  <a:lnTo>
                    <a:pt x="457" y="72"/>
                  </a:lnTo>
                  <a:lnTo>
                    <a:pt x="457" y="72"/>
                  </a:lnTo>
                  <a:close/>
                  <a:moveTo>
                    <a:pt x="424" y="45"/>
                  </a:moveTo>
                  <a:lnTo>
                    <a:pt x="422" y="43"/>
                  </a:lnTo>
                  <a:lnTo>
                    <a:pt x="409" y="34"/>
                  </a:lnTo>
                  <a:lnTo>
                    <a:pt x="407" y="34"/>
                  </a:lnTo>
                  <a:lnTo>
                    <a:pt x="407" y="33"/>
                  </a:lnTo>
                  <a:lnTo>
                    <a:pt x="407" y="31"/>
                  </a:lnTo>
                  <a:lnTo>
                    <a:pt x="407" y="30"/>
                  </a:lnTo>
                  <a:lnTo>
                    <a:pt x="407" y="30"/>
                  </a:lnTo>
                  <a:lnTo>
                    <a:pt x="409" y="28"/>
                  </a:lnTo>
                  <a:lnTo>
                    <a:pt x="410" y="28"/>
                  </a:lnTo>
                  <a:lnTo>
                    <a:pt x="412" y="30"/>
                  </a:lnTo>
                  <a:lnTo>
                    <a:pt x="425" y="37"/>
                  </a:lnTo>
                  <a:lnTo>
                    <a:pt x="427" y="39"/>
                  </a:lnTo>
                  <a:lnTo>
                    <a:pt x="428" y="40"/>
                  </a:lnTo>
                  <a:lnTo>
                    <a:pt x="428" y="42"/>
                  </a:lnTo>
                  <a:lnTo>
                    <a:pt x="428" y="42"/>
                  </a:lnTo>
                  <a:lnTo>
                    <a:pt x="428" y="43"/>
                  </a:lnTo>
                  <a:lnTo>
                    <a:pt x="427" y="45"/>
                  </a:lnTo>
                  <a:lnTo>
                    <a:pt x="425" y="45"/>
                  </a:lnTo>
                  <a:lnTo>
                    <a:pt x="424" y="45"/>
                  </a:lnTo>
                  <a:lnTo>
                    <a:pt x="424" y="45"/>
                  </a:lnTo>
                  <a:lnTo>
                    <a:pt x="424" y="45"/>
                  </a:lnTo>
                  <a:close/>
                  <a:moveTo>
                    <a:pt x="386" y="24"/>
                  </a:moveTo>
                  <a:lnTo>
                    <a:pt x="370" y="16"/>
                  </a:lnTo>
                  <a:lnTo>
                    <a:pt x="368" y="16"/>
                  </a:lnTo>
                  <a:lnTo>
                    <a:pt x="368" y="15"/>
                  </a:lnTo>
                  <a:lnTo>
                    <a:pt x="368" y="13"/>
                  </a:lnTo>
                  <a:lnTo>
                    <a:pt x="368" y="12"/>
                  </a:lnTo>
                  <a:lnTo>
                    <a:pt x="368" y="12"/>
                  </a:lnTo>
                  <a:lnTo>
                    <a:pt x="370" y="10"/>
                  </a:lnTo>
                  <a:lnTo>
                    <a:pt x="371" y="10"/>
                  </a:lnTo>
                  <a:lnTo>
                    <a:pt x="371" y="10"/>
                  </a:lnTo>
                  <a:lnTo>
                    <a:pt x="389" y="18"/>
                  </a:lnTo>
                  <a:lnTo>
                    <a:pt x="391" y="18"/>
                  </a:lnTo>
                  <a:lnTo>
                    <a:pt x="391" y="19"/>
                  </a:lnTo>
                  <a:lnTo>
                    <a:pt x="391" y="21"/>
                  </a:lnTo>
                  <a:lnTo>
                    <a:pt x="391" y="21"/>
                  </a:lnTo>
                  <a:lnTo>
                    <a:pt x="389" y="24"/>
                  </a:lnTo>
                  <a:lnTo>
                    <a:pt x="388" y="24"/>
                  </a:lnTo>
                  <a:lnTo>
                    <a:pt x="386" y="24"/>
                  </a:lnTo>
                  <a:lnTo>
                    <a:pt x="386" y="24"/>
                  </a:lnTo>
                  <a:close/>
                  <a:moveTo>
                    <a:pt x="347" y="10"/>
                  </a:moveTo>
                  <a:lnTo>
                    <a:pt x="335" y="7"/>
                  </a:lnTo>
                  <a:lnTo>
                    <a:pt x="335" y="7"/>
                  </a:lnTo>
                  <a:lnTo>
                    <a:pt x="334" y="6"/>
                  </a:lnTo>
                  <a:lnTo>
                    <a:pt x="334" y="4"/>
                  </a:lnTo>
                  <a:lnTo>
                    <a:pt x="334" y="4"/>
                  </a:lnTo>
                  <a:lnTo>
                    <a:pt x="334" y="3"/>
                  </a:lnTo>
                  <a:lnTo>
                    <a:pt x="335" y="1"/>
                  </a:lnTo>
                  <a:lnTo>
                    <a:pt x="335" y="1"/>
                  </a:lnTo>
                  <a:lnTo>
                    <a:pt x="337" y="1"/>
                  </a:lnTo>
                  <a:lnTo>
                    <a:pt x="347" y="4"/>
                  </a:lnTo>
                  <a:lnTo>
                    <a:pt x="349" y="4"/>
                  </a:lnTo>
                  <a:lnTo>
                    <a:pt x="350" y="6"/>
                  </a:lnTo>
                  <a:lnTo>
                    <a:pt x="350" y="6"/>
                  </a:lnTo>
                  <a:lnTo>
                    <a:pt x="350" y="7"/>
                  </a:lnTo>
                  <a:lnTo>
                    <a:pt x="349" y="9"/>
                  </a:lnTo>
                  <a:lnTo>
                    <a:pt x="349" y="9"/>
                  </a:lnTo>
                  <a:lnTo>
                    <a:pt x="347" y="10"/>
                  </a:lnTo>
                  <a:lnTo>
                    <a:pt x="347" y="10"/>
                  </a:lnTo>
                  <a:lnTo>
                    <a:pt x="347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6480" y="5510160"/>
              <a:ext cx="3794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A          B                              J        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1150920" y="3859200"/>
              <a:ext cx="1677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1       3      5    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160" y="5902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studio buenas prácticas e-g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6360" y="1900080"/>
          <a:ext cx="6551640" cy="3834000"/>
        </p:xfrm>
        <a:graphic>
          <a:graphicData uri="http://schemas.openxmlformats.org/drawingml/2006/table">
            <a:tbl>
              <a:tblPr/>
              <a:tblGrid>
                <a:gridCol w="1297080"/>
                <a:gridCol w="5254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 de Evaluación de Impacto Ambiental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Bonos de a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V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al subsidio de 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RC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certific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G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o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P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ro electrónico de provee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Informe de deudas del Sistema Financiero (Gestión Documental)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Pago cotizaciones de INP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laración en línea de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D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electrónica al crédito solid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C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ramitación de Derechos de Propiedad Web y Pago en Línea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Y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mitefacil.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Uso de Iniciativ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16000" y="1679400"/>
          <a:ext cx="6840720" cy="44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679400"/>
                    <a:ext cx="684072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ácticas observa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47640" y="1654200"/>
          <a:ext cx="6120000" cy="4511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54200"/>
                    <a:ext cx="61200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incipales prácticas observad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erte motivación y orientación hacia el gobierno electrón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ormación de equipo multidisciplin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finición de la dirección en forma clara y prec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yuda a usuarios y ciudadanos por varios ca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sistemática y periódica de la o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24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6T17:07:49Z</dcterms:modified>
  <cp:revision>77</cp:revision>
  <dc:subject/>
  <dc:title>Introducción al Análisis de los Sistemas de Información Administrativos</dc:title>
</cp:coreProperties>
</file>