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265-5F89-4D59-A3C9-1325867A96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D1A0-F1D9-4795-A3E1-CBB79C6C02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703-79DB-4758-A16B-5044EE36D8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45EF8-9A28-46A8-B56F-ED8602C7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09B12-FEE7-496A-B170-0E9EBA47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DAF1E-A798-485D-9F6F-1A8AA73C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11DEE-A7F8-448F-BAAC-A2158BC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CF4A7-7509-4770-8BFD-F42EE2F6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1F117-8CBC-4244-A198-CE27577B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C0E91-B898-4B2E-90D8-F393616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11320-A762-4C77-943C-12D07224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6D64D-79CA-4F73-B72C-F5B2CC1D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51B66-9622-4117-9EC5-329EBA7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60511-201F-42A8-B5C9-7B35C160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A1E02-2E26-4CE9-B8B6-0589062C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4DF0-A9DF-48A2-AC2D-7755B12DA6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17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4T06:08:14Z</dcterms:modified>
  <cp:revision>75</cp:revision>
  <dc:subject/>
  <dc:title>Introducción al Análisis de los Sistemas de Información Administrativos</dc:title>
</cp:coreProperties>
</file>