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7AD4-F201-451A-951E-FA7EF2EF48C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8FC5-CADF-42DE-938E-54C6B9A96B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12920" y="826920"/>
            <a:ext cx="4155840" cy="3116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FCCB-6A02-4CF3-8E97-4A022AD61F9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11120" y="82692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8E332-EA5E-4E0E-B8F1-0B63B473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81B8D-A621-456B-B394-62C55234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1DB5C-F2B6-48A4-8D6E-A15E54C6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8B009-0DBB-47F7-8B88-4FB3B1B8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BF631-1FB3-483A-8409-9BA0FBCB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705AC-2FCF-4D7B-98F6-BF798C0A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61723-8615-44F6-9BF4-002752E7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580CE-96D3-43D0-A623-C67716C8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D27A4-70B3-426E-84BD-4729ED3D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13B5E-F85E-4D25-9D84-F7E35736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57803-C0F2-4E1B-A781-6345AB19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F0E33-6F86-4633-BD27-F425A6B0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6A7A-2B87-4AA0-9140-822C84EC993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ediseño de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métr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o en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idie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sultas a exper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s con algunas medidas de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optim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simul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r 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994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cual(es) será(n) la(s) línea(s) de cambio, puede ser la  que aporte más a los objetivos del rediseño, las que pueden ser cuat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novar (cambiar paradigm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coordin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estructurar (cambiar relacion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programación y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uno o más de los elementos involucrados en el proce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rigen de la Dirección de Camb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76520"/>
            <a:ext cx="813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donde se origina la necesidad de redise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ieb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desperdicios (ineficienci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malas prácticas que cambi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s nue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usiones o adquisi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ce de Problemas, Oportunidades (como condiciones de mercado, benchmarking, tendencias) o Directrices (dueñ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8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atriz de Cambi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(antecedentes y SW en </a:t>
            </a:r>
            <a:r>
              <a:rPr b="0" lang="es-ES_tradnl" sz="3700" spc="-1" strike="noStrike">
                <a:solidFill>
                  <a:srgbClr val="000099"/>
                </a:solidFill>
                <a:latin typeface="Tahoma"/>
              </a:rPr>
              <a:t>http://ebusiness.mit.edu/erik/</a:t>
            </a: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Cambio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MoC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Herramienta para administrar el proceso de cambio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(derivado de un redise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ñ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éxito depende de la coordinación simultánea entre varios fact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pturar relaciones entre prácticas de trabajo, permite alcanzar un cambio coordinado (en vez de aislad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ntecedentes Econométri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os cambios organizacionales complementarios son (al menos) igual de importantes que l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s 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versiones en TI, para el incremento de la productivid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58360" y="1752120"/>
            <a:ext cx="8433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procesos cr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quipo multidisciplinar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istar: Objetivos y formas de crear val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Obtener detalladamente las: 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Prácticas existente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 Prácticas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interacciones en el sistema (de refuerz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interferencia, + o -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ctual y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base a teorías, estadísticas o experi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as interacciones de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transi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fuerzo (+) o interferencia (-), al pasar de las prácticas actuales a las prácticas obje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agentes involucr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Valoración de prác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28800" y="1697040"/>
            <a:ext cx="6662880" cy="4475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C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ctibi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herencia y estabilidad: Actual y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ficultad de la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cu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prácticas actuales sin efectos o que soportan muchas otras prácticas actu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bloques completos. Luego, se pueden hacer al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mplementar prácticas objetivo que complementan las actuales o soportan muchas otras prácticas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Velocidad y naturaleza del camb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terminar grupos de prácticas a cambiar simultáneam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 velocidad del cambio dentro de un bloque debe ser alta, mientras que la velocidad entre bloques puede ser len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istorial de resistencia implica minimizar tiempos de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bios radicales pueden ser realizados en etapas incrementales (adoptadores tardíos pueden accesar el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how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why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de los adoptadores tempranos) o de gol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bjetivos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ic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tareas sin aporte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holguras (tiempos muer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ec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gregar valor con los camb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administrado y predeci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l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iferentes intereses involucrados en 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alor dado a Prácticas Actuales o Prácticas Objetivo por los agentes involucrados, implica su nivel de apoyo al camb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e considerar Incentivos y Valor neto agreg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c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ueden referirse a Modelos Mentales (objetivos, valores, sistemas, estructur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siderar: Nueva o Adaptación de la ac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8165880" cy="2303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s Complej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sos intermed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D puede requeri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B, B a C, C a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Ritmo y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turaleza del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o </a:t>
            </a:r>
            <a:br>
              <a:rPr sz="30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precio al C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o (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rasgo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ltur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br>
              <a:rPr sz="21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ncia de Presiones Exter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2209680"/>
            <a:ext cx="4419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mportancia de incorporar al error como un proceso de aprendizaj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hechando a perder se aprend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133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cias en la evaluación que hacen los stakeholders sobre las prácticas actuales y deseadas.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90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38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4467240" cy="272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67280" y="5013360"/>
            <a:ext cx="914400" cy="571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mentarios sobre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erramienta para identificar la facilidad y dificultades de realizar un camb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bliga a los participantes a “explicitar” la situación actual, el cambio deseado y su valo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Mecanismo de comunicación al interior de la organización para facilitar los cambios propues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ificultades en la implementación: prácticas, el signo de las interrelaciones y la elección del equipo de trabaj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antación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Gent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o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ecnología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o 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ecnología de Ayuda a la Coordinació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932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701640"/>
            <a:ext cx="80010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os o más usuarios deben interactuar para cumplir con sus funciones organiz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o puede ser estructurado o desestructurado, síncrono o asíncro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ejado históricamente a través de: flujo de papeles, comunicación directa (verbal o telefónica), procedimientos administrativos que definen a priori la actu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88620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milar al Groupware, que permite hacer fluir los documentos, en forma automática, entre usuarios para cumplir u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X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752480"/>
            <a:ext cx="792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oup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compartir por parte de usuarios uno o más documentos a través de un kardex electró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LOTUS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300720" y="189000"/>
          <a:ext cx="13939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189000"/>
                    <a:ext cx="13939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aracterísticas Relev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4680" y="2444760"/>
            <a:ext cx="383364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Almacenamiento, indexación y acceso a cualquier tip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Permite mezclar información de documento, generando vistas de interés para las necesidades del usuari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Correo electrónico, agenda, planificación de actividades (individuales y de grupo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Gestión de información Web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44640" y="2408040"/>
            <a:ext cx="3840120" cy="25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Especificación de formularios, lógica asociada y modelo gráfico de fluj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Orientado a  proces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Control de secuencia de tareas y quienes la realizan, la información que soporta las tareas, mas el seguimiento y mecanismos de reporte que las miden y controla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31504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2894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ftware Generador de 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466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 en Red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295640" cy="1047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5800" y="219240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66840"/>
            <a:ext cx="396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OUP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166840"/>
            <a:ext cx="4038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municaciones Corporativ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Formularios electrónicos, rutas y reglas predefinidas, Administración de Roles Diná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trol de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ff0000"/>
              </a:buClr>
              <a:buSzPct val="6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Herramienta para el seguimiento y control de procesos administra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paz de integrar todas las plataformas de la empresa 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aldo automá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larmas automáticas, calendarios: múltiples - horari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uditoria: Quién y qué Rol representa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istoria: Para cada mensaje saber por donde pasó, qué se hizo, quién lo hizo, que acciones automáticas se activar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451640" y="189000"/>
          <a:ext cx="1401840" cy="11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189000"/>
                    <a:ext cx="14018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9992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ablece los cambios que deberán efectuarse en la situación actual y detalla como se ejecutarán los nuevos proces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 la fase más importante, ya que se definirán las nuevas formas de operar y su desemp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reas de rediseñ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l: cambio en el proceso mismo (cambian las operaciones, se eliminan duplicidade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onsabilidades: se modifica la asignación de  responsabilidad (personal, incorporación de tecnología, centralizar o descentralizar responsabilidades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48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olaboración - Secuenciamien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3960" y="1612440"/>
            <a:ext cx="8554320" cy="4626360"/>
            <a:chOff x="453960" y="1612440"/>
            <a:chExt cx="8554320" cy="4626360"/>
          </a:xfrm>
        </p:grpSpPr>
        <p:sp>
          <p:nvSpPr>
            <p:cNvPr id="172" name=""/>
            <p:cNvSpPr/>
            <p:nvPr/>
          </p:nvSpPr>
          <p:spPr>
            <a:xfrm flipV="1">
              <a:off x="1731960" y="2018160"/>
              <a:ext cx="1080" cy="37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91560" y="5594760"/>
              <a:ext cx="5821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0520" y="1707480"/>
              <a:ext cx="21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structu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3960" y="263736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9400" y="4229280"/>
              <a:ext cx="14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97640" y="55587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nfo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671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809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52800" y="4150440"/>
              <a:ext cx="1472760" cy="89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olabora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3080" y="3601800"/>
              <a:ext cx="1539360" cy="965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-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86440" y="2981160"/>
              <a:ext cx="1893240" cy="103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ministr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59200" y="2499840"/>
              <a:ext cx="1472760" cy="96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4720" y="2018520"/>
              <a:ext cx="4137480" cy="2682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82320" y="2340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63240" y="4996440"/>
              <a:ext cx="236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otus Notes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crosoft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85880" y="454104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lowmark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Xnear (Xnear - Chi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etro (ActionTe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869800" y="4012560"/>
              <a:ext cx="701280" cy="61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9760" y="1612440"/>
              <a:ext cx="363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Visual Workflow (FileN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430680" y="2087280"/>
              <a:ext cx="350640" cy="34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676520" y="3505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8006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Impedimentos para su U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1700280"/>
          <a:ext cx="6676920" cy="384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700280"/>
                    <a:ext cx="66769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32000" y="5661000"/>
            <a:ext cx="7308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esta 500 Usuarios Group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ww.compinfo-center.com/pqpwr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316160" cy="12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Producto : XN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942840" cy="100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419640" y="2349360"/>
            <a:ext cx="3962160" cy="2819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5219640" y="3213000"/>
            <a:ext cx="3505320" cy="2819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90920" y="5715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1828440"/>
            <a:ext cx="815472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acionalización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7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los procedimientos administrativos son adecuados a los sistemas computacionales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diseño Organizacional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 85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rofundo en la estructura organizacional. Ya la organización no volverá a ser nunca más la mis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ingeniería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9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inventamos la empresa. Todo esta en revisión, los productos, los mercados, los mét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fundidad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aluación de la Situación Ac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 dirección(es) de cambio(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lantación del rediseño propuesto (Gente, Producto, Tecnología, Proceso y Client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sta en Marcha y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cursos Productiv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n a los elementos que son utilizados para el desarrollo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 Proce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rocedimientos, reglas y distribución física de las operaciones (model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ga de Trabaj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arámetros que describen la carga de trabajo, es decir, el tipo, frecuencia y comportami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iveles de Serv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representa la definición de aquellos indicadores de calidad del proces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7560" y="506160"/>
            <a:ext cx="7404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tuación Actu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el modelamiento formal (representación precisa) que permita interactuar con otras personas, hacer análisis sistemáticos, y validar su concordancia con el actual est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ar la situación act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alidación y Medición del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di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Verdana"/>
              </a:rPr>
              <a:t>Razones para contar con métric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Nos permiten identificar los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procesos claves</a:t>
            </a: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 y su desempeño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 actu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Definen los parámetros de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evaluación del re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fluj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estad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66"/>
                </a:solidFill>
                <a:latin typeface="Verdana"/>
              </a:rPr>
              <a:t>Algunas Métr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Volumen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ntidad de nuevos clien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Tiemp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iclo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antidad de personas, organizaciones, luga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Eficiencia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Porcentaje de desecho, de err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Holguras: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 disponibilidades de recursos no necesarios (cuellos de botell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ost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de defectos, reelaboración.</a:t>
            </a:r>
            <a:r>
              <a:rPr b="0" i="1" lang="es-ES_tradnl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24T06:08:14Z</dcterms:modified>
  <cp:revision>75</cp:revision>
  <dc:subject/>
  <dc:title>Introducción al Análisis de los Sistemas de Información Administrativos</dc:title>
</cp:coreProperties>
</file>