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5.png" ContentType="image/png"/>
  <Override PartName="/ppt/media/image5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9.wmf" ContentType="image/x-wmf"/>
  <Override PartName="/ppt/media/image14.png" ContentType="image/png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7FF8-8393-42D7-9684-7663992A5D2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30CF-340E-4ACA-A0CD-085FABB469C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12920" y="826920"/>
            <a:ext cx="4155840" cy="31165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B834-7487-4C53-B31C-A59C5728AC6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11120" y="826920"/>
            <a:ext cx="4157640" cy="31179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628C47-DAEC-4D41-ACF1-E0A30D213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84C41-C900-489C-AD50-25B6A780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800641-8F80-402A-8A07-FEB023259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DD027F-EEF1-403A-AACD-B5A6202A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AE418-DA49-4B35-9C63-7034616A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C7483-CB43-4FE0-928F-15E35857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EFE01-F2E8-46C6-973B-252C6B93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981FD-599A-4892-B113-6E62E944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4AE7D-E1AD-433E-A294-2241D91D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BD5BC-5222-44F2-8F91-7CA9878ED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F72377-B3C8-4671-BB93-1BEF6D8C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DE4FF3-7D51-4F96-8AE9-57B5AA8AD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               Otoñ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465C1-C3A3-44F9-91F1-52F718AB89C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ediseño de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Procesos de Negoci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4343040"/>
            <a:ext cx="76201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Cómo medir métrica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rabajo en terre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idien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sultas a exper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s con algunas medidas de terre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s simp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s de optim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s de simul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finir Dirección de Camb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844280"/>
            <a:ext cx="799488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rresponde a identificar cual(es) será(n) la(s) línea(s) de cambio, puede ser la  que aporte más a los objetivos del rediseño, las que pueden ser cuatr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nnovar (cambiar paradigm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ejorar coordin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eestructurar (cambiar relacione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ejorar programación y contro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uno o más de los elementos involucrados en el proce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Origen de la Dirección de Camb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676520"/>
            <a:ext cx="813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rresponde a identificar donde se origina la necesidad de rediseñ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quiebr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desperdicios (ineficienci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malas prácticas que cambi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ductos nuev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fusiones o adquisici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ace de Problemas, Oportunidades (como condiciones de mercado, benchmarking, tendencias) o Directrices (dueñ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816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Matriz de Cambio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(antecedentes y SW en </a:t>
            </a:r>
            <a:r>
              <a:rPr b="0" lang="es-ES_tradnl" sz="3700" spc="-1" strike="noStrike">
                <a:solidFill>
                  <a:srgbClr val="000099"/>
                </a:solidFill>
                <a:latin typeface="Tahoma"/>
              </a:rPr>
              <a:t>http://ebusiness.mit.edu/erik/</a:t>
            </a: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triz de Cambio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MoC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Herramienta para administrar el proceso de cambio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(derivado de un redise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ñ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El éxito depende de la coordinación simultánea entre varios facto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apturar relaciones entre prácticas de trabajo, permite alcanzar un cambio coordinado (en vez de aislad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Antecedentes Econométric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Los cambios organizacionales complementarios son (al menos) igual de importantes que l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as i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nversiones en TI, para el incremento de la productivida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tapas de la Mo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58360" y="1752120"/>
            <a:ext cx="8433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procesos crít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Equipo multidisciplinari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Listar: Objetivos y formas de crear val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Obtener detalladamente las: </a:t>
            </a:r>
            <a:r>
              <a:rPr b="0" lang="es-ES_tradnl" sz="2500" spc="-1" strike="noStrike">
                <a:solidFill>
                  <a:srgbClr val="000099"/>
                </a:solidFill>
                <a:latin typeface="Verdana"/>
              </a:rPr>
              <a:t>Prácticas existentes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s-ES_tradnl" sz="2500" spc="-1" strike="noStrike">
                <a:solidFill>
                  <a:srgbClr val="000099"/>
                </a:solidFill>
                <a:latin typeface="Verdana"/>
              </a:rPr>
              <a:t> Prácticas objetiv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interacciones en el sistema (de refuerzo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 interferencia, + o -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Actual y Objetiv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En base a teorías, estadísticas o experienc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tapas de la MoC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2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las interacciones de </a:t>
            </a:r>
            <a:r>
              <a:rPr b="0" lang="es-ES_tradnl" sz="3000" spc="-1" strike="noStrike">
                <a:solidFill>
                  <a:srgbClr val="000099"/>
                </a:solidFill>
                <a:latin typeface="Verdana"/>
              </a:rPr>
              <a:t>transi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Refuerzo (+) o interferencia (-), al pasar de las prácticas actuales a las prácticas objetiv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valuación de agentes involucra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Valoración de práctic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828800" y="1697040"/>
            <a:ext cx="6662880" cy="44751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C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icancias de la Mo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Factibil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herencia y estabilidad: Actual y objetiv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ificultad de la transi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ecuenc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emover prácticas actuales sin efectos o que soportan muchas otras prácticas actua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emover bloques completos. Luego, se pueden hacer al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mplementar prácticas objetivo que complementan las actuales o soportan muchas otras prácticas objetiv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icancias de la MoC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2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Velocidad y naturaleza del camb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terminar grupos de prácticas a cambiar simultáneamen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La velocidad del cambio dentro de un bloque debe ser alta, mientras que la velocidad entre bloques puede ser len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istorial de resistencia implica minimizar tiempos de transi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ambios radicales pueden ser realizados en etapas incrementales (adoptadores tardíos pueden accesar el </a:t>
            </a:r>
            <a:r>
              <a:rPr b="0" i="1" lang="es-ES_tradnl" sz="2200" spc="-1" strike="noStrike">
                <a:solidFill>
                  <a:srgbClr val="000000"/>
                </a:solidFill>
                <a:latin typeface="Verdana"/>
              </a:rPr>
              <a:t>know how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o </a:t>
            </a:r>
            <a:r>
              <a:rPr b="0" i="1" lang="es-ES_tradnl" sz="2200" spc="-1" strike="noStrike">
                <a:solidFill>
                  <a:srgbClr val="000000"/>
                </a:solidFill>
                <a:latin typeface="Verdana"/>
              </a:rPr>
              <a:t>know why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de los adoptadores tempranos) o de golp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Objetivos d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Hacer el proceso más efici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iminar tareas sin aporte de val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iminar holguras (tiempos muert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Hacer el proceso más efectiv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gregar valor con los camb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Hacer el proceso administrado y predecib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icancias de la MoC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3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valuación de lo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diferentes intereses involucrados en 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Valor dado a Prácticas Actuales o Prácticas Objetivo por los agentes involucrados, implica su nivel de apoyo al camb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que considerar Incentivos y Valor neto agrega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oc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ueden referirse a Modelos Mentales (objetivos, valores, sistemas, estructur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nsiderar: Nueva o Adaptación de la actu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8165880" cy="23036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istemas Complej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asos intermed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 a D puede requerir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 a B, B a C, C a 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Ritmo y 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aturaleza del 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ambi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o </a:t>
            </a:r>
            <a:br>
              <a:rPr sz="3000"/>
            </a:b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Aprecio al C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ambio (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rasgo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cultura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y </a:t>
            </a:r>
            <a:br>
              <a:rPr sz="2100"/>
            </a:b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Existencia de Presiones Extern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2209680"/>
            <a:ext cx="4419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importancia de incorporar al error como un proceso de aprendizaje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“hechando a perder se aprende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5756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7184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8596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21337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cias en la evaluación que hacen los stakeholders sobre las prácticas actuales y deseadas.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0520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2908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3856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979640" y="3284640"/>
            <a:ext cx="4467240" cy="2724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067280" y="5013360"/>
            <a:ext cx="914400" cy="5713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omentarios sobre Mo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Herramienta para identificar la facilidad y dificultades de realizar un cambi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Obliga a los participantes a “explicitar” la situación actual, el cambio deseado y su valora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Mecanismo de comunicación al interior de la organización para facilitar los cambios propuest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Dificultades en la implementación: prácticas, el signo de las interrelaciones y la elección del equipo de trabaj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antación d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Gente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roducto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ecnología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roceso 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li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Tecnología de Ayuda a la Coordinació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124000" y="2708280"/>
            <a:ext cx="493236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701640"/>
            <a:ext cx="800100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ordin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os o más usuarios deben interactuar para cumplir con sus funciones organizacio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o puede ser estructurado o desestructurado, síncrono o asíncron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anejado históricamente a través de: flujo de papeles, comunicación directa (verbal o telefónica), procedimientos administrativos que definen a priori la actuación de las person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Groupware y Workflow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Definicio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3886200"/>
            <a:ext cx="7924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milar al Groupware, que permite hacer fluir los documentos, en forma automática, entre usuarios para cumplir un obje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0000"/>
                </a:solidFill>
                <a:latin typeface="Times New Roman"/>
              </a:rPr>
              <a:t>Producto Referencia: XN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752480"/>
            <a:ext cx="79250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oup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mite compartir por parte de usuarios uno o más documentos a través de un kardex electrón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0000"/>
                </a:solidFill>
                <a:latin typeface="Times New Roman"/>
              </a:rPr>
              <a:t>Producto Referencia: LOTUS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300720" y="189000"/>
          <a:ext cx="1393920" cy="136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00720" y="189000"/>
                    <a:ext cx="13939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1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Groupware y Workflow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Características Relevant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34680" y="2444760"/>
            <a:ext cx="3833640" cy="25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Almacenamiento, indexación y acceso a cualquier tipo de documento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Permite mezclar información de documento, generando vistas de interés para las necesidades del usuario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Correo electrónico, agenda, planificación de actividades (individuales y de grupo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Gestión de información Web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44640" y="2408040"/>
            <a:ext cx="3840120" cy="258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Verdana"/>
              </a:rPr>
              <a:t>Especificación de formularios, lógica asociada y modelo gráfico de flujo de documento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Verdana"/>
              </a:rPr>
              <a:t>Orientado a  proceso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Verdana"/>
              </a:rPr>
              <a:t>Control de secuencia de tareas y quienes la realizan, la información que soporta las tareas, mas el seguimiento y mecanismos de reporte que las miden y controla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31504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5289480"/>
            <a:ext cx="8077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ftware Generador de Apl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746680"/>
            <a:ext cx="8077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pera en Redes Comput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084720" y="260280"/>
            <a:ext cx="1295640" cy="10479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85800" y="2192400"/>
            <a:ext cx="396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166840"/>
            <a:ext cx="3962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GROUP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2166840"/>
            <a:ext cx="4038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WORK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Workflow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Comunicaciones Corporativ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Formularios electrónicos, rutas y reglas predefinidas, Administración de Roles Dinám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ontrol de Gest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76"/>
              </a:spcBef>
              <a:buClr>
                <a:srgbClr val="ff0000"/>
              </a:buClr>
              <a:buSzPct val="65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Herramienta para el seguimiento y control de procesos administrativo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apaz de integrar todas las plataformas de la empresa 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spaldo automá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larmas automáticas, calendarios: múltiples - horarios de trabaj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uditoria: Quién y qué Rol representab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istoria: Para cada mensaje saber por donde pasó, qué se hizo, quién lo hizo, que acciones automáticas se activar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7451640" y="189000"/>
          <a:ext cx="1401840" cy="119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1640" y="189000"/>
                    <a:ext cx="14018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diseño de Proce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69992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ablece los cambios que deberán efectuarse en la situación actual y detalla como se ejecutarán los nuevos proces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 la fase más importante, ya que se definirán las nuevas formas de operar y su desempeñ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reas de rediseñ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ructural: cambio en el proceso mismo (cambian las operaciones, se eliminan duplicidades,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sponsabilidades: se modifica la asignación de  responsabilidad (personal, incorporación de tecnología, centralizar o descentralizar responsabilidades, etc.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7488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Colaboración - Secuenciamient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53960" y="1612440"/>
            <a:ext cx="8554320" cy="4626360"/>
            <a:chOff x="453960" y="1612440"/>
            <a:chExt cx="8554320" cy="4626360"/>
          </a:xfrm>
        </p:grpSpPr>
        <p:sp>
          <p:nvSpPr>
            <p:cNvPr id="172" name=""/>
            <p:cNvSpPr/>
            <p:nvPr/>
          </p:nvSpPr>
          <p:spPr>
            <a:xfrm flipV="1">
              <a:off x="1731960" y="2018160"/>
              <a:ext cx="1080" cy="37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91560" y="5594760"/>
              <a:ext cx="582120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0520" y="1707480"/>
              <a:ext cx="214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Estructu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3960" y="2637360"/>
              <a:ext cx="14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estructur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9400" y="4229280"/>
              <a:ext cx="143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estructur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97640" y="555876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enfo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67120" y="5596200"/>
              <a:ext cx="139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entrado 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inform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80920" y="5596200"/>
              <a:ext cx="139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entrado 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roces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52800" y="4150440"/>
              <a:ext cx="1472760" cy="89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Proce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colaborativ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33080" y="3601800"/>
              <a:ext cx="1539360" cy="965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d-ho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86440" y="2981160"/>
              <a:ext cx="1893240" cy="1031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dministrati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59200" y="2499840"/>
              <a:ext cx="1472760" cy="962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roduc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04720" y="2018520"/>
              <a:ext cx="4137480" cy="2682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82320" y="2340000"/>
              <a:ext cx="141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63240" y="4996440"/>
              <a:ext cx="236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Lotus Notes (IB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icrosoft Excha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85880" y="4541040"/>
              <a:ext cx="2567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Flowmark (IB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Xnear (Xnear - Chil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etro (ActionTech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5869800" y="4012560"/>
              <a:ext cx="701280" cy="61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69760" y="1612440"/>
              <a:ext cx="363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Visual Workflow (FileNe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430680" y="2087280"/>
              <a:ext cx="350640" cy="34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676520" y="35053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800600" y="18288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Groupware y Workflow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Impedimentos para su Us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476360" y="1700280"/>
          <a:ext cx="6676920" cy="384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700280"/>
                    <a:ext cx="6676920" cy="38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1332000" y="5661000"/>
            <a:ext cx="73087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ente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cuesta 500 Usuarios Group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ttp://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ww.compinfo-center.com/pqpwr-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1316160" cy="1235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Workflow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Producto : XNea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740720" y="260280"/>
            <a:ext cx="942840" cy="1008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1547640" y="429264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3419640" y="2349360"/>
            <a:ext cx="3962160" cy="2819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5219640" y="3213000"/>
            <a:ext cx="3505320" cy="2819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590920" y="57150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4360" y="1828440"/>
            <a:ext cx="8154720" cy="40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acionalización (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ños 70´s en adela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ólo los procedimientos administrativos son adecuados a los sistemas computacionales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ediseño Organizacional (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ño 85 en adela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mbio profundo en la estructura organizacional. Ya la organización no volverá a ser nunca más la mis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eingeniería (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ños 90´s en adela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inventamos la empresa. Todo esta en revisión, los productos, los mercados, los mét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fundidad d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todologí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finición d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valuación de la Situación Actu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finición de dirección(es) de cambio(s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mplantación del rediseño propuesto (Gente, Producto, Tecnología, Proceso y Cliente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uesta en Marcha y Ope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finición del Proceso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cursos Productiv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rresponden a los elementos que son utilizados para el desarrollo del proce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figuración del Proces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rresponde a los procedimientos, reglas y distribución física de las operaciones (modelo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arga de Trabaj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rresponde a los parámetros que describen la carga de trabajo, es decir, el tipo, frecuencia y comportamien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iveles de Servic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representa la definición de aquellos indicadores de calidad del proces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7560" y="506160"/>
            <a:ext cx="740412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ituación Actu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el modelamiento formal (representación precisa) que permita interactuar con otras personas, hacer análisis sistemáticos, y validar su concordancia con el actual estad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ar la situación actu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Validación y Medición del proces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dición del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66"/>
                </a:solidFill>
                <a:latin typeface="Verdana"/>
              </a:rPr>
              <a:t>Razones para contar con métrica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0000"/>
                </a:solidFill>
                <a:latin typeface="Verdana"/>
              </a:rPr>
              <a:t>Nos permiten identificar los </a:t>
            </a:r>
            <a:r>
              <a:rPr b="0" lang="es-ES_tradnl" sz="2600" spc="-1" strike="noStrike">
                <a:solidFill>
                  <a:srgbClr val="000066"/>
                </a:solidFill>
                <a:latin typeface="Verdana"/>
              </a:rPr>
              <a:t>procesos claves</a:t>
            </a:r>
            <a:r>
              <a:rPr b="0" lang="es-ES_tradnl" sz="2600" spc="-1" strike="noStrike">
                <a:solidFill>
                  <a:srgbClr val="cc0000"/>
                </a:solidFill>
                <a:latin typeface="Verdana"/>
              </a:rPr>
              <a:t> y su desempeño</a:t>
            </a:r>
            <a:r>
              <a:rPr b="0" lang="es-ES_tradnl" sz="2600" spc="-1" strike="noStrike">
                <a:solidFill>
                  <a:srgbClr val="000066"/>
                </a:solidFill>
                <a:latin typeface="Verdana"/>
              </a:rPr>
              <a:t> actual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0000"/>
                </a:solidFill>
                <a:latin typeface="Verdana"/>
              </a:rPr>
              <a:t>Definen los parámetros de </a:t>
            </a:r>
            <a:r>
              <a:rPr b="0" lang="es-ES_tradnl" sz="2600" spc="-1" strike="noStrike">
                <a:solidFill>
                  <a:srgbClr val="000066"/>
                </a:solidFill>
                <a:latin typeface="Verdana"/>
              </a:rPr>
              <a:t>evaluación del rediseñ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étricas asociadas al flujo d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étricas asociadas al estado d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66"/>
                </a:solidFill>
                <a:latin typeface="Verdana"/>
              </a:rPr>
              <a:t>Algunas Métr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Volumen: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Cantidad de nuevos client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Tiempo: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Ciclo trabaj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Cantidad de personas, organizaciones, lugar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Eficiencia: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Porcentaje de desecho, de err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Holguras: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 disponibilidades de recursos no necesarios (cuellos de botell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Costo: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de defectos, reelaboración.</a:t>
            </a:r>
            <a:r>
              <a:rPr b="0" i="1" lang="es-ES_tradnl" sz="30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2:26:49Z</dcterms:created>
  <dc:creator>Paula Varas</dc:creator>
  <dc:description/>
  <dc:language>en-US</dc:language>
  <cp:lastModifiedBy> </cp:lastModifiedBy>
  <cp:lastPrinted>2001-07-30T13:16:05Z</cp:lastPrinted>
  <dcterms:modified xsi:type="dcterms:W3CDTF">2004-03-24T06:08:14Z</dcterms:modified>
  <cp:revision>75</cp:revision>
  <dc:subject/>
  <dc:title>Introducción al Análisis de los Sistemas de Información Administrativos</dc:title>
</cp:coreProperties>
</file>