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D898-5293-41F3-A324-23DC09EDF8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F2CD-8186-4479-B5A8-087D8E2955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12920" y="826920"/>
            <a:ext cx="4155840" cy="3116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9BE6-0D6A-42C5-A567-A48D4745A5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11120" y="82692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D1DBB-9BCB-4E58-AC45-90C35AE2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8D843-4549-41A0-9C8E-9593234C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A68D9-8097-42FB-B783-700D61FB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3071E-A628-4B1C-AF13-37E0179F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5B6CE-5E42-4C18-ABBB-30477C03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7489A-0885-40E5-84AB-A2E5A0ED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774EE-6FC6-4F86-A60D-C06658F8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1305E-3B2A-4103-A321-D713437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59E2C-E3E9-49CC-AA5D-853C0579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4D5FF-E9BF-4934-8190-1C2057E2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E7864-1AE2-4F13-9E03-70B87239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90291-2D53-432A-B09A-584484CC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B78C-D187-4A55-8970-1C589DFF4D5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ediseño d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ie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sultas a exp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optim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994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uno o más de los elementos involucrados en 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rigen de la Dirección de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ce de Problemas, Oportunidades (como condiciones de mercado, benchmarking, tendencias) o Directrices (dueñ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triz de Cambi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(antecedentes y SW en </a:t>
            </a:r>
            <a:r>
              <a:rPr b="0" lang="es-ES_tradnl" sz="3700" spc="-1" strike="noStrike">
                <a:solidFill>
                  <a:srgbClr val="000099"/>
                </a:solidFill>
                <a:latin typeface="Tahoma"/>
              </a:rPr>
              <a:t>http://ebusiness.mit.edu/erik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Herramienta para administrar 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tecedentes Econométr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tareas sin aporte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holguras (tiempos muer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gregar valor con los camb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y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turaleza del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br>
              <a:rPr sz="30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precio al C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o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asgo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ltur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br>
              <a:rPr sz="21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ncia de Presiones Exter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2209680"/>
            <a:ext cx="441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mportancia de incorporar al error como un proceso de aprendizaj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hechando a perder se aprend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67280" y="5013360"/>
            <a:ext cx="914400" cy="571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mentarios sobr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erramienta para identificar la facilidad y dificultades de realizar un camb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bliga a los participantes a “explicitar” la situación actual, el cambio deseado y su valo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ecanismo de comunicación al interior de la organización para facilitar los cambios propues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ficultades en la implementación: prácticas, el signo de las interrelaciones y la elección del equipo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antación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Gen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cnologí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ecnología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ff00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48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3960" y="1612440"/>
            <a:ext cx="8554320" cy="4626360"/>
            <a:chOff x="453960" y="1612440"/>
            <a:chExt cx="8554320" cy="4626360"/>
          </a:xfrm>
        </p:grpSpPr>
        <p:sp>
          <p:nvSpPr>
            <p:cNvPr id="172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1560" y="5594760"/>
              <a:ext cx="5821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0520" y="170748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960" y="2637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9764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671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809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52800" y="415044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3080" y="3601800"/>
              <a:ext cx="153936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86440" y="2981160"/>
              <a:ext cx="189324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59200" y="249984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4720" y="2018520"/>
              <a:ext cx="413748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82320" y="2340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6324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8588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86980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9760" y="161244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430680" y="208728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815472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los procedimientos administrativos son adecuados a los sistemas computacionales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 dirección(es) de cambio(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cursos Produc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n a los elementos que son utilizados para el desarrollo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 Pro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rocedimientos, reglas y distribución física de las operaciones (model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arámetros que describen la carga de trabajo, es decir, el tipo, frecuencia y comportami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de Serv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representa la definición de aquellos indicadores de calidad del proce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Verdana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Nos permiten identificar los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procesos claves</a:t>
            </a: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 y su desempeño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 actu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Definen los parámetros de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evaluación del re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fluj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estad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66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Volumen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Tiemp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iclo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ntidad de personas, organizaciones, lug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ficiencia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Porcentaje de desecho, de err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 disponibilidades de recursos no necesarios (cuellos de bote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ost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de defectos, reelaboración.</a:t>
            </a:r>
            <a:r>
              <a:rPr b="0" i="1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24T06:08:14Z</dcterms:modified>
  <cp:revision>75</cp:revision>
  <dc:subject/>
  <dc:title>Introducción al Análisis de los Sistemas de Información Administrativos</dc:title>
</cp:coreProperties>
</file>