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00E7-6168-4729-982F-521864B339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3944-1442-45A6-8AE6-A8A7373910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D447-E00D-4256-AD49-AB2ECE3BDF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8F70E-8E22-49CA-86B4-F1F7AE5C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33DBC-E781-4C73-A575-68BB48F7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FBA9A-0BF7-4722-908A-D86DF5D5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C92F1-1766-4457-9DD6-45CA4E0F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00D8B-4E68-4A3F-979A-2A67B726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32D22-9937-4620-9710-B7991EE3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E4529-9B25-4A47-B17A-C2326910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9D54B-F5EF-4417-86CA-FA7359A4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013E2-2B32-40A8-834F-1529DB9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9A0D0-2124-4DBC-BE78-6B372C30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9336E-B462-45EE-BCD5-87FB52F4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40759-7C4A-4764-9569-B7E29E50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2A5-F8F6-4906-BF5F-5224DED7ECB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17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4T06:08:14Z</dcterms:modified>
  <cp:revision>75</cp:revision>
  <dc:subject/>
  <dc:title>Introducción al Análisis de los Sistemas de Información Administrativos</dc:title>
</cp:coreProperties>
</file>