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6.xml.rels" ContentType="application/vnd.openxmlformats-package.relationships+xml"/>
  <Override PartName="/ppt/notesSlides/_rels/notesSlide4.xml.rels" ContentType="application/vnd.openxmlformats-package.relationships+xml"/>
  <Override PartName="/ppt/notesSlides/notesSlide4.xml" ContentType="application/vnd.openxmlformats-officedocument.presentationml.notesSlide+xml"/>
  <Override PartName="/ppt/notesSlides/notesSlide26.xml" ContentType="application/vnd.openxmlformats-officedocument.presentationml.notesSlide+xml"/>
  <Override PartName="/ppt/_rels/presentation.xml.rels" ContentType="application/vnd.openxmlformats-package.relationships+xml"/>
  <Override PartName="/ppt/media/image11.png" ContentType="image/png"/>
  <Override PartName="/ppt/media/image6.wmf" ContentType="image/x-wmf"/>
  <Override PartName="/ppt/media/image15.png" ContentType="image/png"/>
  <Override PartName="/ppt/media/image5.jpeg" ContentType="image/jpeg"/>
  <Override PartName="/ppt/media/image1.png" ContentType="image/png"/>
  <Override PartName="/ppt/media/image3.png" ContentType="image/png"/>
  <Override PartName="/ppt/media/image4.png" ContentType="image/png"/>
  <Override PartName="/ppt/media/image9.wmf" ContentType="image/x-wmf"/>
  <Override PartName="/ppt/media/image14.png" ContentType="image/png"/>
  <Override PartName="/ppt/media/image12.png" ContentType="image/png"/>
  <Override PartName="/ppt/media/image7.wmf" ContentType="image/x-wmf"/>
  <Override PartName="/ppt/media/image8.wmf" ContentType="image/x-wmf"/>
  <Override PartName="/ppt/media/image13.png" ContentType="image/png"/>
  <Override PartName="/ppt/media/image2.png" ContentType="image/png"/>
  <Override PartName="/ppt/media/image10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dt" idx="5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6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7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EBD41-E91E-45E9-856F-9A54B4EDAF12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E67392-2806-4177-BBCC-47524B4FE951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sldImg"/>
          </p:nvPr>
        </p:nvSpPr>
        <p:spPr>
          <a:xfrm>
            <a:off x="1312920" y="826920"/>
            <a:ext cx="4155840" cy="3116520"/>
          </a:xfrm>
          <a:prstGeom prst="rect">
            <a:avLst/>
          </a:prstGeom>
          <a:ln w="0">
            <a:noFill/>
          </a:ln>
        </p:spPr>
      </p:sp>
      <p:sp>
        <p:nvSpPr>
          <p:cNvPr id="21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385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"/>
          <p:cNvSpPr txBox="1"/>
          <p:nvPr/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F5BDDA-887F-455D-B9ED-47474E6E6499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-216000" algn="r"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311120" y="826920"/>
            <a:ext cx="4157640" cy="311796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912960" y="4344840"/>
            <a:ext cx="5030640" cy="385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5F36ABB-4DE5-43F3-A44C-8030348E14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A19AAE-64F6-486A-ACF0-2D8D8A980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7B6565D-C351-4C45-B332-2E46BCFB1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7D3DDA-E46C-4E43-A42D-4B8731FF14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894BFB-998D-46A0-AC7C-7B9687F834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C762689-E049-479A-84CC-C03DD37B5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A966EB-A0C9-4472-82BB-ACD646FAB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03D211F-C053-4AF9-9DF5-20E614EF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F6E06-F6FA-436C-8951-A0D2FA939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4221D6E-9FD2-41B9-9B90-6905D043F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0C41A64-4CB8-4006-9D7E-F6A04B5686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716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77080" y="175248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662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716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77080" y="3981600"/>
            <a:ext cx="257616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4DC69F-EC5D-4700-AF25-29EEF82FAA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74200" y="304920"/>
            <a:ext cx="8001000" cy="563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5960" y="398160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5960" y="1752480"/>
            <a:ext cx="39042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66280" y="3981600"/>
            <a:ext cx="8001000" cy="203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2" marL="1305000" indent="-395280">
              <a:spcBef>
                <a:spcPts val="751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3" marL="1693800" indent="-38736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4" marL="2093760" indent="-398160">
              <a:spcBef>
                <a:spcPts val="751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5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6" marL="2093760" indent="-398160">
              <a:spcBef>
                <a:spcPts val="751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"/>
          <p:cNvSpPr/>
          <p:nvPr/>
        </p:nvSpPr>
        <p:spPr>
          <a:xfrm>
            <a:off x="609480" y="1566720"/>
            <a:ext cx="7958160" cy="10980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585" y="0"/>
                </a:lnTo>
                <a:lnTo>
                  <a:pt x="585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609480" y="6172200"/>
            <a:ext cx="7925040" cy="0"/>
          </a:xfrm>
          <a:prstGeom prst="line">
            <a:avLst/>
          </a:prstGeom>
          <a:ln w="3240">
            <a:solidFill>
              <a:srgbClr val="cc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>
          <a:xfrm>
            <a:off x="611280" y="6244920"/>
            <a:ext cx="79214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IN55A, Sistemas de Información Administrativos                                                         Otoño 2004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2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4AA757-8F74-4372-B96D-E3217EDC40BF}" type="slidenum">
              <a:rPr b="0" lang="es-E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85800" y="2394000"/>
            <a:ext cx="7772400" cy="109440"/>
          </a:xfrm>
          <a:custGeom>
            <a:avLst/>
            <a:gdLst/>
            <a:ahLst/>
            <a:rect l="l" t="t" r="r" b="b"/>
            <a:pathLst>
              <a:path stroke="0" w="1000" h="1000">
                <a:moveTo>
                  <a:pt x="0" y="0"/>
                </a:moveTo>
                <a:lnTo>
                  <a:pt x="618" y="0"/>
                </a:lnTo>
                <a:lnTo>
                  <a:pt x="618" y="1000"/>
                </a:lnTo>
                <a:lnTo>
                  <a:pt x="0" y="1000"/>
                </a:lnTo>
                <a:close/>
              </a:path>
              <a:path w="1000" h="1000">
                <a:moveTo>
                  <a:pt x="0" y="0"/>
                </a:moveTo>
                <a:lnTo>
                  <a:pt x="1000" y="0"/>
                </a:lnTo>
              </a:path>
            </a:pathLst>
          </a:custGeom>
          <a:solidFill>
            <a:srgbClr val="cc0000"/>
          </a:solidFill>
          <a:ln w="9360">
            <a:solidFill>
              <a:srgbClr val="cc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2" marL="909720" algn="ctr">
              <a:spcBef>
                <a:spcPts val="575"/>
              </a:spcBef>
              <a:buClr>
                <a:srgbClr val="cc0000"/>
              </a:buClr>
              <a:buSzPct val="60000"/>
              <a:buFont typeface="Wingdings" charset="2"/>
              <a:buChar char="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300" spc="-1" strike="noStrike">
              <a:solidFill>
                <a:srgbClr val="000000"/>
              </a:solidFill>
              <a:latin typeface="Verdana"/>
            </a:endParaRPr>
          </a:p>
          <a:p>
            <a:pPr lvl="3" marL="1306440" algn="ctr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695600" algn="ctr">
              <a:spcBef>
                <a:spcPts val="624"/>
              </a:spcBef>
              <a:buClr>
                <a:srgbClr val="cc0000"/>
              </a:buClr>
              <a:buSzPct val="90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695600">
              <a:spcBef>
                <a:spcPts val="499"/>
              </a:spcBef>
              <a:buClr>
                <a:srgbClr val="0000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4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4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9.wmf"/><Relationship Id="rId4" Type="http://schemas.openxmlformats.org/officeDocument/2006/relationships/image" Target="../media/image10.wmf"/><Relationship Id="rId5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image" Target="../media/image14.png"/><Relationship Id="rId6" Type="http://schemas.openxmlformats.org/officeDocument/2006/relationships/image" Target="../media/image15.png"/><Relationship Id="rId7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Rediseño de</a:t>
            </a:r>
            <a:br>
              <a:rPr sz="4000"/>
            </a:b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Procesos de Negocio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914040" y="4343040"/>
            <a:ext cx="762012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stemas de Información Administrativ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Departamento de Ingeniería Industrial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Universidad de Chile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Derechos Reservados (c)</a:t>
            </a:r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¿Cómo medir métricas?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Trabajo en terren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idiend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Consultas a expert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odelos con algunas medidas de terren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os simp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os de optimiz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os de simulación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finir Dirección de Cambi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09480" y="1844280"/>
            <a:ext cx="7994880" cy="425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rresponde a identificar cual(es) será(n) la(s) línea(s) de cambio, puede ser la  que aporte más a los objetivos del rediseño, las que pueden ser cuatr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Innovar (cambiar paradigm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ejorar coordina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Reestructurar (cambiar relacione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Mejorar programación y contro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uno o más de los elementos involucrados en el proces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Origen de la Dirección de Cambi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755640" y="1676520"/>
            <a:ext cx="813744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rresponde a identificar donde se origina la necesidad de rediseñ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y quiebr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y desperdicios (ineficienci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y malas prácticas que cambiar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roductos nuev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fusiones o adquisicion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etc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10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Nace de Problemas, Oportunidades (como condiciones de mercado, benchmarking, tendencias) o Directrices (dueñ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39640" y="1412640"/>
            <a:ext cx="8228160" cy="2260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800" spc="-1" strike="noStrike">
                <a:solidFill>
                  <a:srgbClr val="000000"/>
                </a:solidFill>
                <a:latin typeface="Arial"/>
              </a:rPr>
              <a:t>Matriz de Cambio</a:t>
            </a:r>
            <a:br>
              <a:rPr sz="4000"/>
            </a:b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(antecedentes y SW en </a:t>
            </a:r>
            <a:r>
              <a:rPr b="0" lang="es-ES_tradnl" sz="3700" spc="-1" strike="noStrike">
                <a:solidFill>
                  <a:srgbClr val="000099"/>
                </a:solidFill>
                <a:latin typeface="Tahoma"/>
              </a:rPr>
              <a:t>http://ebusiness.mit.edu/erik/</a:t>
            </a:r>
            <a:r>
              <a:rPr b="0" lang="es-ES_tradnl" sz="40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atriz de Cambio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MoC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533160" y="17524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Herramienta para administrar el proceso de cambio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(derivado de un redise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ñ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El éxito depende de la coordinación simultánea entre varios factore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apturar relaciones entre prácticas de trabajo, permite alcanzar un cambio coordinado (en vez de aislado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900" spc="-1" strike="noStrike">
                <a:solidFill>
                  <a:srgbClr val="000000"/>
                </a:solidFill>
                <a:latin typeface="Verdana"/>
              </a:rPr>
              <a:t>Antecedentes Econométricos</a:t>
            </a:r>
            <a:endParaRPr b="0" lang="en-US" sz="29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lnSpc>
                <a:spcPct val="90000"/>
              </a:lnSpc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Los cambios organizacionales complementarios son (al menos) igual de importantes que l</a:t>
            </a:r>
            <a:r>
              <a:rPr b="0" lang="es-MX" sz="2200" spc="-1" strike="noStrike">
                <a:solidFill>
                  <a:srgbClr val="000000"/>
                </a:solidFill>
                <a:latin typeface="Verdana"/>
              </a:rPr>
              <a:t>as i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nversiones en TI, para el incremento de la productividad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tapas de la Mo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558360" y="1752120"/>
            <a:ext cx="84330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procesos crític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Equipo multidisciplinari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Listar: Objetivos y formas de crear valo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Obtener detalladamente las: </a:t>
            </a:r>
            <a:r>
              <a:rPr b="0" lang="es-ES_tradnl" sz="2500" spc="-1" strike="noStrike">
                <a:solidFill>
                  <a:srgbClr val="000099"/>
                </a:solidFill>
                <a:latin typeface="Verdana"/>
              </a:rPr>
              <a:t>Prácticas existentes 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y</a:t>
            </a:r>
            <a:r>
              <a:rPr b="0" lang="es-ES_tradnl" sz="2500" spc="-1" strike="noStrike">
                <a:solidFill>
                  <a:srgbClr val="000099"/>
                </a:solidFill>
                <a:latin typeface="Verdana"/>
              </a:rPr>
              <a:t> Prácticas objetiv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interacciones en el sistema (de refuerzo </a:t>
            </a: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o interferencia, + o -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Actual y Objetiv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24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En base a teorías, estadísticas o experiencia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Etapas de la MoC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2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dentificar las interacciones de </a:t>
            </a:r>
            <a:r>
              <a:rPr b="0" lang="es-ES_tradnl" sz="3000" spc="-1" strike="noStrike">
                <a:solidFill>
                  <a:srgbClr val="000099"/>
                </a:solidFill>
                <a:latin typeface="Verdana"/>
              </a:rPr>
              <a:t>transi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600" spc="-1" strike="noStrike">
                <a:solidFill>
                  <a:srgbClr val="000000"/>
                </a:solidFill>
                <a:latin typeface="Verdana"/>
              </a:rPr>
              <a:t>Refuerzo (+) o interferencia (-), al pasar de las prácticas actuales a las prácticas objetiv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valuación de agentes involucrad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600" spc="-1" strike="noStrike">
                <a:solidFill>
                  <a:srgbClr val="000000"/>
                </a:solidFill>
                <a:latin typeface="Verdana"/>
              </a:rPr>
              <a:t>Valoración de práctica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" descr=""/>
          <p:cNvPicPr/>
          <p:nvPr/>
        </p:nvPicPr>
        <p:blipFill>
          <a:blip r:embed="rId2"/>
          <a:stretch/>
        </p:blipFill>
        <p:spPr>
          <a:xfrm>
            <a:off x="1828800" y="1697040"/>
            <a:ext cx="6662880" cy="4475160"/>
          </a:xfrm>
          <a:prstGeom prst="rect">
            <a:avLst/>
          </a:prstGeom>
          <a:ln w="0">
            <a:noFill/>
          </a:ln>
        </p:spPr>
      </p:pic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oC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licancias de la Mo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Factibilidad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herencia y estabilidad: Actual y objetiv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ificultad de la transi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Secuencia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Remover prácticas actuales sin efectos o que soportan muchas otras prácticas actuale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Remover bloques completos. Luego, se pueden hacer alto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Implementar prácticas objetivo que complementan las actuales o soportan muchas otras prácticas objetiv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licancias de la MoC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2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Velocidad y naturaleza del cambi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Determinar grupos de prácticas a cambiar simultáneament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La velocidad del cambio dentro de un bloque debe ser alta, mientras que la velocidad entre bloques puede ser lenta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istorial de resistencia implica minimizar tiempos de transición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ambios radicales pueden ser realizados en etapas incrementales (adoptadores tardíos pueden accesar el </a:t>
            </a:r>
            <a:r>
              <a:rPr b="0" i="1" lang="es-ES_tradnl" sz="2200" spc="-1" strike="noStrike">
                <a:solidFill>
                  <a:srgbClr val="000000"/>
                </a:solidFill>
                <a:latin typeface="Verdana"/>
              </a:rPr>
              <a:t>know how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o </a:t>
            </a:r>
            <a:r>
              <a:rPr b="0" i="1" lang="es-ES_tradnl" sz="2200" spc="-1" strike="noStrike">
                <a:solidFill>
                  <a:srgbClr val="000000"/>
                </a:solidFill>
                <a:latin typeface="Verdana"/>
              </a:rPr>
              <a:t>know why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de los adoptadores tempranos) o de golp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Objetivos del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Hacer el proceso más efici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liminar tareas sin aporte de valor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liminar holguras (tiempos muertos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Hacer el proceso más efectiv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gregar valor con los cambio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Hacer el proceso administrado y predecibl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licancias de la MoC</a:t>
            </a: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 (3)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33160" y="1676520"/>
            <a:ext cx="830556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000" spc="-1" strike="noStrike">
                <a:solidFill>
                  <a:srgbClr val="000000"/>
                </a:solidFill>
                <a:latin typeface="Verdana"/>
              </a:rPr>
              <a:t>Evaluación de los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diferentes intereses involucrados en el pro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Valor dado a Prácticas Actuales o Prácticas Objetivo por los agentes involucrados, implica su nivel de apoyo al cambi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Hay que considerar Incentivos y Valor neto agregado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Locacione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Pueden referirse a Modelos Mentales (objetivos, valores, sistemas, estructuras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Considerar: Nueva o Adaptación de la actual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533520" y="3429000"/>
            <a:ext cx="8165880" cy="230364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istemas Complej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asos intermedios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 a D puede requerir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 a B, B a C, C a D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Ritmo y 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N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aturaleza del 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C</a:t>
            </a:r>
            <a:r>
              <a:rPr b="0" lang="es-ES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ambi</a:t>
            </a:r>
            <a:r>
              <a:rPr b="0" lang="es-MX" sz="3000" spc="-1" strike="noStrike">
                <a:solidFill>
                  <a:srgbClr val="000000"/>
                </a:solidFill>
                <a:latin typeface="Verdana"/>
                <a:ea typeface="Times New Roman"/>
              </a:rPr>
              <a:t>o </a:t>
            </a:r>
            <a:br>
              <a:rPr sz="3000"/>
            </a:b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Aprecio al C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ambio (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rasgo 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cultura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l</a:t>
            </a:r>
            <a:r>
              <a:rPr b="0" lang="es-ES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) </a:t>
            </a: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y </a:t>
            </a:r>
            <a:br>
              <a:rPr sz="2100"/>
            </a:br>
            <a:r>
              <a:rPr b="0" lang="es-MX" sz="2100" spc="-1" strike="noStrike">
                <a:solidFill>
                  <a:srgbClr val="000000"/>
                </a:solidFill>
                <a:latin typeface="Verdana"/>
                <a:ea typeface="Times New Roman"/>
              </a:rPr>
              <a:t>Existencia de Presiones Externa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"/>
          <p:cNvSpPr/>
          <p:nvPr/>
        </p:nvSpPr>
        <p:spPr>
          <a:xfrm>
            <a:off x="4495680" y="2209680"/>
            <a:ext cx="4419720" cy="99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 importancia de incorporar al error como un proceso de aprendizaje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“hechando a perder se aprende”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3157560" y="19670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71840" y="19479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685960" y="23194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457200" y="2133720"/>
            <a:ext cx="3733920" cy="1295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as diferencias en la evaluación que hacen los stakeholders sobre las prácticas actuales y deseadas.</a:t>
            </a:r>
            <a:r>
              <a:rPr b="0" lang="es-MX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905200" y="17193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629080" y="174312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338560" y="2066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1979640" y="3284640"/>
            <a:ext cx="4467240" cy="272412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4067280" y="5013360"/>
            <a:ext cx="914400" cy="57132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800" spc="-1" strike="noStrike">
                <a:solidFill>
                  <a:srgbClr val="000000"/>
                </a:solidFill>
                <a:latin typeface="Verdana"/>
              </a:rPr>
              <a:t>Comentarios sobre MoC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Herramienta para identificar la facilidad y dificultades de realizar un cambi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Obliga a los participantes a “explicitar” la situación actual, el cambio deseado y su valoración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Mecanismo de comunicación al interior de la organización para facilitar los cambios propuestos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100000"/>
              </a:lnSpc>
              <a:spcBef>
                <a:spcPts val="524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100" spc="-1" strike="noStrike">
                <a:solidFill>
                  <a:srgbClr val="000000"/>
                </a:solidFill>
                <a:latin typeface="Verdana"/>
              </a:rPr>
              <a:t>Dificultades en la implementación: prácticas, el signo de las interrelaciones y la elección del equipo de trabajo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Implantación del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Gente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roducto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Tecnología,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roceso y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Cliente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68000" y="764640"/>
            <a:ext cx="8381880" cy="129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000000"/>
                </a:solidFill>
                <a:latin typeface="Verdana"/>
              </a:rPr>
              <a:t>Tecnología de Ayuda a la Coordinación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2124000" y="2708280"/>
            <a:ext cx="4932360" cy="36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74200" y="701640"/>
            <a:ext cx="8001000" cy="819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Coordinación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885680"/>
            <a:ext cx="8305920" cy="41720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Dos o más usuarios deben interactuar para cumplir con sus funciones organizacionale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o puede ser estructurado o desestructurado, síncrono o asíncron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anejado históricamente a través de: flujo de papeles, comunicación directa (verbal o telefónica), procedimientos administrativos que definen a priori la actuación de las persona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Groupware y Workflow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Definicion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>
            <a:off x="685800" y="3886200"/>
            <a:ext cx="792468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Workflow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Similar al Groupware, que permite hacer fluir los documentos, en forma automática, entre usuarios para cumplir un objetiv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0000"/>
                </a:solidFill>
                <a:latin typeface="Times New Roman"/>
              </a:rPr>
              <a:t>Producto Referencia: XNEA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09480" y="1752480"/>
            <a:ext cx="7925040" cy="22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 u="sng">
                <a:solidFill>
                  <a:srgbClr val="000000"/>
                </a:solidFill>
                <a:uFillTx/>
                <a:latin typeface="Times New Roman"/>
              </a:rPr>
              <a:t>Groupw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Times New Roman"/>
              </a:rPr>
              <a:t>Permite compartir por parte de usuarios uno o más documentos a través de un kardex electrónico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3200" spc="-1" strike="noStrike">
                <a:solidFill>
                  <a:srgbClr val="ff0000"/>
                </a:solidFill>
                <a:latin typeface="Times New Roman"/>
              </a:rPr>
              <a:t>Producto Referencia: LOTUS NOT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4" name=""/>
          <p:cNvGraphicFramePr/>
          <p:nvPr/>
        </p:nvGraphicFramePr>
        <p:xfrm>
          <a:off x="6300720" y="189000"/>
          <a:ext cx="1393920" cy="13683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6300720" y="189000"/>
                    <a:ext cx="139392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animClr clrSpc="rgb">
                                <p:cBhvr>
                                  <p:cTn id="15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15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16" fill="hold">
                      <p:stCondLst>
                        <p:cond delay="indefinite"/>
                      </p:stCondLst>
                      <p:childTnLst>
                        <p:par>
                          <p:cTn id="17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18" dur="1" fill="hold"/>
                                  <p:tgtEl>
                                    <p:spTgt spid="15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dddddd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Groupware y Workflow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Características Relevante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34680" y="2444760"/>
            <a:ext cx="3833640" cy="25509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Almacenamiento, indexación y acceso a cualquier tipo de documento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Permite mezclar información de documento, generando vistas de interés para las necesidades del usuario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Correo electrónico, agenda, planificación de actividades (individuales y de grupo)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300" spc="-1" strike="noStrike">
                <a:solidFill>
                  <a:srgbClr val="000000"/>
                </a:solidFill>
                <a:latin typeface="Verdana"/>
              </a:rPr>
              <a:t>Gestión de información Web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544640" y="2408040"/>
            <a:ext cx="3840120" cy="258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00"/>
                </a:solidFill>
                <a:latin typeface="Verdana"/>
              </a:rPr>
              <a:t>Especificación de formularios, lógica asociada y modelo gráfico de flujo de documento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00"/>
                </a:solidFill>
                <a:latin typeface="Verdana"/>
              </a:rPr>
              <a:t>Orientado a  procesos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326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300" spc="-1" strike="noStrike">
                <a:solidFill>
                  <a:srgbClr val="000000"/>
                </a:solidFill>
                <a:latin typeface="Verdana"/>
              </a:rPr>
              <a:t>Control de secuencia de tareas y quienes la realizan, la información que soporta las tareas, mas el seguimiento y mecanismos de reporte que las miden y controlan</a:t>
            </a: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  <a:p>
            <a:pPr marL="469800" indent="0" algn="just">
              <a:spcBef>
                <a:spcPts val="3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9" name=""/>
          <p:cNvSpPr/>
          <p:nvPr/>
        </p:nvSpPr>
        <p:spPr>
          <a:xfrm>
            <a:off x="685800" y="5315040"/>
            <a:ext cx="777240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85800" y="5289480"/>
            <a:ext cx="8077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Software Generador de Aplicacion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85800" y="5746680"/>
            <a:ext cx="80773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Opera en Redes Computacional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" descr=""/>
          <p:cNvPicPr/>
          <p:nvPr/>
        </p:nvPicPr>
        <p:blipFill>
          <a:blip r:embed="rId2"/>
          <a:stretch/>
        </p:blipFill>
        <p:spPr>
          <a:xfrm>
            <a:off x="6084720" y="260280"/>
            <a:ext cx="1295640" cy="104796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85800" y="2192400"/>
            <a:ext cx="39625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685800" y="2166840"/>
            <a:ext cx="396252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GROUPWAR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724280" y="2166840"/>
            <a:ext cx="4038840" cy="398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Times New Roman"/>
              </a:rPr>
              <a:t>WORKFLOW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95280" y="259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Workflow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Comunicaciones Corporativas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324000" y="1773360"/>
            <a:ext cx="84960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Formularios electrónicos, rutas y reglas predefinidas, Administración de Roles Dinám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ontrol de Gest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76"/>
              </a:spcBef>
              <a:buClr>
                <a:srgbClr val="ff0000"/>
              </a:buClr>
              <a:buSzPct val="65000"/>
              <a:buFont typeface="Monotype Sort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900" spc="-1" strike="noStrike">
                <a:solidFill>
                  <a:srgbClr val="000000"/>
                </a:solidFill>
                <a:latin typeface="Verdana"/>
              </a:rPr>
              <a:t>Herramienta para el seguimiento y control de procesos administrativos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Capaz de integrar todas las plataformas de la empresa 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spaldo automát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Verdana"/>
              </a:rPr>
              <a:t>Alarmas automáticas, calendarios: múltiples - horarios de trabaj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uditoria: Quién y qué Rol representab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spcBef>
                <a:spcPts val="499"/>
              </a:spcBef>
              <a:buClr>
                <a:srgbClr val="000000"/>
              </a:buClr>
              <a:buSzPct val="65000"/>
              <a:buFont typeface="Monotype Sorts" charset="2"/>
              <a:buChar char="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Historia: Para cada mensaje saber por donde pasó, qué se hizo, quién lo hizo, que acciones automáticas se activar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7451640" y="189000"/>
          <a:ext cx="1401840" cy="119376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451640" y="189000"/>
                    <a:ext cx="1401840" cy="1193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dissolv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Rediseño de Proceso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699920"/>
            <a:ext cx="8534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tablece los cambios que deberán efectuarse en la situación actual y detalla como se ejecutarán los nuevos procesos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Es la fase más importante, ya que se definirán las nuevas formas de operar y su desempeñ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Areas de rediseño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structural: cambio en el proceso mismo (cambian las operaciones, se eliminan duplicidades, etc.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sponsabilidades: se modifica la asignación de  responsabilidad (personal, incorporación de tecnología, centralizar o descentralizar responsabilidades, etc.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115640" y="692280"/>
            <a:ext cx="748836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400" spc="-1" strike="noStrike">
                <a:solidFill>
                  <a:srgbClr val="000000"/>
                </a:solidFill>
                <a:latin typeface="Verdana"/>
              </a:rPr>
              <a:t>Colaboración - Secuenciamiento</a:t>
            </a: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453960" y="1612440"/>
            <a:ext cx="8554320" cy="4626360"/>
            <a:chOff x="453960" y="1612440"/>
            <a:chExt cx="8554320" cy="4626360"/>
          </a:xfrm>
        </p:grpSpPr>
        <p:sp>
          <p:nvSpPr>
            <p:cNvPr id="172" name=""/>
            <p:cNvSpPr/>
            <p:nvPr/>
          </p:nvSpPr>
          <p:spPr>
            <a:xfrm flipV="1">
              <a:off x="1731960" y="2018160"/>
              <a:ext cx="1080" cy="378252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91560" y="5594760"/>
              <a:ext cx="5821200" cy="10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sm" type="triangle" w="sm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560520" y="1707480"/>
              <a:ext cx="2146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Estructura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453960" y="2637360"/>
              <a:ext cx="1438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estructur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509400" y="4229280"/>
              <a:ext cx="1438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N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estructurad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7397640" y="5558760"/>
              <a:ext cx="1213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enfoque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2067120" y="5596200"/>
              <a:ext cx="139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entrado 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informació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5380920" y="5596200"/>
              <a:ext cx="1393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Centrado e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800" spc="-1" strike="noStrike">
                  <a:solidFill>
                    <a:srgbClr val="000000"/>
                  </a:solidFill>
                  <a:latin typeface="Times New Roman"/>
                </a:rPr>
                <a:t>proceso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2152800" y="4150440"/>
              <a:ext cx="1472760" cy="893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Proces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colaborativo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33080" y="3601800"/>
              <a:ext cx="1539360" cy="96552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d-hoc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186440" y="2981160"/>
              <a:ext cx="1893240" cy="10314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administrativ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659200" y="2499840"/>
              <a:ext cx="1472760" cy="96264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producción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3204720" y="2018520"/>
              <a:ext cx="4137480" cy="2682000"/>
            </a:xfrm>
            <a:prstGeom prst="ellipse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982320" y="2340000"/>
              <a:ext cx="14180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s-ES_tradnl" sz="2400" spc="-1" strike="noStrike">
                  <a:solidFill>
                    <a:srgbClr val="000000"/>
                  </a:solidFill>
                  <a:latin typeface="Times New Roman"/>
                </a:rPr>
                <a:t>Workflow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2163240" y="4996440"/>
              <a:ext cx="236916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Lotus Notes (IB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icrosoft Exchang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5285880" y="4541040"/>
              <a:ext cx="2567160" cy="1008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Flowmark (IBM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Xnear (Xnear - Chile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000" spc="-1" strike="noStrike">
                  <a:solidFill>
                    <a:srgbClr val="000000"/>
                  </a:solidFill>
                  <a:latin typeface="Times New Roman"/>
                </a:rPr>
                <a:t>Metro (ActionTech)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flipV="1">
              <a:off x="5869800" y="4012560"/>
              <a:ext cx="701280" cy="6188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369760" y="1612440"/>
              <a:ext cx="3638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000000"/>
                  </a:solidFill>
                  <a:latin typeface="Times New Roman"/>
                </a:rPr>
                <a:t>Visual Workflow (FileNet)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 flipH="1">
              <a:off x="6430680" y="2087280"/>
              <a:ext cx="350640" cy="34344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1" name=""/>
          <p:cNvSpPr/>
          <p:nvPr/>
        </p:nvSpPr>
        <p:spPr>
          <a:xfrm>
            <a:off x="1676520" y="3505320"/>
            <a:ext cx="716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V="1">
            <a:off x="4800600" y="1828800"/>
            <a:ext cx="0" cy="3733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95280" y="3330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Groupware y Workflow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Impedimentos para su Uso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94" name=""/>
          <p:cNvGraphicFramePr/>
          <p:nvPr/>
        </p:nvGraphicFramePr>
        <p:xfrm>
          <a:off x="1476360" y="1700280"/>
          <a:ext cx="6676920" cy="384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95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1476360" y="1700280"/>
                    <a:ext cx="6676920" cy="384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96" name=""/>
          <p:cNvSpPr/>
          <p:nvPr/>
        </p:nvSpPr>
        <p:spPr>
          <a:xfrm>
            <a:off x="1332000" y="5661000"/>
            <a:ext cx="7308720" cy="65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 u="sng">
                <a:solidFill>
                  <a:srgbClr val="000000"/>
                </a:solidFill>
                <a:uFillTx/>
                <a:latin typeface="Times New Roman"/>
              </a:rPr>
              <a:t>Fuente: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Encuesta 500 Usuarios Group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5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http://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www.compinfo-center.com/pqpwr-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7" name="" descr=""/>
          <p:cNvPicPr/>
          <p:nvPr/>
        </p:nvPicPr>
        <p:blipFill>
          <a:blip r:embed="rId4"/>
          <a:stretch/>
        </p:blipFill>
        <p:spPr>
          <a:xfrm>
            <a:off x="6227640" y="260280"/>
            <a:ext cx="1316160" cy="1235160"/>
          </a:xfrm>
          <a:prstGeom prst="rect">
            <a:avLst/>
          </a:prstGeom>
          <a:ln w="0">
            <a:noFill/>
          </a:ln>
        </p:spPr>
      </p:pic>
    </p:spTree>
  </p:cSld>
  <p:transition>
    <p:dissolv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539280" y="188640"/>
            <a:ext cx="5977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500" spc="-1" strike="noStrike" u="sng">
                <a:solidFill>
                  <a:srgbClr val="000000"/>
                </a:solidFill>
                <a:uFillTx/>
                <a:latin typeface="Verdana"/>
              </a:rPr>
              <a:t>Workflow</a:t>
            </a: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2500"/>
            </a:br>
            <a:r>
              <a:rPr b="0" lang="es-ES_tradnl" sz="2500" spc="-1" strike="noStrike">
                <a:solidFill>
                  <a:srgbClr val="000000"/>
                </a:solidFill>
                <a:latin typeface="Verdana"/>
              </a:rPr>
              <a:t>Producto : XNear</a:t>
            </a:r>
            <a:endParaRPr b="0" lang="en-US" sz="2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9" name="" descr=""/>
          <p:cNvPicPr/>
          <p:nvPr/>
        </p:nvPicPr>
        <p:blipFill>
          <a:blip r:embed="rId2"/>
          <a:stretch/>
        </p:blipFill>
        <p:spPr>
          <a:xfrm>
            <a:off x="7740720" y="260280"/>
            <a:ext cx="942840" cy="10080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3"/>
          <a:stretch/>
        </p:blipFill>
        <p:spPr>
          <a:xfrm>
            <a:off x="324000" y="1844640"/>
            <a:ext cx="3962160" cy="2971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4"/>
          <a:stretch/>
        </p:blipFill>
        <p:spPr>
          <a:xfrm>
            <a:off x="1547640" y="4292640"/>
            <a:ext cx="1371600" cy="182880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5"/>
          <a:stretch/>
        </p:blipFill>
        <p:spPr>
          <a:xfrm>
            <a:off x="3419640" y="2349360"/>
            <a:ext cx="3962160" cy="281952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6"/>
          <a:stretch/>
        </p:blipFill>
        <p:spPr>
          <a:xfrm>
            <a:off x="5219640" y="3213000"/>
            <a:ext cx="3505320" cy="2819520"/>
          </a:xfrm>
          <a:prstGeom prst="rect">
            <a:avLst/>
          </a:prstGeom>
          <a:ln w="0">
            <a:noFill/>
          </a:ln>
        </p:spPr>
      </p:pic>
      <p:sp>
        <p:nvSpPr>
          <p:cNvPr id="204" name=""/>
          <p:cNvSpPr/>
          <p:nvPr/>
        </p:nvSpPr>
        <p:spPr>
          <a:xfrm>
            <a:off x="2590920" y="5715000"/>
            <a:ext cx="1676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dissolve/>
  </p:transition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0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"/>
                            </p:stCondLst>
                            <p:childTnLst>
                              <p:par>
                                <p:cTn id="30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2500"/>
                            </p:stCondLst>
                            <p:childTnLst>
                              <p:par>
                                <p:cTn id="33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" fill="hold">
                            <p:stCondLst>
                              <p:cond delay="4000"/>
                            </p:stCondLst>
                            <p:childTnLst>
                              <p:par>
                                <p:cTn id="36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500"/>
                            </p:stCondLst>
                            <p:childTnLst>
                              <p:par>
                                <p:cTn id="39" nodeType="afterEffect" fill="hold" presetClass="entr" presetID="1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684360" y="1828440"/>
            <a:ext cx="8154720" cy="4048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acionalización (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ños 70´s en adelante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550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ólo los procedimientos administrativos son adecuados a los sistemas computacionales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ediseño Organizacional (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ño 85 en adelante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)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mbio profundo en la estructura organizacional. Ya la organización no volverá a ser nunca más la mis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Reingeniería (</a:t>
            </a:r>
            <a:r>
              <a:rPr b="0" lang="es-ES_tradnl" sz="2200" spc="-1" strike="noStrike">
                <a:solidFill>
                  <a:srgbClr val="000000"/>
                </a:solidFill>
                <a:latin typeface="Verdana"/>
              </a:rPr>
              <a:t>años 90´s en adelante</a:t>
            </a: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)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49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Reinventamos la empresa. Todo esta en revisión, los productos, los mercados, los mét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Profundidad del Rediseñ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etodología de Trabaj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440" y="1980720"/>
            <a:ext cx="80773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finición del Pro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valuación de la Situación Actua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Definición de dirección(es) de cambio(s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Implantación del rediseño propuesto (Gente, Producto, Tecnología, Proceso y Cliente)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Puesta en Marcha y Operación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Definición del Proceso ...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Recursos Productivos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rresponden a los elementos que son utilizados para el desarrollo del proce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onfiguración del Proces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rresponde a los procedimientos, reglas y distribución física de las operaciones (modelo)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Carga de Trabaj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corresponde a los parámetros que describen la carga de trabajo, es decir, el tipo, frecuencia y comportamient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 algn="just">
              <a:lnSpc>
                <a:spcPct val="90000"/>
              </a:lnSpc>
              <a:spcBef>
                <a:spcPts val="60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Arial"/>
              </a:rPr>
              <a:t>Niveles de Servicio</a:t>
            </a:r>
            <a:r>
              <a:rPr b="0" lang="es-ES_tradnl" sz="2400" spc="-1" strike="noStrike">
                <a:solidFill>
                  <a:srgbClr val="000000"/>
                </a:solidFill>
                <a:latin typeface="Arial"/>
              </a:rPr>
              <a:t>: representa la definición de aquellos indicadores de calidad del proceso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07560" y="506160"/>
            <a:ext cx="7404120" cy="95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Situación Actual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153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Es el modelamiento formal (representación precisa) que permita interactuar con otras personas, hacer análisis sistemáticos, y validar su concordancia con el actual estado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Modelar la situación actual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000000"/>
                </a:solidFill>
                <a:latin typeface="Verdana"/>
              </a:rPr>
              <a:t>Validación y Medición del proceso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00"/>
                </a:solidFill>
                <a:latin typeface="Verdana"/>
              </a:rPr>
              <a:t>Medición del Proceso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00100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66"/>
                </a:solidFill>
                <a:latin typeface="Verdana"/>
              </a:rPr>
              <a:t>Razones para contar con métricas: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0000"/>
                </a:solidFill>
                <a:latin typeface="Verdana"/>
              </a:rPr>
              <a:t>Nos permiten identificar los </a:t>
            </a:r>
            <a:r>
              <a:rPr b="0" lang="es-ES_tradnl" sz="2600" spc="-1" strike="noStrike">
                <a:solidFill>
                  <a:srgbClr val="000066"/>
                </a:solidFill>
                <a:latin typeface="Verdana"/>
              </a:rPr>
              <a:t>procesos claves</a:t>
            </a:r>
            <a:r>
              <a:rPr b="0" lang="es-ES_tradnl" sz="2600" spc="-1" strike="noStrike">
                <a:solidFill>
                  <a:srgbClr val="cc0000"/>
                </a:solidFill>
                <a:latin typeface="Verdana"/>
              </a:rPr>
              <a:t> y su desempeño</a:t>
            </a:r>
            <a:r>
              <a:rPr b="0" lang="es-ES_tradnl" sz="2600" spc="-1" strike="noStrike">
                <a:solidFill>
                  <a:srgbClr val="000066"/>
                </a:solidFill>
                <a:latin typeface="Verdana"/>
              </a:rPr>
              <a:t> actual. 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907920" indent="-436320">
              <a:spcBef>
                <a:spcPts val="649"/>
              </a:spcBef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600" spc="-1" strike="noStrike">
                <a:solidFill>
                  <a:srgbClr val="cc0000"/>
                </a:solidFill>
                <a:latin typeface="Verdana"/>
              </a:rPr>
              <a:t>Definen los parámetros de </a:t>
            </a:r>
            <a:r>
              <a:rPr b="0" lang="es-ES_tradnl" sz="2600" spc="-1" strike="noStrike">
                <a:solidFill>
                  <a:srgbClr val="000066"/>
                </a:solidFill>
                <a:latin typeface="Verdana"/>
              </a:rPr>
              <a:t>evaluación del rediseño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étricas asociadas al flujo del pro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Métricas asociadas al estado del proces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74200" y="304920"/>
            <a:ext cx="8001000" cy="121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800" spc="-1" strike="noStrike">
                <a:solidFill>
                  <a:srgbClr val="000066"/>
                </a:solidFill>
                <a:latin typeface="Verdana"/>
              </a:rPr>
              <a:t>Algunas Métricas</a:t>
            </a:r>
            <a:endParaRPr b="0" lang="en-US" sz="3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66280" y="1752480"/>
            <a:ext cx="8326440" cy="4267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Volumen: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Cantidad de nuevos client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Tiempo: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Ciclo trabajo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Cantidad de personas, organizaciones, lugares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Eficiencia:</a:t>
            </a: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Porcentaje de desecho, de error.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Holguras: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 disponibilidades de recursos no necesarios (cuellos de botella)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marL="469800" indent="-469800">
              <a:lnSpc>
                <a:spcPct val="90000"/>
              </a:lnSpc>
              <a:spcBef>
                <a:spcPts val="751"/>
              </a:spcBef>
              <a:buClr>
                <a:srgbClr val="cc0000"/>
              </a:buClr>
              <a:buSzPct val="65000"/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cc0000"/>
                </a:solidFill>
                <a:latin typeface="Verdana"/>
              </a:rPr>
              <a:t>Costo: </a:t>
            </a:r>
            <a:r>
              <a:rPr b="0" i="1" lang="es-ES_tradnl" sz="3000" spc="-1" strike="noStrike">
                <a:solidFill>
                  <a:srgbClr val="000000"/>
                </a:solidFill>
                <a:latin typeface="Verdana"/>
              </a:rPr>
              <a:t>de defectos, reelaboración.</a:t>
            </a:r>
            <a:r>
              <a:rPr b="0" i="1" lang="es-ES_tradnl" sz="3000" spc="-1" strike="noStrike">
                <a:solidFill>
                  <a:srgbClr val="cc0000"/>
                </a:solidFill>
                <a:latin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7-23T22:26:49Z</dcterms:created>
  <dc:creator>Paula Varas</dc:creator>
  <dc:description/>
  <dc:language>en-US</dc:language>
  <cp:lastModifiedBy> </cp:lastModifiedBy>
  <cp:lastPrinted>2001-07-30T13:16:05Z</cp:lastPrinted>
  <dcterms:modified xsi:type="dcterms:W3CDTF">2004-03-24T06:08:14Z</dcterms:modified>
  <cp:revision>75</cp:revision>
  <dc:subject/>
  <dc:title>Introducción al Análisis de los Sistemas de Información Administrativos</dc:title>
</cp:coreProperties>
</file>