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C8BF3-EEE2-4D66-9FC8-B12323C3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E246-2644-49A1-8143-AD55E71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10C05-1DD8-4F26-AA1C-14E4114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5B7F8-1066-40CC-9A25-60EBA56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859E-D3E5-437B-8EE4-81ABE35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F373-3B17-41C7-AE74-0FD4650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FCA9-A196-489A-BCE0-B090FAE7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9DB4B-8ACC-4243-A5B9-2CE82D6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B47DE-3928-4C0A-8828-F5F7490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45F2D-35D8-499B-B0A5-9E64433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742B9-27FA-4C9D-99AA-C2A68982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674E9-E75F-495C-8B04-8E90B136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 Primav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17CC-5BC6-4AF8-BBEA-70C90392D1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lapierr@ing.uchile.cl" TargetMode="External"/><Relationship Id="rId3" Type="http://schemas.openxmlformats.org/officeDocument/2006/relationships/hyperlink" Target="mailto:glapierr@ing.uchile.cl" TargetMode="External"/><Relationship Id="rId4" Type="http://schemas.openxmlformats.org/officeDocument/2006/relationships/hyperlink" Target="mailto:glapierr@ing.uchile.cl" TargetMode="External"/><Relationship Id="rId5" Type="http://schemas.openxmlformats.org/officeDocument/2006/relationships/hyperlink" Target="mailto:glapierr@ing.uchile.cl" TargetMode="External"/><Relationship Id="rId6" Type="http://schemas.openxmlformats.org/officeDocument/2006/relationships/hyperlink" Target="mailto:glapierr@ing.uchile.cl" TargetMode="External"/><Relationship Id="rId7" Type="http://schemas.openxmlformats.org/officeDocument/2006/relationships/hyperlink" Target="mailto:carpizar@ing.uchile.cl" TargetMode="External"/><Relationship Id="rId8" Type="http://schemas.openxmlformats.org/officeDocument/2006/relationships/hyperlink" Target="mailto:carpizar@ing.uchile.cl" TargetMode="External"/><Relationship Id="rId9" Type="http://schemas.openxmlformats.org/officeDocument/2006/relationships/hyperlink" Target="mailto:carpizar@ing.uchile.cl" TargetMode="External"/><Relationship Id="rId10" Type="http://schemas.openxmlformats.org/officeDocument/2006/relationships/hyperlink" Target="mailto:carpizar@ing.uchile.cl" TargetMode="External"/><Relationship Id="rId11" Type="http://schemas.openxmlformats.org/officeDocument/2006/relationships/hyperlink" Target="mailto:carpizar@ing.uchile.cl" TargetMode="External"/><Relationship Id="rId12" Type="http://schemas.openxmlformats.org/officeDocument/2006/relationships/hyperlink" Target="mailto:criiba@iciuchile.cl" TargetMode="External"/><Relationship Id="rId13" Type="http://schemas.openxmlformats.org/officeDocument/2006/relationships/hyperlink" Target="mailto:criiba@iciuchile.cl" TargetMode="External"/><Relationship Id="rId14" Type="http://schemas.openxmlformats.org/officeDocument/2006/relationships/hyperlink" Target="mailto:criiba@iciuchile.cl" TargetMode="External"/><Relationship Id="rId15" Type="http://schemas.openxmlformats.org/officeDocument/2006/relationships/hyperlink" Target="mailto:criiba@iciuchile.cl" TargetMode="External"/><Relationship Id="rId16" Type="http://schemas.openxmlformats.org/officeDocument/2006/relationships/hyperlink" Target="mailto:criiba@iciuchile.cl" TargetMode="External"/><Relationship Id="rId17" Type="http://schemas.openxmlformats.org/officeDocument/2006/relationships/hyperlink" Target="mailto:svargas@dii.uchile.cl" TargetMode="External"/><Relationship Id="rId18" Type="http://schemas.openxmlformats.org/officeDocument/2006/relationships/hyperlink" Target="mailto:svargas@dii.uchile.cl" TargetMode="External"/><Relationship Id="rId19" Type="http://schemas.openxmlformats.org/officeDocument/2006/relationships/hyperlink" Target="mailto:svargas@dii.uchile.cl" TargetMode="External"/><Relationship Id="rId20" Type="http://schemas.openxmlformats.org/officeDocument/2006/relationships/hyperlink" Target="mailto:svargas@dii.uchile.cl" TargetMode="External"/><Relationship Id="rId21" Type="http://schemas.openxmlformats.org/officeDocument/2006/relationships/hyperlink" Target="mailto:svargas@dii.uchile.cl" TargetMode="External"/><Relationship Id="rId22" Type="http://schemas.openxmlformats.org/officeDocument/2006/relationships/hyperlink" Target="mailto:svargas@dii.uchile.cl" TargetMode="External"/><Relationship Id="rId23" Type="http://schemas.openxmlformats.org/officeDocument/2006/relationships/hyperlink" Target="mailto:svargas@dii.uchile.cl" TargetMode="Externa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Clase Auxiliar 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752480"/>
            <a:ext cx="6632640" cy="4329000"/>
            <a:chOff x="1143000" y="1752480"/>
            <a:chExt cx="6632640" cy="4329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0" t="0" r="49027" b="54207"/>
            <a:stretch/>
          </p:blipFill>
          <p:spPr>
            <a:xfrm>
              <a:off x="1143000" y="1752480"/>
              <a:ext cx="663264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12840" y="3041640"/>
              <a:ext cx="632124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343320"/>
              <a:ext cx="655560" cy="183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1969920"/>
              <a:ext cx="4181400" cy="260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: T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Contexto y definición. Creación de formulario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Mail Links, Adding an Offices Service, Adding an Extranet Process Initiation, Adding an ODBC Source to an appl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Map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Mapeo, Definición de ciclos,  Lin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Creación de Tablas de Datos y Atribu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rotocol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Provee el medio para capacitar actos adicionales y estados necesarios para manejar interacciones complejas al pasar entre una fase (ciclo) y otra (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: Scripts para gatillar actos en ciclos y para setear las condiciones de ejecución de esos ac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PROCESS BUILDER: CONSIST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178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 algn="just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uilder Consistency Checking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el proceso de negocio alcance su propósito (satisfacción), el mapeo debe ser completo y lógico. La consistencia está basada en un conjunto de reglas de mapeo (5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s diseñadas de acuerdo a los principios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nsistencia Lógic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implicida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vitar Redundanci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 algn="just">
              <a:lnSpc>
                <a:spcPct val="110000"/>
              </a:lnSpc>
              <a:spcBef>
                <a:spcPts val="6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ompletitu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unas Reglas de Modelaci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n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no puede salir y volver al mismo punto, pues cada subproceso tiene un tiempo (duración) asoci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diseñar, no deberían haber saltos de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link debe salir del inicio de la etapa a descomponer del ciclo de origen y llegar al inicio del subciclo que descompone al ciclo de origen. Análogamente al vol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deben quedar ciclos abiertos ni ais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o convención, el flujo de salida que sigue el sentido del flujo de entrada a un nodo de decisión corresponde a la alternativa s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ctionWorkflow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55550" b="62641"/>
          <a:stretch/>
        </p:blipFill>
        <p:spPr>
          <a:xfrm>
            <a:off x="1160640" y="1778040"/>
            <a:ext cx="7068960" cy="431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41280" y="3117960"/>
            <a:ext cx="630360" cy="116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008080"/>
            <a:ext cx="3538440" cy="42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8120" y="2257560"/>
            <a:ext cx="939960" cy="618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NetCouri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empresa NetCourier fue fundada hace tres años con el objetivo de distribuir paquetes de pequeños volúmenes en Santiago (correo express) a un bajo precio. Sus ventajas eran una amplia red de distribuidores y un centro de distribución. La empresa ha tenido un crecimiento explosivo en los últimos años, llegando a ofrecer servicios de distribución: Expresos (menos de un día y alto costo), Normal (de dos a cinco días y un bajo precio) y Servicios especiales (mercadería de alto valor transportada, donde los precios se estiman caso a caso). El rápido crecimiento de NetCourier no sólo ha sido en términos de servicios, sino que su cobertura se ha extendido a todo el paí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envío de paquetes (expresos o normales) parte cuando un cliente llama para solicitar el envío de un paquete determinado y se fija la fecha y hora en la cual un representante de la empresa lo visitará para retirar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presentante visita al cliente y realiza el llenado de un formulario donde se especifican los antecedentes del paquete enviado (tipo de mercancía enviada, lugar de destino, tipo de servicio, persona de contacto y su teléfono), estableciendo el costo en término de los precios lista que ellos disponen. Sin embargo, algunos de estos antecedentes podrían no ser llenados directamente y los representantes, para no perder su viaje, los llenarían vía llamada telefónica al cliente al finalizar el dí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os representantes llegan dos veces al día a los centros de distribución (al mediodía y al finalizar la tarde), donde entregan los paquetes y formularios asociados. En los centros de distribución existen dos actividades, las que corresponden 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a) Consolidación de paquetes que son enviados desde la ciudad a otro punto, para los cuales se debe conocer los tipos de servicio (expreso o normal) y sus destinos. Deben ser agrupados por mecanismo de despacho (interno de la ciudad, camión externo a la ciudad o avión),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(b) Consolidación de despachos entrantes a ser despachados a la ciudad, con la misma información necesari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unciado Caso NetCourie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a vez terminada la consolidación, y de acuerdo a las disponibilidades de camionetas, camiones y espacio en aviones, se realiza el despacho respectivo (carga y traslad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despacho al destino final es programado en cada bodega, donde se consolidan los paquetes que han llegado desde otras ciudades con aquellos que son internos a la ciudad. Una vez consolidado, se entrega la carga a los despachadores que, en vehículos pequeños (motos o camionetas), entregan a las direcciones correspondi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tre los problemas internos se ha considerado que cerca del 30 % de las órdenes no llegan a tiempo a los destinos porque las personas encargadas de recibir los paquetes (cliente final) no están en los lugares en las horas de despacho, o ha existido una mala consolidación (no se han identificado correctamente las direcciones) o los datos han sido mal llenados por los represent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876640" cy="293184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ctividades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911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epción de llam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75248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ta a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400" indent="-34056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 por parte de represen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íos dentro y fuera de la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8400" indent="-3477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a al destina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ecedent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un caso de estudio, modelar sus procesos de negocios, bajo el enfoque de Cicl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uxilia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lette Lapierre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glapier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rla Pizarro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arpizar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@ing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istian Ibarra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criiba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ici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by Vargas (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vargas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@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dii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uchile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.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510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de Negocios NET COURI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34741" b="33413"/>
          <a:stretch/>
        </p:blipFill>
        <p:spPr>
          <a:xfrm>
            <a:off x="990720" y="1600200"/>
            <a:ext cx="75438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lgunas Alternativas ..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nsidera a la Bodega y Centro de Distribución juntos, se podría eliminar el sub proceso Envío dentro de la Ciu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interpretado la visita al cliente como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haber agrupado la Llamada Telefónica con la Visita al Cliente en un solo proceso, donde el cliente pide que se vaya a buscar el paquete y la llamada es parte de la prepa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considerarse el despacho al destinatario como parte de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880" y="622440"/>
            <a:ext cx="75103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e avisa al remitente de entrega de encomi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sos en entrega de encomiendas p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se avisa al destinatario antes de entregar encomiend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Mala consolidación de encomien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en toma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portunidad interesante es el desarrollo del negocio vía página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cliente accesa la págin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 donde se infor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(tarifa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y otr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 ingresa sus datos (incluyendo teléfono del recept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ide una visi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programar la logística más automatizadame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Posibilidad de trac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 opción es manej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tiro anticipado en bod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ropuesto:</a:t>
            </a:r>
            <a:br>
              <a:rPr sz="4800"/>
            </a:b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so Production Ltd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proceso principal e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 del sistema Todo en un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con Dealer LTD como el cliente y Production LTD como ejecutor del ciclo de trabajo. El proceso comienza cuando Dealer LTD hace una petición referente a la compra del sistema Todo en uno. Existe una tarea asociada no presente en el modelo: Dealer LTD (cliente) envía un fax con información sobre situación, necesidad y estado del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n las órdenes entrantes y luego la información es enviada (como tarea) al Departamento Técnico, donde se hace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quema de construcció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técnico pue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olicitar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 Dealer LTD. Si la información adicional es necesaria, Administración de Ordenes entra en contacto con el remitente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e pide información adi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espués reenvía al depto. técnic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esquema de construcción está listo, es enviado al depto.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eparación/Planif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stiman las horas-hombre requeridas para la fabricación del producto y se crea un plan de fabricación, que precisa qué máquinas son necesarias, en qué secuencia deben ser utilizadas y cuánto tiempo toma cada paso en la secuencia. Dependiendo de esta información y del esquema de construcción, el depto. de preparación/ planificación decide qué insumos o materiales se comprarán y, también el tiempo de entrega de dichos insum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Descrip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el plan de fabricación está listo, estas actividades dan lugar a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tición de materi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que se envía al depto. de Compras. Al mismo tiempo, el depto. de Preparación/Planificación hace entonces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firmación de la orde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(chequea los tiempos de recepción de los insumos en la fabricación, así como información adicional), la que es enviada a Dealer LTD (cliente) por Administración de Orde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r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ntacta al Proveedor y solicita una orden de compra para los insumos. Cuando los insumos son recepcionados, l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bric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omienza. Entonces, los componentes manufacturados se mueven 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samblaje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abricación y ensamble son controlados por Administración de Ordenes, quien elabora un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forme de retras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contacta a los clientes cuando es necesario (en el modelo hay un cliente y dos ejecutores, lo que representa dos ciclos de trabajo similares, uno con la administración de ordenes como cliente y con la fabricación como ejecutante, y el otro con el Ensamblaje como ejecutante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el ensamblaje es APROBADO, el producto se traslada al departamento d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reg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onde se embala y entrega al cliente por los medios de transporte acorda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epartamento de entrega envía una nota de consignación a Contabilidad, donde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ctur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se crea y se envía a Dealer LTD por correo electrón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666880" y="990720"/>
            <a:ext cx="4876920" cy="5181480"/>
            <a:chOff x="2666880" y="990720"/>
            <a:chExt cx="4876920" cy="5181480"/>
          </a:xfrm>
        </p:grpSpPr>
        <p:sp>
          <p:nvSpPr>
            <p:cNvPr id="144" name=""/>
            <p:cNvSpPr/>
            <p:nvPr/>
          </p:nvSpPr>
          <p:spPr>
            <a:xfrm>
              <a:off x="4038480" y="5181480"/>
              <a:ext cx="60984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5638680"/>
              <a:ext cx="761760" cy="53352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720" y="4191120"/>
              <a:ext cx="838080" cy="60948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99072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1752480"/>
              <a:ext cx="7621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73392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4724280"/>
              <a:ext cx="1219320" cy="457200"/>
            </a:xfrm>
            <a:prstGeom prst="ellipse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rabajo Grup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cripción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(1 sema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s de 4 integr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ferentemente de la misma s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mbrar un jefe de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entivo a los dos mejores grup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ara los informes se requiere trabajo con herramientas CASE (laborator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D con SW (1 semana para inscripción individual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cripción (área y datos de contac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cceso a información de un proceso de 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 de gestión, Oportunidad de mej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s, Funciones,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oque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ferentes técnicas de model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minios de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omisos (relaciones, preocupaciones, declaraciones, cultura organizac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6960" y="790560"/>
            <a:ext cx="425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ICL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67676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os procesos son redes de acciones y compromisos entre clientes y ejecutores. Coordinación de actividades para satisfacer un requerimi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8862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11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iclos de Trabajo: Metodologí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81296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 lo que ocurre, en cada etapa del ciclo princip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hequear seri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es, Roles, Actividades, Decisiones, Condiciones de satisfacción, Supuestos, Casos espe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ocess Builder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632880"/>
            <a:ext cx="8001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rocess Build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Más Elemen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78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oles - Personas que participan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os - Conjunto de respuestas disponibles para la comunic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tos - Información involucrada en un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cripting - Programas que gatillan accciones automát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process definitions and defaults - Regla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controlan el funcion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Saby Vargas</dc:creator>
  <dc:description/>
  <dc:language>en-US</dc:language>
  <cp:lastModifiedBy>Saby Vargas Verdugo</cp:lastModifiedBy>
  <cp:lastPrinted>2001-07-30T13:16:05Z</cp:lastPrinted>
  <dcterms:modified xsi:type="dcterms:W3CDTF">2004-03-18T03:46:16Z</dcterms:modified>
  <cp:revision>123</cp:revision>
  <dc:subject>Ciclos Trabajo</dc:subject>
  <dc:title>Auxiliar 01 IN55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1460729</vt:r8>
  </property>
  <property fmtid="{D5CDD505-2E9C-101B-9397-08002B2CF9AE}" pid="3" name="_AuthorEmail">
    <vt:lpwstr>svaras@dii.uchile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/>
  </property>
</Properties>
</file>