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12D5B1-83DF-45C3-9324-68A599D00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E9A94F-5A6E-41FF-8AC4-9F9EBBF2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BCD948-E2C7-4D80-9228-8325F1C7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7C55A-2150-4E07-A757-CACD3626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A4B30-F752-482F-BA66-DF9556FF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E85DB-1319-46D8-A0AC-C2A6BCB7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C39317-C0A7-42CE-AA4C-3121FEEB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18E0C-2CAC-40F1-80A4-4065F03F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B9E08-231F-4CF5-8AC1-560348B2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1258A1-E7A1-4BCF-BE40-37095482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562703-6C9D-4F6F-A6A2-9C1ACF27F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751F0B-08C9-4842-A081-8CA3CB046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55A, Sistemas de Información Administrativos                                                  </a:t>
            </a: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 Primavera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200</a:t>
            </a: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E0E5-2D00-4D6C-97B4-9E2EE274242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glapierr@ing.uchile.cl" TargetMode="External"/><Relationship Id="rId3" Type="http://schemas.openxmlformats.org/officeDocument/2006/relationships/hyperlink" Target="mailto:glapierr@ing.uchile.cl" TargetMode="External"/><Relationship Id="rId4" Type="http://schemas.openxmlformats.org/officeDocument/2006/relationships/hyperlink" Target="mailto:glapierr@ing.uchile.cl" TargetMode="External"/><Relationship Id="rId5" Type="http://schemas.openxmlformats.org/officeDocument/2006/relationships/hyperlink" Target="mailto:glapierr@ing.uchile.cl" TargetMode="External"/><Relationship Id="rId6" Type="http://schemas.openxmlformats.org/officeDocument/2006/relationships/hyperlink" Target="mailto:glapierr@ing.uchile.cl" TargetMode="External"/><Relationship Id="rId7" Type="http://schemas.openxmlformats.org/officeDocument/2006/relationships/hyperlink" Target="mailto:carpizar@ing.uchile.cl" TargetMode="External"/><Relationship Id="rId8" Type="http://schemas.openxmlformats.org/officeDocument/2006/relationships/hyperlink" Target="mailto:carpizar@ing.uchile.cl" TargetMode="External"/><Relationship Id="rId9" Type="http://schemas.openxmlformats.org/officeDocument/2006/relationships/hyperlink" Target="mailto:carpizar@ing.uchile.cl" TargetMode="External"/><Relationship Id="rId10" Type="http://schemas.openxmlformats.org/officeDocument/2006/relationships/hyperlink" Target="mailto:carpizar@ing.uchile.cl" TargetMode="External"/><Relationship Id="rId11" Type="http://schemas.openxmlformats.org/officeDocument/2006/relationships/hyperlink" Target="mailto:carpizar@ing.uchile.cl" TargetMode="External"/><Relationship Id="rId12" Type="http://schemas.openxmlformats.org/officeDocument/2006/relationships/hyperlink" Target="mailto:criiba@iciuchile.cl" TargetMode="External"/><Relationship Id="rId13" Type="http://schemas.openxmlformats.org/officeDocument/2006/relationships/hyperlink" Target="mailto:criiba@iciuchile.cl" TargetMode="External"/><Relationship Id="rId14" Type="http://schemas.openxmlformats.org/officeDocument/2006/relationships/hyperlink" Target="mailto:criiba@iciuchile.cl" TargetMode="External"/><Relationship Id="rId15" Type="http://schemas.openxmlformats.org/officeDocument/2006/relationships/hyperlink" Target="mailto:criiba@iciuchile.cl" TargetMode="External"/><Relationship Id="rId16" Type="http://schemas.openxmlformats.org/officeDocument/2006/relationships/hyperlink" Target="mailto:criiba@iciuchile.cl" TargetMode="External"/><Relationship Id="rId17" Type="http://schemas.openxmlformats.org/officeDocument/2006/relationships/hyperlink" Target="mailto:svargas@dii.uchile.cl" TargetMode="External"/><Relationship Id="rId18" Type="http://schemas.openxmlformats.org/officeDocument/2006/relationships/hyperlink" Target="mailto:svargas@dii.uchile.cl" TargetMode="External"/><Relationship Id="rId19" Type="http://schemas.openxmlformats.org/officeDocument/2006/relationships/hyperlink" Target="mailto:svargas@dii.uchile.cl" TargetMode="External"/><Relationship Id="rId20" Type="http://schemas.openxmlformats.org/officeDocument/2006/relationships/hyperlink" Target="mailto:svargas@dii.uchile.cl" TargetMode="External"/><Relationship Id="rId21" Type="http://schemas.openxmlformats.org/officeDocument/2006/relationships/hyperlink" Target="mailto:svargas@dii.uchile.cl" TargetMode="External"/><Relationship Id="rId22" Type="http://schemas.openxmlformats.org/officeDocument/2006/relationships/hyperlink" Target="mailto:svargas@dii.uchile.cl" TargetMode="External"/><Relationship Id="rId23" Type="http://schemas.openxmlformats.org/officeDocument/2006/relationships/hyperlink" Target="mailto:svargas@dii.uchile.cl" TargetMode="External"/><Relationship Id="rId2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Clase Auxiliar 01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62120" y="4647960"/>
            <a:ext cx="777240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stemas de Información Administrativ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rechos Reservados (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632880"/>
            <a:ext cx="8001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Process Build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143000" y="1752480"/>
            <a:ext cx="6632640" cy="4329000"/>
            <a:chOff x="1143000" y="1752480"/>
            <a:chExt cx="6632640" cy="4329000"/>
          </a:xfrm>
        </p:grpSpPr>
        <p:pic>
          <p:nvPicPr>
            <p:cNvPr id="103" name="" descr=""/>
            <p:cNvPicPr/>
            <p:nvPr/>
          </p:nvPicPr>
          <p:blipFill>
            <a:blip r:embed="rId2"/>
            <a:srcRect l="0" t="0" r="49027" b="54207"/>
            <a:stretch/>
          </p:blipFill>
          <p:spPr>
            <a:xfrm>
              <a:off x="1143000" y="1752480"/>
              <a:ext cx="6632640" cy="43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1212840" y="3041640"/>
              <a:ext cx="6321240" cy="2602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54240" y="3343320"/>
              <a:ext cx="655560" cy="18316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43000" y="1969920"/>
              <a:ext cx="4181400" cy="2602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632880"/>
            <a:ext cx="8001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Process Builder: T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440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 u="sng">
                <a:solidFill>
                  <a:srgbClr val="000000"/>
                </a:solidFill>
                <a:uFillTx/>
                <a:latin typeface="Arial"/>
              </a:rPr>
              <a:t>Application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Contexto y definición. Creación de formularios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, Mail Links, Adding an Offices Service, Adding an Extranet Process Initiation, Adding an ODBC Source to an applic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00"/>
                </a:solidFill>
                <a:uFillTx/>
                <a:latin typeface="Arial"/>
              </a:rPr>
              <a:t>Map</a:t>
            </a: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: Mapeo, Definición de ciclos,  Link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00"/>
                </a:solidFill>
                <a:uFillTx/>
                <a:latin typeface="Arial"/>
              </a:rPr>
              <a:t>Data</a:t>
            </a: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: Creación de Tablas de Datos y Atribut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00"/>
                </a:solidFill>
                <a:uFillTx/>
                <a:latin typeface="Arial"/>
              </a:rPr>
              <a:t>Protocol</a:t>
            </a: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: Provee el medio para capacitar actos adicionales y estados necesarios para manejar interacciones complejas al pasar entre una fase (ciclo) y otra (o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00"/>
                </a:solidFill>
                <a:uFillTx/>
                <a:latin typeface="Arial"/>
              </a:rPr>
              <a:t>Scripts</a:t>
            </a: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: Scripts para gatillar actos en ciclos y para setear las condiciones de ejecución de esos act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632880"/>
            <a:ext cx="8001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ahoma"/>
              </a:rPr>
              <a:t>PROCESS BUILDER: CONSISTENC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7600" y="1828800"/>
            <a:ext cx="8178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-446040" algn="just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Builder Consistency Checking: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a que el proceso de negocio alcance su propósito (satisfacción), el mapeo debe ser completo y lógico. La consistencia está basada en un conjunto de reglas de mapeo (58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 algn="just">
              <a:lnSpc>
                <a:spcPct val="12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glas diseñadas de acuerdo a los principios d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39480" indent="-375480" algn="just">
              <a:lnSpc>
                <a:spcPct val="110000"/>
              </a:lnSpc>
              <a:spcBef>
                <a:spcPts val="6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Consistencia Lógica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2" marL="1239480" indent="-375480" algn="just">
              <a:lnSpc>
                <a:spcPct val="110000"/>
              </a:lnSpc>
              <a:spcBef>
                <a:spcPts val="6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Simplicidad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2" marL="1239480" indent="-375480" algn="just">
              <a:lnSpc>
                <a:spcPct val="110000"/>
              </a:lnSpc>
              <a:spcBef>
                <a:spcPts val="6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Evitar Redundancia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2" marL="1239480" indent="-375480" algn="just">
              <a:lnSpc>
                <a:spcPct val="110000"/>
              </a:lnSpc>
              <a:spcBef>
                <a:spcPts val="6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Completitud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Algunas Reglas de Modelaci</a:t>
            </a:r>
            <a:r>
              <a:rPr b="0" lang="es-MX" sz="3400" spc="-1" strike="noStrike">
                <a:solidFill>
                  <a:srgbClr val="000000"/>
                </a:solidFill>
                <a:latin typeface="Verdana"/>
              </a:rPr>
              <a:t>ón ..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96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Un link no puede salir y volver al mismo punto, pues cada subproceso tiene un tiempo (duración) asoci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l diseñar, no deberían haber saltos de etap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Un link debe salir del inicio de la etapa a descomponer del ciclo de origen y llegar al inicio del subciclo que descompone al ciclo de origen. Análogamente al volv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No deben quedar ciclos abiertos ni aisl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omo convención, el flujo de salida que sigue el sentido del flujo de entrada a un nodo de decisión corresponde a la alternativa s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632880"/>
            <a:ext cx="8001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ActionWorkflow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rcRect l="0" t="0" r="55550" b="62641"/>
          <a:stretch/>
        </p:blipFill>
        <p:spPr>
          <a:xfrm>
            <a:off x="1160640" y="1778040"/>
            <a:ext cx="7068960" cy="4317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241280" y="3117960"/>
            <a:ext cx="630360" cy="1163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03280" y="2008080"/>
            <a:ext cx="3538440" cy="42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18120" y="2257560"/>
            <a:ext cx="939960" cy="6188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aso NetCourier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nunciado Caso NetCouri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La empresa NetCourier fue fundada hace tres años con el objetivo de distribuir paquetes de pequeños volúmenes en Santiago (correo express) a un bajo precio. Sus ventajas eran una amplia red de distribuidores y un centro de distribución. La empresa ha tenido un crecimiento explosivo en los últimos años, llegando a ofrecer servicios de distribución: Expresos (menos de un día y alto costo), Normal (de dos a cinco días y un bajo precio) y Servicios especiales (mercadería de alto valor transportada, donde los precios se estiman caso a caso). El rápido crecimiento de NetCourier no sólo ha sido en términos de servicios, sino que su cobertura se ha extendido a todo el paí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 envío de paquetes (expresos o normales) parte cuando un cliente llama para solicitar el envío de un paquete determinado y se fija la fecha y hora en la cual un representante de la empresa lo visitará para retirar el paquet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nunciado Caso NetCourier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(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 representante visita al cliente y realiza el llenado de un formulario donde se especifican los antecedentes del paquete enviado (tipo de mercancía enviada, lugar de destino, tipo de servicio, persona de contacto y su teléfono), estableciendo el costo en término de los precios lista que ellos disponen. Sin embargo, algunos de estos antecedentes podrían no ser llenados directamente y los representantes, para no perder su viaje, los llenarían vía llamada telefónica al cliente al finalizar el dí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Los representantes llegan dos veces al día a los centros de distribución (al mediodía y al finalizar la tarde), donde entregan los paquetes y formularios asociados. En los centros de distribución existen dos actividades, las que corresponden a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(a) Consolidación de paquetes que son enviados desde la ciudad a otro punto, para los cuales se debe conocer los tipos de servicio (expreso o normal) y sus destinos. Deben ser agrupados por mecanismo de despacho (interno de la ciudad, camión externo a la ciudad o avión), 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(b) Consolidación de despachos entrantes a ser despachados a la ciudad, con la misma información necesari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nunciado Caso NetCourier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(3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0769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Una vez terminada la consolidación, y de acuerdo a las disponibilidades de camionetas, camiones y espacio en aviones, se realiza el despacho respectivo (carga y traslado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 despacho al destino final es programado en cada bodega, donde se consolidan los paquetes que han llegado desde otras ciudades con aquellos que son internos a la ciudad. Una vez consolidado, se entrega la carga a los despachadores que, en vehículos pequeños (motos o camionetas), entregan a las direcciones correspondient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ntre los problemas internos se ha considerado que cerca del 30 % de las órdenes no llegan a tiempo a los destinos porque las personas encargadas de recibir los paquetes (cliente final) no están en los lugares en las horas de despacho, o ha existido una mala consolidación (no se han identificado correctamente las direcciones) o los datos han sido mal llenados por los representant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676520" y="2133720"/>
            <a:ext cx="5876640" cy="2931840"/>
          </a:xfrm>
          <a:prstGeom prst="ellipse">
            <a:avLst/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ctividades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4191120" cy="37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050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just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cepción de llama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4343400" y="1752480"/>
            <a:ext cx="45720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lvl="2" marL="1148400" indent="-3477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8400" indent="-3477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isita al 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8400" indent="-3477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ma de d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8400" indent="-34776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8400" indent="-34776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8400" indent="-34776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400" indent="-340560">
              <a:lnSpc>
                <a:spcPct val="10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8400" indent="-3477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rega por parte de represent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8400" indent="-3477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olid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8400" indent="-3477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v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íos dentro y fuera de la ciu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8400" indent="-3477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trega al destina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ntecedentes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-4320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emari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rabajo grup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iclos de trabaj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erramien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s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Objetiv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ado un caso de estudio, modelar sus procesos de negocios, bajo el enfoque de Ciclos de Trabaj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uxiliar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rlette Lapierre (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glapierr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@ing.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uchile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.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cl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rla Pizarro (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carpizar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@ing.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uchile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10"/>
              </a:rPr>
              <a:t>.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11"/>
              </a:rPr>
              <a:t>cl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ristian Ibarra (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12"/>
              </a:rPr>
              <a:t>criiba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13"/>
              </a:rPr>
              <a:t>@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14"/>
              </a:rPr>
              <a:t>iciuchile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15"/>
              </a:rPr>
              <a:t>.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16"/>
              </a:rPr>
              <a:t>cl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aby Vargas (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17"/>
              </a:rPr>
              <a:t>svargas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18"/>
              </a:rPr>
              <a:t>@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19"/>
              </a:rPr>
              <a:t>dii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20"/>
              </a:rPr>
              <a:t>.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21"/>
              </a:rPr>
              <a:t>uchile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22"/>
              </a:rPr>
              <a:t>.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23"/>
              </a:rPr>
              <a:t>cl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7510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oceso de Negocios NET COURI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9144000" cy="60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510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oceso de Negocios NET COURI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0" t="0" r="34741" b="33413"/>
          <a:stretch/>
        </p:blipFill>
        <p:spPr>
          <a:xfrm>
            <a:off x="990720" y="1600200"/>
            <a:ext cx="754380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Algunas Alternativas ..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22160" y="1812960"/>
            <a:ext cx="77724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se considera a la Bodega y Centro de Distribución juntos, se podría eliminar el sub proceso Envío dentro de la Ciuda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puede haber interpretado la visita al cliente como parte de la prepar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puede haber agrupado la Llamada Telefónica con la Visita al Cliente en un solo proceso, donde el cliente pide que se vaya a buscar el paquete y la llamada es parte de la prepar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 considerarse el despacho al destinatario como parte de la satisfac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3880" y="622440"/>
            <a:ext cx="751032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Problem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15364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 se avisa al remitente de entrega de encomien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trasos en entrega de encomiendas p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just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No se avisa al destinatario antes de entregar encomienda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just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Mala consolidación de encomienda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blemas en toma de da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oportunidad interesante es el desarrollo del negocio vía página we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just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El cliente accesa la página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, donde se informa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(tarifas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 y otros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e ingresa sus datos (incluyendo teléfono del receptor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just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Pide una visi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just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Se puede programar la logística más automatizadament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just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Posibilidad de trackin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Otra opción es maneja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l retiro anticipado en bodeg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971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000000"/>
                </a:solidFill>
                <a:latin typeface="Arial"/>
              </a:rPr>
              <a:t>Propuesto:</a:t>
            </a:r>
            <a:br>
              <a:rPr sz="4800"/>
            </a:b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aso Production Ltda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Tahoma"/>
              </a:rPr>
              <a:t>Descripción del Proce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 proceso principal es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ompra del sistema Todo en uno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con Dealer LTD como el cliente y Production LTD como ejecutor del ciclo de trabajo. El proceso comienza cuando Dealer LTD hace una petición referente a la compra del sistema Todo en uno. Existe una tarea asociada no presente en el modelo: Dealer LTD (cliente) envía un fax con información sobre situación, necesidad y estado del cliente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 registran las órdenes entrantes y luego la información es enviada (como tarea) al Departamento Técnico, donde se hace un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esquema de construcción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 departamento técnico puede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olicitar información adicional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de Dealer LTD. Si la información adicional es necesaria, Administración de Ordenes entra en contacto con el remitente y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le pide información adicional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después reenvía al depto. técnico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uando el esquema de construcción está listo, es enviado al depto. de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reparación/Planificación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donde se estiman las horas-hombre requeridas para la fabricación del producto y se crea un plan de fabricación, que precisa qué máquinas son necesarias, en qué secuencia deben ser utilizadas y cuánto tiempo toma cada paso en la secuencia. Dependiendo de esta información y del esquema de construcción, el depto. de preparación/ planificación decide qué insumos o materiales se comprarán y, también el tiempo de entrega de dichos insumo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Tahoma"/>
              </a:rPr>
              <a:t>Descripción del Proceso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uando el plan de fabricación está listo, estas actividades dan lugar a una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etición de material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que se envía al depto. de Compras. Al mismo tiempo, el depto. de Preparación/Planificación hace entonces una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onfirmación de la orden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(chequea los tiempos de recepción de los insumos en la fabricación, así como información adicional), la que es enviada a Dealer LTD (cliente) por Administración de Ordene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 departamento de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ompras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contacta al Proveedor y solicita una orden de compra para los insumos. Cuando los insumos son recepcionados, la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fabricación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comienza. Entonces, los componentes manufacturados se mueven a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Ensamblaje.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a fabricación y ensamble son controlados por Administración de Ordenes, quien elabora un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nforme de retrasos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y contacta a los clientes cuando es necesario (en el modelo hay un cliente y dos ejecutores, lo que representa dos ciclos de trabajo similares, uno con la administración de ordenes como cliente y con la fabricación como ejecutante, y el otro con el Ensamblaje como ejecutante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i el ensamblaje es APROBADO, el producto se traslada al departamento de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Entrega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donde se embala y entrega al cliente por los medios de transporte acordado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 departamento de entrega envía una nota de consignación a Contabilidad, donde una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factura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se crea y se envía a Dealer LTD por correo electrónic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grpSp>
        <p:nvGrpSpPr>
          <p:cNvPr id="143" name=""/>
          <p:cNvGrpSpPr/>
          <p:nvPr/>
        </p:nvGrpSpPr>
        <p:grpSpPr>
          <a:xfrm>
            <a:off x="2666880" y="990720"/>
            <a:ext cx="4876920" cy="5181480"/>
            <a:chOff x="2666880" y="990720"/>
            <a:chExt cx="4876920" cy="5181480"/>
          </a:xfrm>
        </p:grpSpPr>
        <p:sp>
          <p:nvSpPr>
            <p:cNvPr id="144" name=""/>
            <p:cNvSpPr/>
            <p:nvPr/>
          </p:nvSpPr>
          <p:spPr>
            <a:xfrm>
              <a:off x="4038480" y="5181480"/>
              <a:ext cx="609840" cy="457200"/>
            </a:xfrm>
            <a:prstGeom prst="ellipse">
              <a:avLst/>
            </a:prstGeom>
            <a:noFill/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48520" y="5638680"/>
              <a:ext cx="761760" cy="533520"/>
            </a:xfrm>
            <a:prstGeom prst="ellipse">
              <a:avLst/>
            </a:prstGeom>
            <a:noFill/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705720" y="4191120"/>
              <a:ext cx="838080" cy="609480"/>
            </a:xfrm>
            <a:prstGeom prst="ellipse">
              <a:avLst/>
            </a:prstGeom>
            <a:noFill/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66880" y="990720"/>
              <a:ext cx="762120" cy="457200"/>
            </a:xfrm>
            <a:prstGeom prst="ellipse">
              <a:avLst/>
            </a:prstGeom>
            <a:noFill/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38480" y="1752480"/>
              <a:ext cx="762120" cy="457200"/>
            </a:xfrm>
            <a:prstGeom prst="ellipse">
              <a:avLst/>
            </a:prstGeom>
            <a:noFill/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57600" y="3733920"/>
              <a:ext cx="1219320" cy="457200"/>
            </a:xfrm>
            <a:prstGeom prst="ellipse">
              <a:avLst/>
            </a:prstGeom>
            <a:noFill/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971800" y="4724280"/>
              <a:ext cx="1219320" cy="457200"/>
            </a:xfrm>
            <a:prstGeom prst="ellipse">
              <a:avLst/>
            </a:prstGeom>
            <a:noFill/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Trabajo Grup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82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scripción 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(1 seman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rupos de 4 integran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eferentemente de la misma s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mbrar un jefe de grup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Incentivo a los dos mejores grup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ara los informes se requiere trabajo con herramientas CASE (laboratori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D con SW (1 semana para inscripción individual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Empres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Inscripción (área y datos de contact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cceso a información de un proceso de nego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Problema de gestión, Oportunidad de mejo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iclos de Trabajo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632880"/>
            <a:ext cx="8001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Conceptos Básico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-43668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stin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cesos, Funciones, Activida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foque de proces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ferentes técnicas de modelamien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ominios de proce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romisos (relaciones, preocupaciones, declaraciones, cultura organizaciona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96960" y="790560"/>
            <a:ext cx="4255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CICLO DE TRABAJ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6767640" cy="3276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5105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lnSpc>
                <a:spcPct val="11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700" spc="-1" strike="noStrike">
                <a:solidFill>
                  <a:srgbClr val="000000"/>
                </a:solidFill>
                <a:latin typeface="Arial"/>
              </a:rPr>
              <a:t>Los procesos son redes de acciones y compromisos entre clientes y ejecutores. Coordinación de actividades para satisfacer un requerimiento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6781680" y="3886200"/>
            <a:ext cx="2286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just">
              <a:lnSpc>
                <a:spcPct val="11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Element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just">
              <a:lnSpc>
                <a:spcPct val="11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Configuració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Ciclos de Trabajo: Metodologí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2160" y="1812960"/>
            <a:ext cx="77724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Identificar Ciclo princip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lasifica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odo lo que ocurre, en cada etapa del ciclo princip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istinguir ciclos de actividad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nfiguración del</a:t>
            </a: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 fluj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unci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hequear seri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Documenta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mbres, Roles, Actividades, Decisiones, Condiciones de satisfacción, Supuestos, Casos especia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Process Builder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632880"/>
            <a:ext cx="8001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Process Builder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 Más Elemento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1788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17960" indent="-41796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oles - Personas que participan en un proces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ctos - Conjunto de respuestas disponibles para la comunicación de las person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atos - Información involucrada en un proces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cripting - Programas que gatillan accciones automátic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Business process definitions and defaults - Reglas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que controlan el funcionamient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3T22:26:49Z</dcterms:created>
  <dc:creator>Saby Vargas</dc:creator>
  <dc:description/>
  <dc:language>en-US</dc:language>
  <cp:lastModifiedBy>Saby Vargas Verdugo</cp:lastModifiedBy>
  <cp:lastPrinted>2001-07-30T13:16:05Z</cp:lastPrinted>
  <dcterms:modified xsi:type="dcterms:W3CDTF">2004-03-18T03:46:16Z</dcterms:modified>
  <cp:revision>123</cp:revision>
  <dc:subject>Ciclos Trabajo</dc:subject>
  <dc:title>Auxiliar 01 IN55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11460729</vt:r8>
  </property>
  <property fmtid="{D5CDD505-2E9C-101B-9397-08002B2CF9AE}" pid="3" name="_AuthorEmail">
    <vt:lpwstr>svaras@dii.uchile.cl</vt:lpwstr>
  </property>
  <property fmtid="{D5CDD505-2E9C-101B-9397-08002B2CF9AE}" pid="4" name="_AuthorEmailDisplayName">
    <vt:lpwstr>Samuel Varas</vt:lpwstr>
  </property>
  <property fmtid="{D5CDD505-2E9C-101B-9397-08002B2CF9AE}" pid="5" name="_EmailSubject">
    <vt:lpwstr/>
  </property>
</Properties>
</file>