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33E31-162C-408F-9612-04165906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65B96-6A41-4F59-AD6E-2829DE19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1B2BA-3CEE-426A-9FD1-56C42618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5303F-59C8-4A00-BD73-76B3AA83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7E312-EA07-4C59-8DB3-6010A5C9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D15D5-EED9-4B59-B2CD-6F35238C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C8143-DED2-4FB7-B114-D842B2D2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4E8F3-1071-4312-BA11-1941F9D1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25535-71BF-4FE7-A534-63DCAF9C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5ED29-B8C5-48C5-8BF1-5B9E6D0B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787BA-66A6-4B16-8C62-9568C762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7F6E7-B5CF-44A4-BE6A-E757B1B6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</a:t>
            </a: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 Primavera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6C9C-2B2B-4171-9D17-CE88DF88BAA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glapierr@ing.uchile.cl" TargetMode="External"/><Relationship Id="rId3" Type="http://schemas.openxmlformats.org/officeDocument/2006/relationships/hyperlink" Target="mailto:glapierr@ing.uchile.cl" TargetMode="External"/><Relationship Id="rId4" Type="http://schemas.openxmlformats.org/officeDocument/2006/relationships/hyperlink" Target="mailto:glapierr@ing.uchile.cl" TargetMode="External"/><Relationship Id="rId5" Type="http://schemas.openxmlformats.org/officeDocument/2006/relationships/hyperlink" Target="mailto:glapierr@ing.uchile.cl" TargetMode="External"/><Relationship Id="rId6" Type="http://schemas.openxmlformats.org/officeDocument/2006/relationships/hyperlink" Target="mailto:glapierr@ing.uchile.cl" TargetMode="External"/><Relationship Id="rId7" Type="http://schemas.openxmlformats.org/officeDocument/2006/relationships/hyperlink" Target="mailto:carpizar@ing.uchile.cl" TargetMode="External"/><Relationship Id="rId8" Type="http://schemas.openxmlformats.org/officeDocument/2006/relationships/hyperlink" Target="mailto:carpizar@ing.uchile.cl" TargetMode="External"/><Relationship Id="rId9" Type="http://schemas.openxmlformats.org/officeDocument/2006/relationships/hyperlink" Target="mailto:carpizar@ing.uchile.cl" TargetMode="External"/><Relationship Id="rId10" Type="http://schemas.openxmlformats.org/officeDocument/2006/relationships/hyperlink" Target="mailto:carpizar@ing.uchile.cl" TargetMode="External"/><Relationship Id="rId11" Type="http://schemas.openxmlformats.org/officeDocument/2006/relationships/hyperlink" Target="mailto:carpizar@ing.uchile.cl" TargetMode="External"/><Relationship Id="rId12" Type="http://schemas.openxmlformats.org/officeDocument/2006/relationships/hyperlink" Target="mailto:criiba@iciuchile.cl" TargetMode="External"/><Relationship Id="rId13" Type="http://schemas.openxmlformats.org/officeDocument/2006/relationships/hyperlink" Target="mailto:criiba@iciuchile.cl" TargetMode="External"/><Relationship Id="rId14" Type="http://schemas.openxmlformats.org/officeDocument/2006/relationships/hyperlink" Target="mailto:criiba@iciuchile.cl" TargetMode="External"/><Relationship Id="rId15" Type="http://schemas.openxmlformats.org/officeDocument/2006/relationships/hyperlink" Target="mailto:criiba@iciuchile.cl" TargetMode="External"/><Relationship Id="rId16" Type="http://schemas.openxmlformats.org/officeDocument/2006/relationships/hyperlink" Target="mailto:criiba@iciuchile.cl" TargetMode="External"/><Relationship Id="rId17" Type="http://schemas.openxmlformats.org/officeDocument/2006/relationships/hyperlink" Target="mailto:svargas@dii.uchile.cl" TargetMode="External"/><Relationship Id="rId18" Type="http://schemas.openxmlformats.org/officeDocument/2006/relationships/hyperlink" Target="mailto:svargas@dii.uchile.cl" TargetMode="External"/><Relationship Id="rId19" Type="http://schemas.openxmlformats.org/officeDocument/2006/relationships/hyperlink" Target="mailto:svargas@dii.uchile.cl" TargetMode="External"/><Relationship Id="rId20" Type="http://schemas.openxmlformats.org/officeDocument/2006/relationships/hyperlink" Target="mailto:svargas@dii.uchile.cl" TargetMode="External"/><Relationship Id="rId21" Type="http://schemas.openxmlformats.org/officeDocument/2006/relationships/hyperlink" Target="mailto:svargas@dii.uchile.cl" TargetMode="External"/><Relationship Id="rId22" Type="http://schemas.openxmlformats.org/officeDocument/2006/relationships/hyperlink" Target="mailto:svargas@dii.uchile.cl" TargetMode="External"/><Relationship Id="rId23" Type="http://schemas.openxmlformats.org/officeDocument/2006/relationships/hyperlink" Target="mailto:svargas@dii.uchile.cl" TargetMode="External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Clase Auxiliar 0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464796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Process Build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43000" y="1752480"/>
            <a:ext cx="6632640" cy="4329000"/>
            <a:chOff x="1143000" y="1752480"/>
            <a:chExt cx="6632640" cy="43290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rcRect l="0" t="0" r="49027" b="54207"/>
            <a:stretch/>
          </p:blipFill>
          <p:spPr>
            <a:xfrm>
              <a:off x="1143000" y="1752480"/>
              <a:ext cx="6632640" cy="43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212840" y="3041640"/>
              <a:ext cx="6321240" cy="260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54240" y="3343320"/>
              <a:ext cx="655560" cy="183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43000" y="1969920"/>
              <a:ext cx="4181400" cy="260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Process Builder: T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44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Application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Contexto y definición. Creación de formularios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, Mail Links, Adding an Offices Service, Adding an Extranet Process Initiation, Adding an ODBC Source to an applic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Map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: Mapeo, Definición de ciclos,  Link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: Creación de Tablas de Datos y Atribut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Protocol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: Provee el medio para capacitar actos adicionales y estados necesarios para manejar interacciones complejas al pasar entre una fase (ciclo) y otra (o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Scripts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: Scripts para gatillar actos en ciclos y para setear las condiciones de ejecución de esos act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ahoma"/>
              </a:rPr>
              <a:t>PROCESS BUILDER: CONSIST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600" y="1828800"/>
            <a:ext cx="8178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 algn="just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uilder Consistency Checking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que el proceso de negocio alcance su propósito (satisfacción), el mapeo debe ser completo y lógico. La consistencia está basada en un conjunto de reglas de mapeo (58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 algn="just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las diseñadas de acuerdo a los principios 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 algn="just">
              <a:lnSpc>
                <a:spcPct val="110000"/>
              </a:lnSpc>
              <a:spcBef>
                <a:spcPts val="6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onsistencia Lógica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 algn="just">
              <a:lnSpc>
                <a:spcPct val="110000"/>
              </a:lnSpc>
              <a:spcBef>
                <a:spcPts val="6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Simplicida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 algn="just">
              <a:lnSpc>
                <a:spcPct val="110000"/>
              </a:lnSpc>
              <a:spcBef>
                <a:spcPts val="6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Evitar Redundancia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 algn="just">
              <a:lnSpc>
                <a:spcPct val="110000"/>
              </a:lnSpc>
              <a:spcBef>
                <a:spcPts val="6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ompletitu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Algunas Reglas de Modelaci</a:t>
            </a: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ón ..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Un link no puede salir y volver al mismo punto, pues cada subproceso tiene un tiempo (duración) asoci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l diseñar, no deberían haber saltos de etap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Un link debe salir del inicio de la etapa a descomponer del ciclo de origen y llegar al inicio del subciclo que descompone al ciclo de origen. Análogamente al vol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o deben quedar ciclos abiertos ni aisl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mo convención, el flujo de salida que sigue el sentido del flujo de entrada a un nodo de decisión corresponde a la alternativa s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ctionWorkflow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0" r="55550" b="62641"/>
          <a:stretch/>
        </p:blipFill>
        <p:spPr>
          <a:xfrm>
            <a:off x="1160640" y="1778040"/>
            <a:ext cx="7068960" cy="4317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41280" y="3117960"/>
            <a:ext cx="630360" cy="116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03280" y="2008080"/>
            <a:ext cx="3538440" cy="42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18120" y="2257560"/>
            <a:ext cx="939960" cy="618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aso NetCourier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unciado Caso NetCouri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 empresa NetCourier fue fundada hace tres años con el objetivo de distribuir paquetes de pequeños volúmenes en Santiago (correo express) a un bajo precio. Sus ventajas eran una amplia red de distribuidores y un centro de distribución. La empresa ha tenido un crecimiento explosivo en los últimos años, llegando a ofrecer servicios de distribución: Expresos (menos de un día y alto costo), Normal (de dos a cinco días y un bajo precio) y Servicios especiales (mercadería de alto valor transportada, donde los precios se estiman caso a caso). El rápido crecimiento de NetCourier no sólo ha sido en términos de servicios, sino que su cobertura se ha extendido a todo el paí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envío de paquetes (expresos o normales) parte cuando un cliente llama para solicitar el envío de un paquete determinado y se fija la fecha y hora en la cual un representante de la empresa lo visitará para retirar el paque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unciado Caso NetCourier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representante visita al cliente y realiza el llenado de un formulario donde se especifican los antecedentes del paquete enviado (tipo de mercancía enviada, lugar de destino, tipo de servicio, persona de contacto y su teléfono), estableciendo el costo en término de los precios lista que ellos disponen. Sin embargo, algunos de estos antecedentes podrían no ser llenados directamente y los representantes, para no perder su viaje, los llenarían vía llamada telefónica al cliente al finalizar el dí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os representantes llegan dos veces al día a los centros de distribución (al mediodía y al finalizar la tarde), donde entregan los paquetes y formularios asociados. En los centros de distribución existen dos actividades, las que corresponden 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(a) Consolidación de paquetes que son enviados desde la ciudad a otro punto, para los cuales se debe conocer los tipos de servicio (expreso o normal) y sus destinos. Deben ser agrupados por mecanismo de despacho (interno de la ciudad, camión externo a la ciudad o avión), 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(b) Consolidación de despachos entrantes a ser despachados a la ciudad, con la misma información necesari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unciado Caso NetCourier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(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a vez terminada la consolidación, y de acuerdo a las disponibilidades de camionetas, camiones y espacio en aviones, se realiza el despacho respectivo (carga y traslado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despacho al destino final es programado en cada bodega, donde se consolidan los paquetes que han llegado desde otras ciudades con aquellos que son internos a la ciudad. Una vez consolidado, se entrega la carga a los despachadores que, en vehículos pequeños (motos o camionetas), entregan a las direcciones correspondient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tre los problemas internos se ha considerado que cerca del 30 % de las órdenes no llegan a tiempo a los destinos porque las personas encargadas de recibir los paquetes (cliente final) no están en los lugares en las horas de despacho, o ha existido una mala consolidación (no se han identificado correctamente las direcciones) o los datos han sido mal llenados por los representant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76520" y="2133720"/>
            <a:ext cx="5876640" cy="2931840"/>
          </a:xfrm>
          <a:prstGeom prst="ellipse">
            <a:avLst/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ctividades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191120" cy="37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cepción de llam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1752480"/>
            <a:ext cx="4572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sita a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ma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400" indent="-34056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ega por parte de represen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olid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v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íos dentro y fuera de la ciu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trega al destina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tecedentes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emar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grup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icl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erramie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ado un caso de estudio, modelar sus procesos de negocios, bajo el enfoque de Cicl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uxilia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lette Lapierre (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glapierr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@ing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uchile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rla Pizarro (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carpizar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@ing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uchile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ristian Ibarra (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criiba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@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iciuchile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aby Vargas (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svargas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@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9"/>
              </a:rPr>
              <a:t>dii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0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1"/>
              </a:rPr>
              <a:t>uchile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2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3"/>
              </a:rPr>
              <a:t>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510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 de Negocios NET COURI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510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 de Negocios NET COURI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0" t="0" r="34741" b="33413"/>
          <a:stretch/>
        </p:blipFill>
        <p:spPr>
          <a:xfrm>
            <a:off x="990720" y="1600200"/>
            <a:ext cx="75438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Algunas Alternativas ..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22160" y="181296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considera a la Bodega y Centro de Distribución juntos, se podría eliminar el sub proceso Envío dentro de la Ciuda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haber interpretado la visita al cliente como parte de la prepar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haber agrupado la Llamada Telefónica con la Visita al Cliente en un solo proceso, donde el cliente pide que se vaya a buscar el paquete y la llamada es parte de la prepar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considerarse el despacho al destinatario como parte de la satisfac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3880" y="622440"/>
            <a:ext cx="751032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se avisa al remitente de entrega de encomie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rasos en entrega de encomiendas p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No se avisa al destinatario antes de entregar encomienda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Mala consolidación de encomiend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lemas en toma de da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oportunidad interesante es el desarrollo del negocio vía página we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l cliente accesa la página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, donde se informa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(tarifas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y otros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 ingresa sus datos (incluyendo teléfono del receptor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ide una visi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Se puede programar la logística más automatizadamen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Posibilidad de track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tra opción es manej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l retiro anticipado en bode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rial"/>
              </a:rPr>
              <a:t>Propuesto:</a:t>
            </a:r>
            <a:br>
              <a:rPr sz="4800"/>
            </a:b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aso Production Ltda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Descripción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proceso principal es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mpra del sistema Todo en un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con Dealer LTD como el cliente y Production LTD como ejecutor del ciclo de trabajo. El proceso comienza cuando Dealer LTD hace una petición referente a la compra del sistema Todo en uno. Existe una tarea asociada no presente en el modelo: Dealer LTD (cliente) envía un fax con información sobre situación, necesidad y estado del cliente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registran las órdenes entrantes y luego la información es enviada (como tarea) al Departamento Técnico, donde se hace un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quema de construcción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departamento técnico pued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olicitar información adicion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e Dealer LTD. Si la información adicional es necesaria, Administración de Ordenes entra en contacto con el remitente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le pide información adicion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después reenvía al depto. técnic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el esquema de construcción está listo, es enviado al depto. d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eparación/Planifica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onde se estiman las horas-hombre requeridas para la fabricación del producto y se crea un plan de fabricación, que precisa qué máquinas son necesarias, en qué secuencia deben ser utilizadas y cuánto tiempo toma cada paso en la secuencia. Dependiendo de esta información y del esquema de construcción, el depto. de preparación/ planificación decide qué insumos o materiales se comprarán y, también el tiempo de entrega de dichos insum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Descripción del Proces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el plan de fabricación está listo, estas actividades dan lugar a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etición de materi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que se envía al depto. de Compras. Al mismo tiempo, el depto. de Preparación/Planificación hace entonces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firmación de la orde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(chequea los tiempos de recepción de los insumos en la fabricación, así como información adicional), la que es enviada a Dealer LTD (cliente) por Administración de Ordene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departamento d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mpra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contacta al Proveedor y solicita una orden de compra para los insumos. Cuando los insumos son recepcionados, l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abrica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comienza. Entonces, los componentes manufacturados se mueven 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nsamblaje.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fabricación y ensamble son controlados por Administración de Ordenes, quien elabora un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forme de retraso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contacta a los clientes cuando es necesario (en el modelo hay un cliente y dos ejecutores, lo que representa dos ciclos de trabajo similares, uno con la administración de ordenes como cliente y con la fabricación como ejecutante, y el otro con el Ensamblaje como ejecutante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i el ensamblaje es APROBADO, el producto se traslada al departamento d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ntreg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onde se embala y entrega al cliente por los medios de transporte acordado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departamento de entrega envía una nota de consignación a Contabilidad, donde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actur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se crea y se envía a Dealer LTD por correo electrónic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2666880" y="990720"/>
            <a:ext cx="4876920" cy="5181480"/>
            <a:chOff x="2666880" y="990720"/>
            <a:chExt cx="4876920" cy="5181480"/>
          </a:xfrm>
        </p:grpSpPr>
        <p:sp>
          <p:nvSpPr>
            <p:cNvPr id="144" name=""/>
            <p:cNvSpPr/>
            <p:nvPr/>
          </p:nvSpPr>
          <p:spPr>
            <a:xfrm>
              <a:off x="4038480" y="5181480"/>
              <a:ext cx="60984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48520" y="5638680"/>
              <a:ext cx="761760" cy="53352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05720" y="4191120"/>
              <a:ext cx="838080" cy="60948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990720"/>
              <a:ext cx="76212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1752480"/>
              <a:ext cx="76212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57600" y="3733920"/>
              <a:ext cx="121932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71800" y="4724280"/>
              <a:ext cx="121932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rabajo Grup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scripción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(1 seman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upos de 4 integra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eferentemente de la misma s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mbrar un jefe de gru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centivo a los dos mejores grup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ara los informes se requiere trabajo con herramientas CASE (laborator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D con SW (1 semana para inscripción individual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Empres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scripción (área y datos de contact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cceso a información de un proceso de nego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blema de gestión, Oportunidad de mejo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iclos de Trabajo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Conceptos Básic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tin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s, Funciones, Activ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foque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ferentes técnicas de modelamien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ominios de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omisos (relaciones, preocupaciones, declaraciones, cultura organizacion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96960" y="790560"/>
            <a:ext cx="4255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CICLO DE TRABAJ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6767640" cy="3276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Los procesos son redes de acciones y compromisos entre clientes y ejecutores. Coordinación de actividades para satisfacer un requerimient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388620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11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11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iclos de Trabajo: Metodologí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181296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dentificar Ciclo princip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lasific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o lo que ocurre, en cada etapa del ciclo princip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stinguir ciclos de activida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figuración del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 fluj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hequear seri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ocument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mbres, Roles, Actividades, Decisiones, Condiciones de satisfacción, Supuestos, Casos especi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Process Builder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Process Builder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Más Element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1788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oles - Personas que participan en un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ctos - Conjunto de respuestas disponibles para la comunicación de la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atos - Información involucrada en un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cripting - Programas que gatillan accciones automátic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usiness process definitions and defaults - Reglas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que controlan el funcionamien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Saby Vargas</dc:creator>
  <dc:description/>
  <dc:language>en-US</dc:language>
  <cp:lastModifiedBy>Saby Vargas Verdugo</cp:lastModifiedBy>
  <cp:lastPrinted>2001-07-30T13:16:05Z</cp:lastPrinted>
  <dcterms:modified xsi:type="dcterms:W3CDTF">2004-03-18T03:46:16Z</dcterms:modified>
  <cp:revision>123</cp:revision>
  <dc:subject>Ciclos Trabajo</dc:subject>
  <dc:title>Auxiliar 01 IN55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11460729</vt:r8>
  </property>
  <property fmtid="{D5CDD505-2E9C-101B-9397-08002B2CF9AE}" pid="3" name="_AuthorEmail">
    <vt:lpwstr>svaras@dii.uchile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/>
  </property>
</Properties>
</file>