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78D89-B7BE-4927-92DE-FBFBDA36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5F632-61D4-4311-A38C-6A50272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BD485-5937-4DD1-A318-7DF2271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E9B9C-AC06-4B3C-B3D4-A46C1730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A0F5-08FE-46A5-8010-1A8CE291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452A-E728-44F8-97FC-5BE1B258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098DC-E9FA-41ED-A071-6155B44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4084F-9122-455F-8BDD-7B3005F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18437-3730-4AE3-9DD7-B8A48073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1D958-040E-48BC-90C3-12D5F188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516AE-9C01-431D-838A-991C04FA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EE79C-7CFA-4081-8E14-251A1797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163-8A8B-4A7C-9FD9-5BB23575844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Caracterización de los 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ction Tech y Fernando Fl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procesos son redes de acciones y compromisos entre clientes y ejecutores. Coordinación de actividades para satisfacer un requer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4 etapas: Preparación, Negociación, Ejecución y Acept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6858000" cy="38098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822400" y="29750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252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2400" y="31244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216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8209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6497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8680" y="3886200"/>
            <a:ext cx="3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440" y="3886200"/>
            <a:ext cx="3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3560" y="3252960"/>
            <a:ext cx="143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0200" y="355752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satisf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0720" y="41673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032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004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680" y="213372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1337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49520" y="525780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680" y="52578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iclo Básic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29240" y="220968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864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prepara una petición al realizador (oferta del ejecutor). Culmina con la declaración de é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3623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181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y el realizador negocian y acuerdan las condiciones de satisfacción. Culmina con la declaración de é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Negoci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4640" y="49528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 se llevan a cabo las actividades para cumplir las condiciones de satisfacción acordadas. Culmina con la declaración de re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Ejec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680" y="48006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Times New Roman"/>
              </a:rPr>
              <a:t>En esta etapa,  tanto cliente como realizador evalúan las etapas anteriores y declaran su aceptación o rechazo, concluyendo así el ciclo de nego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Acep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1876320"/>
            <a:ext cx="8153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533520" y="152280"/>
          <a:ext cx="7467480" cy="603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280"/>
                    <a:ext cx="74674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84120" y="2538360"/>
            <a:ext cx="5877000" cy="2932200"/>
          </a:xfrm>
          <a:prstGeom prst="ellipse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uente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852200"/>
            <a:ext cx="43434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Prepar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uchar pob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edidos sin tiemp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alta de prepar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Acep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ceptar el pago con falta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declaración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82880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sin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no mut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finición de estánd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ntregar con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r fuera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claración de re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modelar, analizar y rediseñar detalladam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iene cohesión máxima (objetivo únic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a la coordinación horizontal entre áre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o directo de tecnologías de la información de coordinación (</a:t>
            </a:r>
            <a:r>
              <a:rPr b="0" i="1" lang="es-ES_tradnl" sz="23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l control de gestión lo puede hacer e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incorporar la variable tiempo (holgur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seguimiento y control de acciones, decisiones y compromis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cc0000"/>
                </a:solidFill>
                <a:latin typeface="Verdana"/>
              </a:rPr>
              <a:t>Proceso de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iveles de deci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cesos de negocios corpora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ores Crí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una visión operac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apoya en los Sistemas (administración e información) de las áreas funcio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que analizar todo el proceso o ir por sus sub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actividades y recursos son difíciles de repres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Ele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Workfl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rimario: Proceso Glob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ecundarios: Ciclos secundarios, más específ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íneas e íconos que muestran el flujo y orden de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inks: Líneas enlaces entre subcic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ondicionales: Condiciones que dividen el curso de 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Roles: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ersonas que participan en un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 Principal y Secundar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66680" y="2517840"/>
            <a:ext cx="7351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Seri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19320" y="2246400"/>
            <a:ext cx="6805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Parale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62120" y="2179800"/>
            <a:ext cx="7696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Nodos Condiciona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6269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: 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odo lo que ocurre, en cada etapa del ciclo princip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iguración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Nombres, Roles, Actividades, Decisiones, Condiciones de satisfacción, Supues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496280" cy="454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: Proceso de Negocio de Crédito Hipote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pro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gano haciendo el diseño por procesos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Puedo siempre hacer el diseño por procesos de negocios? ¿Qué debe cumplir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productos debo tener al final del diseño? ¿Cómo los represen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importancia tienen los procesos de negocio en el cambio organizacion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 el conjunto de compromisos, acciones y decisiones necesarias para satisfacer el requerimiento de un cliente (externo o interno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olicitud de manten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enta/Compra (provisión) de un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den de Facturación de un cargo pun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e basa en redes de compromisos en torno al ciclo básic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 general de un proceso de negoc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las actividades del proceso se realicen con calidad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i las tareas del proceso se realizan con calidad, hay una alta probabilidad de que el producto resultante sea de c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el proceso de negocios sea predecible y administrable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Deseamos que los resultados de la calidad (especificaciones, oportunidad y costo no estén muy lejos de lo prometi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calidad (del producto y de las tareas) incluye la funcionalidad, la confiabilidad, la oportunidad de la entrega y el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hacen cargo de las necesidades de nuestros 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quieren de coordinación horizon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herramientas de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apoyan el seguimiento y control de gestión de procesos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an sobre bases de datos que comparten con los sistemas fu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 Arquitectur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procesos de negocios pueden considerarse el hilo conductor del desarrollo de un Sistem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presentan la base de los siste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dicionalmente, son un elemento estructural de su arquitec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conjunto con Datos, Interfaces, Red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aquellos procesos de negocio que si fallan, comprometen seriamente el resultado del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identifican por que son los que agregan más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enta (p.ej. de Equipo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ten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tiro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tventa: mantención y atención de 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uración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ra y abastecimiento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17T01:33:00Z</dcterms:modified>
  <cp:revision>64</cp:revision>
  <dc:subject/>
  <dc:title>Introducción al Análisis de los Sistemas de Información Administrativos</dc:title>
</cp:coreProperties>
</file>