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FA9D1-E3D5-4FE2-A3F6-68AB341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66D58-4B82-4EF8-B079-8E84CA62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BBCC9-EA62-4321-B59E-0623C84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49E9D-24EE-4F73-89C5-F3ADA7DE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002EB-7E31-41BB-B659-46BB2FF2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BBF4A-BCD9-4B7D-B1F3-22E1038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045B6-F93D-4AF7-9F18-01FD3CA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90C52-9ED3-41AE-8654-730773E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37E06-6BBA-4C89-9A2D-86D50B9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8DCEC-769E-4570-9BE1-C96F888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2E3F-F2EA-4F12-A81B-2A73CD3E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41E53-4F67-4140-A24C-AEC9B6AD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B780-65D6-4B94-99CA-21CE8FCE639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Caracterización de los 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ion Tech y Fernando Fl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procesos son redes de acciones y compromisos entre clientes y ejecutores. Coordinación de actividades para satisfacer un requer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4 etapas: Preparación, Negociación, Ejecución y Acept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6858000" cy="38098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822400" y="29750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252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2400" y="31244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216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6497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8680" y="388620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440" y="388620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3560" y="3252960"/>
            <a:ext cx="143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0200" y="355752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atisf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720" y="41673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032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004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680" y="21337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1337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9520" y="525780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680" y="52578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9240" y="220968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86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prepara una petición al realizador (oferta del ejecutor). Culmina con la declaración de é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3623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81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y el realizador negocian y acuerdan las condiciones de satisfacción. Culmina con la declaración de é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Negoci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4640" y="49528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 se llevan a cabo las actividades para cumplir las condiciones de satisfacción acordadas. Culmina con la declaración de re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Ejec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680" y="48006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Times New Roman"/>
              </a:rPr>
              <a:t>En esta etapa,  tanto cliente como realizador evalúan las etapas anteriores y declaran su aceptación o rechazo, concluyendo así el ciclo de neg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Acep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1876320"/>
            <a:ext cx="8153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3520" y="152280"/>
          <a:ext cx="746748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74674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84120" y="2538360"/>
            <a:ext cx="5877000" cy="2932200"/>
          </a:xfrm>
          <a:prstGeom prst="ellipse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uente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4343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Prepa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uchar pob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edidos sin tiemp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lta de prepar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Acep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eptar el pago con falta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declaración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8288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si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no mut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finición de estánd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ntregar con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r fuera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claración de re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modelar, analizar y rediseñar detallad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iene cohesión máxima (objetivo únic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a la coordinación horizontal entre á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o directo de tecnologías de la información de coordinación (</a:t>
            </a:r>
            <a:r>
              <a:rPr b="0" i="1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ontrol de gestión lo puede hacer e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incorporar la variable tiempo (holgur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seguimiento y control de acciones, decisiones y compromi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deci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una visión oper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poya en los Sistemas (administración e información) de las áreas fun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e analizar todo el proceso o ir por sus sub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actividades y recursos son difíciles de repres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Ele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imario: Proceso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ecundarios: Ciclos secundarios, más específ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íneas e íconos que muestran el flujo y orden de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inks: Líneas enlaces entre subcic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dicionales: Condiciones que dividen el curso de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Roles: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sonas que participan en un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 Principal y Secund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66680" y="2517840"/>
            <a:ext cx="7351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Ser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246400"/>
            <a:ext cx="6805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Parale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2179800"/>
            <a:ext cx="7696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Nodos Condiciona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6269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: 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do lo que ocurre, en cada etapa del ciclo princi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ombres, Roles, Actividades, Decisiones, Condiciones de satisfacción, Supues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96280" cy="454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: Proceso de Negocio de Crédito Hipote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17T01:33:00Z</dcterms:modified>
  <cp:revision>64</cp:revision>
  <dc:subject/>
  <dc:title>Introducción al Análisis de los Sistemas de Información Administrativos</dc:title>
</cp:coreProperties>
</file>