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BBD24-69DD-4537-85D5-E2A7D650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1B42D-7E0C-4172-BA7A-4A0F7758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AB7B2-9291-475F-BBB2-4AC9D665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F30E6-87D1-4E18-934F-C226329A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93B31-E17F-4460-AFCF-899CEBCE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13AC1-F25B-44FE-8679-F5C996B6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C0CFF-A590-46DA-A2F9-D746400B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76D6C-6D85-447C-9EE1-185D913F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0CB2B-7430-4320-AD16-589EF3B0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8BB1E-85DB-43A3-A895-9DBC6CDC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44D23-E48D-48D9-9782-7F12D73B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6FFC4-31A0-4744-BEFF-6F5925DC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D0BB-1DE1-4C98-83B7-86DAA7892FC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Caracterización de los 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s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ction Tech y Fernando Flo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os procesos son redes de acciones y compromisos entre clientes y ejecutores. Coordinación de actividades para satisfacer un requer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4 etapas: Preparación, Negociación, Ejecución y Acept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6858000" cy="38098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85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822400" y="2975040"/>
            <a:ext cx="28954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252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22400" y="3124440"/>
            <a:ext cx="28954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216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82096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64976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8680" y="3886200"/>
            <a:ext cx="303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440" y="3886200"/>
            <a:ext cx="3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3560" y="3252960"/>
            <a:ext cx="143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0200" y="355752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satisf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70720" y="41673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032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8004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680" y="2133720"/>
            <a:ext cx="194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P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2133720"/>
            <a:ext cx="199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49520" y="525780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680" y="525780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iclo Básic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29240" y="2209680"/>
            <a:ext cx="194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P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Prepa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4864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el cliente prepara una petición al realizador (oferta del ejecutor). Culmina con la declaración de é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2362320"/>
            <a:ext cx="199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181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el cliente y el realizador negocian y acuerdan las condiciones de satisfacción. Culmina con la declaración de é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Negoci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4640" y="495288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752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 se llevan a cabo las actividades para cumplir las condiciones de satisfacción acordadas. Culmina con la declaración de re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Ejec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680" y="480060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752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Times New Roman"/>
              </a:rPr>
              <a:t>En esta etapa,  tanto cliente como realizador evalúan las etapas anteriores y declaran su aceptación o rechazo, concluyendo así el ciclo de nego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Acep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1876320"/>
            <a:ext cx="81532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533520" y="152280"/>
          <a:ext cx="7467480" cy="603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280"/>
                    <a:ext cx="746748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84120" y="2538360"/>
            <a:ext cx="5877000" cy="2932200"/>
          </a:xfrm>
          <a:prstGeom prst="ellipse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Fuentes de 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852200"/>
            <a:ext cx="43434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26200" indent="-3967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Prepar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uchar pob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edidos sin tiemp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alta de prepara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Acep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ceptar el pago con falta de satisfac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o declaración de satisfac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82880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pro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esas sin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esas no mutu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efinición de estánd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ntregar con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r fuera de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eclaración de re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o al cli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mite modelar, analizar y rediseñar detalladam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iene cohesión máxima (objetivo únic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poya la coordinación horizontal entre áre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poyo directo de tecnologías de la información de coordinación (</a:t>
            </a:r>
            <a:r>
              <a:rPr b="0" i="1" lang="es-ES_tradnl" sz="23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l control de gestión lo puede hacer el cli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mite incorporar la variable tiempo (holgura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o al seguimiento y control de acciones, decisiones y compromis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417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cc0000"/>
                </a:solidFill>
                <a:latin typeface="Verdana"/>
              </a:rPr>
              <a:t>Proceso de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iveles de deci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ocesos de negocios corporati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lementos que confluy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actores Crít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ólo una visión operacio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apoya en los Sistemas (administración e información) de las áreas funcio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y que analizar todo el proceso o ir por sus subproce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s actividades y recursos son difíciles de repres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 Elem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Workfl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Primario: Proceso Glob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ecundarios: Ciclos secundarios, más específ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íneas e íconos que muestran el flujo y orden de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Links: Líneas enlaces entre subcicl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ondicionales: Condiciones que dividen el curso de ac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Roles: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ersonas que participan en un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 Principal y Secundar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066680" y="2517840"/>
            <a:ext cx="73519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s en Seri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219320" y="2246400"/>
            <a:ext cx="6805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s en Parale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62120" y="2179800"/>
            <a:ext cx="76960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Nodos Condiciona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6269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s de Trabajo: 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dentificar Ciclo princip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asific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odo lo que ocurre, en cada etapa del ciclo princip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istinguir ciclos de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figuración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flu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ocum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Nombres, Roles, Actividades, Decisiones, Condiciones de satisfacción, Supues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7496280" cy="4545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: Proceso de Negocio de Crédito Hipotec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eguntas propue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gano haciendo el diseño por procesos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Puedo siempre hacer el diseño por procesos de negocios? ¿Qué debe cumplir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productos debo tener al final del diseño? ¿Cómo los represent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importancia tienen los procesos de negocio en el cambio organizacion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s el conjunto de compromisos, acciones y decisiones necesarias para satisfacer el requerimiento de un cliente (externo o interno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olicitud de manten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enta/Compra (provisión) de un servic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den de Facturación de un cargo pun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Se basa en redes de compromisos en torno al ciclo básico de trabaj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Objetivo general de un proceso de negoc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que las actividades del proceso se realicen con calidad.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i las tareas del proceso se realizan con calidad, hay una alta probabilidad de que el producto resultante sea de c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que el proceso de negocios sea predecible y administrable.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Deseamos que los resultados de la calidad (especificaciones, oportunidad y costo no estén muy lejos de lo prometi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 calidad (del producto y de las tareas) incluye la funcionalidad, la confiabilidad, la oportunidad de la entrega y el c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hacen cargo de las necesidades de nuestros 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quieren de coordinación horizon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herramientas de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apoyan el seguimiento y control de gestión de procesos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an sobre bases de datos que comparten con los sistemas fun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 y Arquitectur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procesos de negocios pueden considerarse el hilo conductor del desarrollo de un Sistema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presentan la base de los siste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dicionalmente, son un elemento estructural de su arquitec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conjunto con Datos, Interfaces, Rede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rporativos o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aquellos procesos de negocio que si fallan, comprometen seriamente el resultado del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identifican por que son los que agregan más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rporativos o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enta (p.ej. de Equipos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tención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tiro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tventa: mantención y atención de cli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acturación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ra y abastecimiento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branza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17T01:33:00Z</dcterms:modified>
  <cp:revision>64</cp:revision>
  <dc:subject/>
  <dc:title>Introducción al Análisis de los Sistemas de Información Administrativos</dc:title>
</cp:coreProperties>
</file>