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FDE1C-BA92-4B0D-B330-0639FC01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C284-6D12-4699-908D-C0B60F66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3EE2-5FB1-423D-8005-CAAAD531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1C6BF-3A6D-42F2-A641-1F48303F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7B807-A5E5-4C2D-88AE-609DDCCE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85853-DA06-443C-A1EE-A20B1801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7635E-1D1D-4924-8321-DCE51FF9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85BAA-347E-4153-BC82-6F09DB25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E09A5-4DFB-4DB0-B18D-9AAF115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B97E-EF7E-4197-919F-6FAE5989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6AD6-11B9-4D4F-86D1-C5C30702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28A2-5808-4319-8752-3EA413C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71CA-2BCB-4981-ADB5-6EB2D8BAD54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Caracterización de los 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Action Tech y Fernando Flo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os procesos son redes de acciones y compromisos entre clientes y ejecutores. Coordinación de actividades para satisfacer un requer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xisten 4 etapas: Preparación, Negociación, Ejecución y Acept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6858000" cy="38098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822400" y="29750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252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22400" y="3124440"/>
            <a:ext cx="2895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216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8209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464976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8680" y="388620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440" y="3886200"/>
            <a:ext cx="303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43560" y="3252960"/>
            <a:ext cx="143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90200" y="3557520"/>
            <a:ext cx="169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satisf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70720" y="41673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6032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8004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99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680" y="213372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1337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49520" y="525780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680" y="52578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iclo Básic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9240" y="2209680"/>
            <a:ext cx="1945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P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Prepa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48640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prepara una petición al realizador (oferta del ejecutor). Culmina con la declaración de é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2362320"/>
            <a:ext cx="1995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181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el cliente y el realizador negocian y acuerdan las condiciones de satisfacción. Culmina con la declaración de é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Negoci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0035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4640" y="4952880"/>
            <a:ext cx="162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n esta fase  se llevan a cabo las actividades para cumplir las condiciones de satisfacción acordadas. Culmina con la declaración de re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Ejecu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38600" y="29750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2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231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8360" y="2975040"/>
            <a:ext cx="289440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386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88000" y="3124440"/>
            <a:ext cx="289476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35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59240" y="28209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9240" y="4649760"/>
            <a:ext cx="0" cy="30312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4520" y="3886200"/>
            <a:ext cx="3031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32640" y="3886200"/>
            <a:ext cx="303120" cy="0"/>
          </a:xfrm>
          <a:prstGeom prst="line">
            <a:avLst/>
          </a:prstGeom>
          <a:ln w="2556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160" y="3710160"/>
            <a:ext cx="94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128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710160"/>
            <a:ext cx="134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f000b"/>
                </a:solidFill>
                <a:latin typeface="Arial"/>
              </a:rPr>
              <a:t>Re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680" y="4800600"/>
            <a:ext cx="1826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Arial"/>
              </a:rPr>
              <a:t>Acep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7524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200" spc="-1" strike="noStrike">
                <a:solidFill>
                  <a:srgbClr val="000000"/>
                </a:solidFill>
                <a:latin typeface="Times New Roman"/>
              </a:rPr>
              <a:t>En esta etapa,  tanto cliente como realizador evalúan las etapas anteriores y declaran su aceptación o rechazo, concluyendo así el ciclo de nego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ase: Acep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5800" y="1876320"/>
            <a:ext cx="8153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533520" y="152280"/>
          <a:ext cx="7467480" cy="603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52280"/>
                    <a:ext cx="746748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84120" y="2538360"/>
            <a:ext cx="5877000" cy="2932200"/>
          </a:xfrm>
          <a:prstGeom prst="ellipse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Fuentes de Probl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1852200"/>
            <a:ext cx="434340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Prepar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scuchar pob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edidos sin tiemp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lta de prepara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Acep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Aceptar el pago con falta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87280" indent="-359640">
              <a:lnSpc>
                <a:spcPct val="10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No declaración de satisfac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18288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pro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sin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mesas no mut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finición de estánd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ntregar con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egar fuera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eclaración de re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modelar, analizar y rediseñar detallad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iene cohesión máxima (objetivo único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a la coordinación horizontal entre áre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poyo directo de tecnologías de la información de coordinación (</a:t>
            </a:r>
            <a:r>
              <a:rPr b="0" i="1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ontrol de gestión lo puede hacer el cli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ermite incorporar la variable tiempo (holgura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rientado al seguimiento y control de acciones, decisiones y compromi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cc0000"/>
                </a:solidFill>
                <a:latin typeface="Verdana"/>
              </a:rPr>
              <a:t>Proceso de Negoc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deci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Procesos de negocios corpo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lementos que confluye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ores Cr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una visión oper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poya en los Sistemas (administración e información) de las áreas funcio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e analizar todo el proceso o ir por sus sub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actividades y recursos son difíciles de repres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 Elemen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Workflow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Primario: Proceso Glob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Secundarios: Ciclos secundarios, más específi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íneas e íconos que muestran el flujo y orden de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inks: Líneas enlaces entre subcicl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Condicionales: Condiciones que dividen el curso de a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Roles: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sonas que participan en un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 Principal y Secundar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066680" y="2517840"/>
            <a:ext cx="73519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Ser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219320" y="2246400"/>
            <a:ext cx="6805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Ciclos en Paralel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762120" y="2179800"/>
            <a:ext cx="76960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0560" y="3425760"/>
            <a:ext cx="1440" cy="18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onfiguración Ciclos:</a:t>
            </a:r>
            <a:br>
              <a:rPr sz="3800"/>
            </a:b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Nodos Condiciona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752480" y="2209680"/>
            <a:ext cx="6269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s de Trabajo: 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dentificar Ciclo princip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asific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do lo que ocurre, en cada etapa del ciclo princip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istinguir ciclos de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flu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ocument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Nombres, Roles, Actividades, Decisiones, Condiciones de satisfacción, Supues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7496280" cy="4545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: Proceso de Negocio de Crédito Hipotec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 pro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gano haciendo el diseño por procesos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Puedo siempre hacer el diseño por procesos de negocios? ¿Qué debe cumplirs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productos debo tener al final del diseño? ¿Cómo los represen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¿Qué importancia tienen los procesos de negocio en el cambio organizaciona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s el conjunto de compromisos, acciones y decisiones necesarias para satisfacer el requerimiento de un cliente (externo o interno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olicitud de manten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enta/Compra (provisión) de un servi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35200" indent="-4014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den de Facturación de un cargo pun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Se basa en redes de compromisos en torno al ciclo básico de trabaj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 general de un proceso de negoci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las actividades del proceso se realicen con calidad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i las tareas del proceso se realizan con calidad, hay una alta probabilidad de que el producto resultante sea de c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que el proceso de negocios sea predecible y administrable.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Deseamos que los resultados de la calidad (especificaciones, oportunidad y costo no estén muy lejos de lo prometid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 calidad (del producto y de las tareas) incluye la funcionalidad, la confiabilidad, la oportunidad de la entrega y el co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acterísticas de los Procesos de Negocios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hacen cargo de las necesidades de nuestros clien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quieren de coordinación horizon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as herramientas de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apoyan el seguimiento y control de gestión de procesos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an sobre bases de datos que comparten con los sistemas funcion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 y Arquitectur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891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s procesos de negocios pueden considerarse el hilo conductor del desarrollo de un Sistema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presentan la base de los sistema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icionalmente, son un elemento estructural de su arquitectu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junto con Datos, Interfaces, Redes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on aquellos procesos de negocio que si fallan, comprometen seriamente el resultado del negoc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identifican por que son los que agregan más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rporativos o Crít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enta (p.ej. de Equipos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tención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tiro de Servi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tventa: mantención y atención de clie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acturación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ra y abastecimiento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88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branza (cliente in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17T01:33:00Z</dcterms:modified>
  <cp:revision>64</cp:revision>
  <dc:subject/>
  <dc:title>Introducción al Análisis de los Sistemas de Información Administrativos</dc:title>
</cp:coreProperties>
</file>