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4EC0F-3C00-4D92-9174-44B2E4EF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EEE2E-CD78-4CC2-A367-C044BB47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D4CE6-E100-4945-B380-3F1C6FA0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517D3-90AC-4595-97DC-87DDF4C9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F69CE-DC98-4263-AE67-0217C49E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F701D-C353-4B0A-8089-B4E68DC3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8DC79-F251-4064-8255-9C205EF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C32D4-CE16-4853-AE9D-CE2A4E7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2BB17-1C85-4086-A723-060AADB8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392AC-F887-43D6-8309-F4A34792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6A83B-5D71-43B6-8160-6D7523BF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F8F7B-C73D-46AA-9C07-0FE350B7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BCC7-1867-4B4F-B9B1-87B92B7696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Caracterización de los 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s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ction Tech y Fernando Flo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procesos son redes de acciones y compromisos entre clientes y ejecutores. Coordinación de actividades para satisfacer un requer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4 etapas: Preparación, Negociación, Ejecución y Acept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6858000" cy="38098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85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822400" y="2975040"/>
            <a:ext cx="2895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252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22400" y="3124440"/>
            <a:ext cx="2895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216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8209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6497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8680" y="3886200"/>
            <a:ext cx="303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440" y="3886200"/>
            <a:ext cx="3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3560" y="3252960"/>
            <a:ext cx="143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0200" y="355752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satisf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70720" y="41673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032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8004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680" y="213372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P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2133720"/>
            <a:ext cx="199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49520" y="525780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680" y="525780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iclo Básic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29240" y="220968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P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Prepa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4864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el cliente prepara una petición al realizador (oferta del ejecutor). Culmina con la declaración de é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2362320"/>
            <a:ext cx="199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181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el cliente y el realizador negocian y acuerdan las condiciones de satisfacción. Culmina con la declaración de é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Negoci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4640" y="495288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52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 se llevan a cabo las actividades para cumplir las condiciones de satisfacción acordadas. Culmina con la declaración de re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Ejec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680" y="480060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752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Times New Roman"/>
              </a:rPr>
              <a:t>En esta etapa,  tanto cliente como realizador evalúan las etapas anteriores y declaran su aceptación o rechazo, concluyendo así el ciclo de nego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Acep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1876320"/>
            <a:ext cx="81532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533520" y="152280"/>
          <a:ext cx="7467480" cy="603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280"/>
                    <a:ext cx="746748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84120" y="2538360"/>
            <a:ext cx="5877000" cy="2932200"/>
          </a:xfrm>
          <a:prstGeom prst="ellipse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Fuentes de 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852200"/>
            <a:ext cx="43434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26200" indent="-3967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Prepar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uchar pob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edidos sin tiemp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alta de prepara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Acep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ceptar el pago con falta de satisfac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o declaración de satisfac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82880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pro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esas sin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esas no mutu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efinición de estánd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ntregar con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r fuera de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eclaración de re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o al cli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mite modelar, analizar y rediseñar detalladam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iene cohesión máxima (objetivo únic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poya la coordinación horizontal entre áre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poyo directo de tecnologías de la información de coordinación (</a:t>
            </a:r>
            <a:r>
              <a:rPr b="0" i="1" lang="es-ES_tradnl" sz="23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l control de gestión lo puede hacer el cli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mite incorporar la variable tiempo (holgura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o al seguimiento y control de acciones, decisiones y compromis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17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cc0000"/>
                </a:solidFill>
                <a:latin typeface="Verdana"/>
              </a:rPr>
              <a:t>Proceso de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iveles de deci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ocesos de negocios corporat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lementos que confluy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actores Crít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ólo una visión operacio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apoya en los Sistemas (administración e información) de las áreas funcio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y que analizar todo el proceso o ir por sus subproce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s actividades y recursos son difíciles de repres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 Elem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Workfl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Primario: Proceso Glob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ecundarios: Ciclos secundarios, más específ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íneas e íconos que muestran el flujo y orden de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Links: Líneas enlaces entre subcicl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ondicionales: Condiciones que dividen el curso de ac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Roles: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ersonas que participan en un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 Principal y Secundar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066680" y="2517840"/>
            <a:ext cx="73519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s en Seri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219320" y="2246400"/>
            <a:ext cx="6805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s en Parale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62120" y="2179800"/>
            <a:ext cx="76960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Nodos Condiciona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6269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s de Trabajo: 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dentificar Ciclo princip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asific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odo lo que ocurre, en cada etapa del ciclo princip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istinguir ciclos de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figuración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flu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ocum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Nombres, Roles, Actividades, Decisiones, Condiciones de satisfacción, Supues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7496280" cy="4545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: Proceso de Negocio de Crédito Hipotec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eguntas propue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gano haciendo el diseño por procesos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Puedo siempre hacer el diseño por procesos de negocios? ¿Qué debe cumplir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productos debo tener al final del diseño? ¿Cómo los represent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importancia tienen los procesos de negocio en el cambio organizacion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s el conjunto de compromisos, acciones y decisiones necesarias para satisfacer el requerimiento de un cliente (externo o interno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olicitud de manten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enta/Compra (provisión) de un servic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den de Facturación de un cargo pun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Se basa en redes de compromisos en torno al ciclo básico de trabaj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Objetivo general de un proceso de negoc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las actividades del proceso se realicen con calidad.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i las tareas del proceso se realizan con calidad, hay una alta probabilidad de que el producto resultante sea de c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el proceso de negocios sea predecible y administrable.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Deseamos que los resultados de la calidad (especificaciones, oportunidad y costo no estén muy lejos de lo prometi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 calidad (del producto y de las tareas) incluye la funcionalidad, la confiabilidad, la oportunidad de la entrega y el c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hacen cargo de las necesidades de nuestros 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quieren de coordinación horizon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herramientas de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apoyan el seguimiento y control de gestión de procesos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an sobre bases de datos que comparten con los sistemas fun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 y Arquitectur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procesos de negocios pueden considerarse el hilo conductor del desarrollo de un Sistema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presentan la base de los siste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dicionalmente, son un elemento estructural de su arquitec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conjunto con Datos, Interfaces, Rede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aquellos procesos de negocio que si fallan, comprometen seriamente el resultado del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identifican por que son los que agregan más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enta (p.ej. de Equipos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ten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tiro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tventa: mantención y atención de cli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acturación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ra y abastecimiento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17T01:33:00Z</dcterms:modified>
  <cp:revision>64</cp:revision>
  <dc:subject/>
  <dc:title>Introducción al Análisis de los Sistemas de Información Administrativos</dc:title>
</cp:coreProperties>
</file>