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8D131-F1F5-40EE-8B9A-2E976776A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22075-391D-4430-9934-45EEDD55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B5221-B734-44AE-9E45-4A98C3A66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11ACA-FF1B-48B3-94CE-142A98E9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86AF-0059-40C5-BDBB-A73B8F9F5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8CCA-B422-4F6A-844A-266F668F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065C-D534-4C24-918E-BFC94516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F750-BCCF-45BE-B33F-E0126C09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0917-C2D5-4FDE-A16D-ADE285EF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639D-D542-4D04-BFEF-C0D2D35F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2DE9-0A51-4A96-9152-5110D1D1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E9E1E-6A75-40AD-9029-90439330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019A-7935-434E-B61A-9086E11E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AEA2-271B-4020-93E9-C3FEBDF6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AD6E-9A7C-445F-BF5D-7C92F6E2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BD1B-1F93-4E78-8432-511C82DB5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BB3A-35E4-4B6B-A743-3072D19B8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1A049-54F9-4747-9C3A-43E03E38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BC805-AF71-4740-84E1-E15F2CBC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AFE39-83C1-4808-837D-467BB886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3AB20-C8C0-457E-A112-21C2D614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86F02-1032-4A63-8B11-7263266A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F92CF-6E48-4AF1-BE1C-CEE0361E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0A9DA-F7F7-4C49-B4A7-FEE0DE9F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BA20-1394-4709-A7A3-A336B1ADC2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D761-F7C6-49B0-91FE-31439818E4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500" spc="-1" strike="noStrike">
                <a:solidFill>
                  <a:srgbClr val="ffffff"/>
                </a:solidFill>
                <a:latin typeface="Arial"/>
              </a:rPr>
              <a:t>Reflexiones prácticas sobre temas regulatorio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ejandro Ferreiro Yazig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asos de la experiencia práctica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280" y="198108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Isapr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) La importancia de la regulación oportun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-resistencias a la regulación tard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- acumulación de fallas: riesgo de sobrerregul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) El Seguro catastrófico de las Isap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distorsiones de la demanda espontánea por seguros de salu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- ¿puede construirse un seguro catastrófico viable en un esquema de libre elección con tarifa libre del prestad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asos de la experiencia práctica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63640" y="1483920"/>
            <a:ext cx="6927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2. Sistema previs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La competencia improductiva o el problema de la demanda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: ¿qué tipo de competencia tenemos cuando la demanda es insensible a las variables de la ofert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Las distorsiones de las rentas vitalicias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    “todos ganan... pero pierde el objetivo que justifica la existencia misma del sistema previsional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asos de la experiencia práctica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Mercado de capita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3480" indent="-476280">
              <a:spcBef>
                <a:spcPts val="524"/>
              </a:spcBef>
              <a:buClr>
                <a:srgbClr val="0078f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omo asegurar igualdad de oportunidades en los mercados: las dificultades para controlar el “insider trading”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33480" indent="-476280">
              <a:spcBef>
                <a:spcPts val="524"/>
              </a:spcBef>
              <a:buClr>
                <a:srgbClr val="0078f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a importancia del canal de intermediación por sobre variables relevantes de la oferta de los servicios financiero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33480" indent="-476280">
              <a:spcBef>
                <a:spcPts val="524"/>
              </a:spcBef>
              <a:buClr>
                <a:srgbClr val="0078f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 mayor globalización, menos espacio para la regulación “soberana o idiosincrática”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3348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gunos temas de competenc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6920" y="1628280"/>
            <a:ext cx="7705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¿Cómo conciliar los beneficios de las economías de escala con los riesgos de abuso de posición monopólica o dominant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Arial"/>
              </a:rPr>
              <a:t>Casos Enersur-Copec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Arial"/>
              </a:rPr>
              <a:t>Fusión Metrópolis-VT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Arial"/>
              </a:rPr>
              <a:t>Fusión Lan – Ladec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lgunos monopolios que nadie discut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Arial"/>
              </a:rPr>
              <a:t>Conservador de Bienes Raíces (costos de transacción ineficiente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Arial"/>
              </a:rPr>
              <a:t>Bandas de precio locales... ¿son compatibles con la libre competencia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safíos futuros de la regula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necesidad de adaptar la regulación v/s la rigidez propia de su carácter leg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ffffff"/>
                </a:solidFill>
                <a:latin typeface="Arial"/>
              </a:rPr>
              <a:t>La necesidad de avanzar hacia un nuevo esquema: más atribuciones, más autonomía y más </a:t>
            </a:r>
            <a:r>
              <a:rPr b="0" i="1" lang="es-CL" sz="2500" spc="-1" strike="noStrike">
                <a:solidFill>
                  <a:srgbClr val="ffffff"/>
                </a:solidFill>
                <a:latin typeface="Arial"/>
              </a:rPr>
              <a:t>accountability </a:t>
            </a:r>
            <a:r>
              <a:rPr b="0" lang="es-CL" sz="2500" spc="-1" strike="noStrike">
                <a:solidFill>
                  <a:srgbClr val="ffffff"/>
                </a:solidFill>
                <a:latin typeface="Arial"/>
              </a:rPr>
              <a:t>de los regulador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solución de controversias y el poder judicial: oportunidad y rigor técnico. Una evaluación problemát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9:55:06Z</dcterms:created>
  <dc:creator>AFerreir</dc:creator>
  <dc:description/>
  <dc:language>en-US</dc:language>
  <cp:lastModifiedBy>AFerreir</cp:lastModifiedBy>
  <dcterms:modified xsi:type="dcterms:W3CDTF">2004-06-22T23:01:06Z</dcterms:modified>
  <cp:revision>3</cp:revision>
  <dc:subject/>
  <dc:title>Reflexiones prácticas sobre temas regulatori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82263101</vt:r8>
  </property>
  <property fmtid="{D5CDD505-2E9C-101B-9397-08002B2CF9AE}" pid="3" name="_AuthorEmail">
    <vt:lpwstr>aferreiro@svs.cl</vt:lpwstr>
  </property>
  <property fmtid="{D5CDD505-2E9C-101B-9397-08002B2CF9AE}" pid="4" name="_AuthorEmailDisplayName">
    <vt:lpwstr>Ferreiro Yazigi Alejandro</vt:lpwstr>
  </property>
  <property fmtid="{D5CDD505-2E9C-101B-9397-08002B2CF9AE}" pid="5" name="_EmailSubject">
    <vt:lpwstr>archivo clase sobre temas regulatorios varios</vt:lpwstr>
  </property>
</Properties>
</file>