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592F-FAB6-465B-9F3E-2F7B6D16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3391-487F-4493-ACCF-F3EDD68B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3515-6A59-4B72-8BDE-3F4D3CC3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9A1D-AA65-4F74-97F9-A5EE2AB2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30B2-C853-4557-AF13-3E362545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285A-635B-4604-B2F2-9A045B45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6F45-14A1-417C-9D27-047D8F79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0131-BCAA-4D8C-9D1F-FA053F4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C072-33E9-4D07-BB38-0ACD76EF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365E-187A-4512-A3D5-76BD9F5A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ED5D-107D-4C8E-BBE6-9A23B24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679A-684B-4E0E-B16A-5E4621E5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4C39-CAED-478B-B052-9E7B8BAC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F23C-7052-45A7-B2FA-7E8891DD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AE7D-8820-40C7-A051-84ADFE8B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6026-AB94-4271-9971-82EFEEA4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3223-73F8-4601-ABB6-5974296A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5816-6B20-4099-B753-2A8848BD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3D31-9C1E-4819-8360-21775FA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0AE8-7B34-46EA-8641-F4FA8F67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6C92-0AD8-4F39-AA4E-5B2AE872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B5ED-21D7-48B2-9375-D7A6487D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785D-86EB-46A2-AA3B-87FBD72D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24B1-1D9B-44ED-BCA2-EF9D070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9A0C-A3F8-4EBC-9AE7-ED8A45BB2D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960F-2949-47ED-9DC6-653DB7AC77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ffffff"/>
                </a:solidFill>
                <a:latin typeface="Arial"/>
              </a:rPr>
              <a:t>Reflexiones prácticas sobre temas regulatorio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ejandro Ferreiro Yazig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sap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) La importancia de la regulación oportu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resistencias a la regulación tard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acumulación de fallas: riesgo de sobrerregu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) El Seguro catastrófico de las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orsiones de la demanda espontánea por seguros de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¿puede construirse un seguro catastrófico viable en un esquema de libre elección con tarifa libre del prestad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692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2. Sistema previ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competencia improductiva o el problema de la demand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¿qué tipo de competencia tenemos cuando la demanda es insensible a las variables de la ofer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s distorsiones de las rentas vitalicias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“todos ganan... pero pierde el objetivo que justifica la existencia misma del sistema previsio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ercado de capit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o asegurar igualdad de oportunidades en los mercados: las dificultades para controlar el “insider trading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 importancia del canal de intermediación por sobre variables relevantes de la oferta de los servicios financiero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mayor globalización, menos espacio para la regulación “soberana o idiosincrática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unos temas de competen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705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Cómo conciliar los beneficios de las economías de escala con los riesgos de abuso de posición monopólica o domina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asos Enersur-Cope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Metrópolis-VT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Lan – Ladec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lgunos monopolios que nadie discu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onservador de Bienes Raíces (costos de transacción ineficient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Bandas de precio locales... ¿son compatibles con la libre competencia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afíos futuros de la regu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necesidad de adaptar la regulación v/s la rigidez propia de su carácter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La necesidad de avanzar hacia un nuevo esquema: más atribuciones, más autonomía y más </a:t>
            </a:r>
            <a:r>
              <a:rPr b="0" i="1" lang="es-CL" sz="2500" spc="-1" strike="noStrike">
                <a:solidFill>
                  <a:srgbClr val="ffffff"/>
                </a:solidFill>
                <a:latin typeface="Arial"/>
              </a:rPr>
              <a:t>accountability </a:t>
            </a: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de los regulado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solución de controversias y el poder judicial: oportunidad y rigor técnico. Una evaluación probl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55:06Z</dcterms:created>
  <dc:creator>AFerreir</dc:creator>
  <dc:description/>
  <dc:language>en-US</dc:language>
  <cp:lastModifiedBy>AFerreir</cp:lastModifiedBy>
  <dcterms:modified xsi:type="dcterms:W3CDTF">2004-06-22T23:01:06Z</dcterms:modified>
  <cp:revision>3</cp:revision>
  <dc:subject/>
  <dc:title>Reflexiones prácticas sobre temas regulator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2263101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archivo clase sobre temas regulatorios varios</vt:lpwstr>
  </property>
</Properties>
</file>