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0A6F-695E-4AA5-AE95-7F69F920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961E-E3A7-41DE-BEEA-FED1EEB0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CC7E-888E-4056-BED8-83C0D711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72F0-A6CF-47D6-848F-8F350A15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FD7B-8991-4D92-A66D-98EA93A3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B01C-4BA3-4222-A8EB-04D90F21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BFC-835D-4D32-96F8-D5251ED6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BA54-8447-4CAC-B1B3-6C77FCE5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D2D9-2F41-46ED-B377-35C69A9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5E34-F3C1-4998-B511-6F511EF7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B48F-1169-43B3-85F9-FE2E5CD8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6A2E-9F16-428D-BBEB-2C6B71CF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40AD-4211-4216-979E-9C9748EA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E05D-37C0-46DF-9570-A016574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069A-18D6-43B0-BEF3-26F6A0E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2E9E-6DDB-430B-BD08-A70B0795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D25-3FCD-4A30-8962-61CBFEA1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0C02-18ED-479A-950D-937E900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E52E-8689-4D56-9D28-D4C5793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61BC-B021-4FB9-A28F-B5726365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DE544-3A6D-45AC-94A6-BC12120C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BFAB-80A4-44C5-BB5D-68B7B47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566C-7901-4B96-814E-4243CE7F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1C8B-B785-4975-BD6A-61B4EDA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D5B2-D661-4287-B63B-E1D2AFBE4B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EFD-36BD-4FB4-83F6-07BEC723F9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ffffff"/>
                </a:solidFill>
                <a:latin typeface="Arial"/>
              </a:rPr>
              <a:t>Reflexiones prácticas sobre temas regulatorio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ejandro Ferreiro Yazig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sap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) La importancia de la regulación oportu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resistencias a la regulación tard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acumulación de fallas: riesgo de sobrerregu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) El Seguro catastrófico de las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orsiones de la demanda espontánea por seguros de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- ¿puede construirse un seguro catastrófico viable en un esquema de libre elección con tarifa libre del prestad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6927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2. Sistema previ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competencia improductiva o el problema de la demand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¿qué tipo de competencia tenemos cuando la demanda es insensible a las variables de la ofer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s distorsiones de las rentas vitalicias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    “todos ganan... pero pierde el objetivo que justifica la existencia misma del sistema prevision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asos de la experiencia práctic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ercado de capit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o asegurar igualdad de oportunidades en los mercados: las dificultades para controlar el “insider trading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 importancia del canal de intermediación por sobre variables relevantes de la oferta de los servicios financiero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5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 mayor globalización, menos espacio para la regulación “soberana o idiosincrática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os temas de competen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Cómo conciliar los beneficios de las economías de escala con los riesgos de abuso de posición monopólica o domina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asos Enersur-Cope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Metrópolis-VT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Fusión Lan – Ladec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lgunos monopolios que nadie discu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Conservador de Bienes Raíces (costos de transacción ineficient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ff"/>
                </a:solidFill>
                <a:latin typeface="Arial"/>
              </a:rPr>
              <a:t>Bandas de precio locales... ¿son compatibles con la libre competencia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afíos futuros de la reg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necesidad de adaptar la regulación v/s la rigidez propia de su carácter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La necesidad de avanzar hacia un nuevo esquema: más atribuciones, más autonomía y más </a:t>
            </a:r>
            <a:r>
              <a:rPr b="0" i="1" lang="es-CL" sz="2500" spc="-1" strike="noStrike">
                <a:solidFill>
                  <a:srgbClr val="ffffff"/>
                </a:solidFill>
                <a:latin typeface="Arial"/>
              </a:rPr>
              <a:t>accountability </a:t>
            </a:r>
            <a:r>
              <a:rPr b="0" lang="es-CL" sz="2500" spc="-1" strike="noStrike">
                <a:solidFill>
                  <a:srgbClr val="ffffff"/>
                </a:solidFill>
                <a:latin typeface="Arial"/>
              </a:rPr>
              <a:t>de los regulado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solución de controversias y el poder judicial: oportunidad y rigor técnico. Una evaluación probl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55:06Z</dcterms:created>
  <dc:creator>AFerreir</dc:creator>
  <dc:description/>
  <dc:language>en-US</dc:language>
  <cp:lastModifiedBy>AFerreir</cp:lastModifiedBy>
  <dcterms:modified xsi:type="dcterms:W3CDTF">2004-06-22T23:01:06Z</dcterms:modified>
  <cp:revision>3</cp:revision>
  <dc:subject/>
  <dc:title>Reflexiones prácticas sobre temas regulator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2263101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archivo clase sobre temas regulatorios varios</vt:lpwstr>
  </property>
</Properties>
</file>