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7710-EE9C-4765-9DD3-7266DEC2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84A4-770A-4F30-BBC9-F597BA13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898D-6B7C-4A1F-A1F8-5589D635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2003-8BF0-49B3-BCC1-60F3CB2A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D460-2E00-4C44-8E4F-31952720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03E9-54BE-4AD3-BD43-F74351E4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FDBB-AC00-4A68-B081-B025E800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28DF-FC8B-42E2-8A94-082BF647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31EE-0EEB-4953-9E4F-E0B6748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D78F-61A6-4A6D-BE49-1CF76D6A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16FB-AAAF-4D57-977A-B4ABBFB9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2D53-2AE0-49BD-83A8-DFA191D5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8AD1-5A6E-4B1F-B2F0-D644F200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4E47-4987-46C3-8DA1-A30025E3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7AD0-C420-4C7C-A46F-C7C0EEC9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9E74-12FB-46A0-AD2C-5942DEB5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4441-3B1F-4339-B872-C303B1AA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239E-C144-4490-880A-CC411AC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B246-DD47-4683-8E75-210EA409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6489-C12C-4C5B-8066-E0DDEB78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02BB-54F2-4A44-991E-BE038BBF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F426-C0C3-4186-AADF-7E918F3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14BE-484B-41DB-AA3D-FC81D10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7B40-23D1-4DF5-8562-10F08E9A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6862-C8A3-45AF-9D97-496A8610ED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99B1-363D-453E-9D9A-20BC7F8D5D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ffffff"/>
                </a:solidFill>
                <a:latin typeface="Arial"/>
              </a:rPr>
              <a:t>Reflexiones prácticas sobre temas regulatorio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ejandro Ferreiro Yazig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sap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) La importancia de la regulación oportu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resistencias a la regulación tard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acumulación de fallas: riesgo de sobrerregu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) El Seguro catastrófico de las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orsiones de la demanda espontánea por seguros de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¿puede construirse un seguro catastrófico viable en un esquema de libre elección con tarifa libre del prestad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692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2. Sistema previ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competencia improductiva o el problema de la demand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¿qué tipo de competencia tenemos cuando la demanda es insensible a las variables de la ofer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s distorsiones de las rentas vitalicias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“todos ganan... pero pierde el objetivo que justifica la existencia misma del sistema previsio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ercado de capit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o asegurar igualdad de oportunidades en los mercados: las dificultades para controlar el “insider trading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 importancia del canal de intermediación por sobre variables relevantes de la oferta de los servicios financiero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mayor globalización, menos espacio para la regulación “soberana o idiosincrática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unos temas de competen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705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Cómo conciliar los beneficios de las economías de escala con los riesgos de abuso de posición monopólica o domina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asos Enersur-Cope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Metrópolis-VT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Lan – Ladec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lgunos monopolios que nadie discu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onservador de Bienes Raíces (costos de transacción ineficient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Bandas de precio locales... ¿son compatibles con la libre competencia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afíos futuros de la regu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necesidad de adaptar la regulación v/s la rigidez propia de su carácter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La necesidad de avanzar hacia un nuevo esquema: más atribuciones, más autonomía y más </a:t>
            </a:r>
            <a:r>
              <a:rPr b="0" i="1" lang="es-CL" sz="2500" spc="-1" strike="noStrike">
                <a:solidFill>
                  <a:srgbClr val="ffffff"/>
                </a:solidFill>
                <a:latin typeface="Arial"/>
              </a:rPr>
              <a:t>accountability </a:t>
            </a: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de los regulado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solución de controversias y el poder judicial: oportunidad y rigor técnico. Una evaluación probl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55:06Z</dcterms:created>
  <dc:creator>AFerreir</dc:creator>
  <dc:description/>
  <dc:language>en-US</dc:language>
  <cp:lastModifiedBy>AFerreir</cp:lastModifiedBy>
  <dcterms:modified xsi:type="dcterms:W3CDTF">2004-06-22T23:01:06Z</dcterms:modified>
  <cp:revision>3</cp:revision>
  <dc:subject/>
  <dc:title>Reflexiones prácticas sobre temas regulator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2263101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archivo clase sobre temas regulatorios varios</vt:lpwstr>
  </property>
</Properties>
</file>