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3B5E-2A3C-4B3B-A5B2-43247B8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3CDA-5E04-4857-9B6F-27DDBF49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B495-0CCB-40B5-8361-DC5ACF07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CE81-EE69-4463-AD8E-04414E40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AFCF-D2A0-461D-B5AE-4653B7D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C3F-1C9B-4A20-A519-E86545E1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7D65-74EA-438B-A4F0-3441AD1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CC0-A574-49B2-939B-69253CD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264-6994-452C-9253-8C38039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0235-74B6-43DB-A285-AA2E9D8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157-3F0F-4721-B848-B5C09FD0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6A55-D275-4A27-9D35-F17C079A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446A-81DA-4A89-B499-1A44287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F925-FD82-460E-A6EB-AD76707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E50-C768-4BFA-A596-CAF4C5F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2EE-C79F-43E5-8CB6-F2B2035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F42-6D81-4D1C-AEAD-59398004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12A7-0C21-4D43-ABD1-C692BBAF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0766-D924-40CC-A65D-C3AE3E3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A325-811A-474D-874B-3F1CB04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80B0-E132-4FB1-B253-46B76BE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85AA-E4AD-4847-BBE7-8B873B8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1EB3-E899-4A66-95F6-9D9EA641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E64E-CE12-4C20-B70B-1B218AD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670-5370-433D-9903-601516A8EE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33C-48A0-4F72-9144-FCA66E028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ffffff"/>
                </a:solidFill>
                <a:latin typeface="Arial"/>
              </a:rPr>
              <a:t>Reflexiones prácticas sobre temas regulatorio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ejandro Ferreiro Yazi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sap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) La importancia de la regulación oportu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resistencias a la regulación tar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acumulación de fallas: riesgo de sobrerreg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) El Seguro catastrófico de las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orsiones de la demanda espontánea por seguros de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¿puede construirse un seguro catastrófico viable en un esquema de libre elección con tarifa libre del prestad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2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Sistema prev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competencia improductiva o el problema de la demand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¿qué tipo de competencia tenemos cuando la demanda es insensible a las variables de la ofer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 distorsiones de las rentas vitalicias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“todos ganan... pero pierde el objetivo que justifica la existencia misma del sistema previs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ercado de capit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o asegurar igualdad de oportunidades en los mercados: las dificultades para controlar el “insider trading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importancia del canal de intermediación por sobre variables relevantes de la oferta de los servicios financier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mayor globalización, menos espacio para la regulación “soberana o idiosincrática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os temas de compet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Cómo conciliar los beneficios de las economías de escala con los riesgos de abuso de posición monopólica o domina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asos Enersur-Cope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Metrópolis-VT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Lan – Ladec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lgunos monopolios que nadie discu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onservador de Bienes Raíces (costos de transacción ineficien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Bandas de precio locales... ¿son compatibles con la libre competencia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afíos futuros de la reg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necesidad de adaptar la regulación v/s la rigidez propia de su carácter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La necesidad de avanzar hacia un nuevo esquema: más atribuciones, más autonomía y más </a:t>
            </a:r>
            <a:r>
              <a:rPr b="0" i="1" lang="es-CL" sz="2500" spc="-1" strike="noStrike">
                <a:solidFill>
                  <a:srgbClr val="ffffff"/>
                </a:solidFill>
                <a:latin typeface="Arial"/>
              </a:rPr>
              <a:t>accountability </a:t>
            </a: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de los regulad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solución de controversias y el poder judicial: oportunidad y rigor técnico. Una evaluación probl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55:06Z</dcterms:created>
  <dc:creator>AFerreir</dc:creator>
  <dc:description/>
  <dc:language>en-US</dc:language>
  <cp:lastModifiedBy>AFerreir</cp:lastModifiedBy>
  <dcterms:modified xsi:type="dcterms:W3CDTF">2004-06-22T23:01:06Z</dcterms:modified>
  <cp:revision>3</cp:revision>
  <dc:subject/>
  <dc:title>Reflexiones prácticas sobre temas regulator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263101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archivo clase sobre temas regulatorios varios</vt:lpwstr>
  </property>
</Properties>
</file>