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413-05EE-42F8-B977-EB6B87F1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E03-7CF2-4BD0-8254-3BFC1FC9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473-B6C1-4DAE-94B5-F9189A73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91A-BE6B-426E-92CB-702F265A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540-FADE-4217-8350-3A1E0621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3B3-A3A6-43B4-B537-6BF4AC01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A23-76D9-4475-8118-F1ADA077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038-E5B4-44FF-9F63-D610BA9D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DC8-A88D-41DF-BE10-1B607BAC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CF7-3F95-4CD6-AAA7-C4019F0A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EFD-D427-48D5-919E-AA58E7A7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FD2-1123-4228-B3BC-DF93ADBD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53B7-730E-46DF-8DE8-B7E0C8917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A POLÍTICA ECONÓMICA DE LAS REFORMAS ESTRUCTURALES DE LA ECONOMÍA CHILENA (1974-198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OLF LÜDERS SC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JUNIO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 LOS RESULTADOS?</a:t>
            </a:r>
            <a:br>
              <a:rPr sz="20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ÍNDICE DEL PIB PER CÁPITA CHILENO EXPRESADO EN UNIDADES DEL PIB PER CÁPITA DEL MUNDO Y DE AQUÉL DE LOS EE.UU. 1810-2000</a:t>
            </a:r>
            <a:br>
              <a:rPr sz="1400"/>
            </a:b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(1910 = 100)</a:t>
            </a:r>
            <a:br>
              <a:rPr sz="1400"/>
            </a:b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2124000"/>
            <a:ext cx="77724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LA POLÍTICA ECONÓMICA DE LAS REFORMAS ESTRUCTURALES DE LA ECONOMÍA CHILENA (1974-1981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CONOMÍA A FINES DE 19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REFORMAS ESTRUCTURALES 1974-198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CONOMÍA POLÍTICA DE LAS REFO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A ECONOMÍA A FINES DE 197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DE COMIENZOS DEL SIGLO XX  Y HASTA 1973 L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CONOMÍA CHILENA SE CARACTERIZ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RECIENTES DESEQUILIBRIOS MACRO-ECONÓM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CRECIENTE PROTECCION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VENCIÓN ESTATAL CRECIENTE  Y DISCRE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ESTADO CRECIENTEMENTE PROVIDENTE (EDUCACIÓN, PENSIONES, SALUD, Y VIVIEN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ESTADO CRECIENTEMENTE EMPRESARIO (CORFPO, QUIEBRAS, NACIONALIZACIONES Y ESTATIZA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PUÉS DE LA CRISIS SOCIO-POLÍTICA Y ECONÓMICA DE 1970-1973 SE INICIA UN PERÍODO DE REFOR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AN LAS ESTRUCTURAS ECONÓMICAS EN FORMA REVOLUCION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PRODUCE UNA NOTORIA APERTURA COMERCIAL Y LUEGO TAMBIÉN FINANCI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ESTADO ADOPTA UN ROL SUBSIDIARI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TOR PRIVADO MOTOR DEL DESARROL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TADO REGULA ACTIVIDAD ECONÓMICA; FINANCIA EN PA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ODUCE UNA ESTRICTA FOCALIZACIÓN DEL GASTO SOCIAL EN LOS ESTRATOS DE INGRESOS MÁS BAJ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IVILEGIAN DEFINITIVAMENTE LAS REGLAS POR SOBRE LAS AUTORIDADES (EVITAR BÚSQUEDA DE RENTAS AL MÁXIMO POSI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FORTALECE LA PROPIEDAD PRIV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IVILEGIA UNA ESTRICTA DISCIPLINA FISCAL Y FINANCI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ORTANTES REFORMAS EN LAS SIGUIENTES MATERIAS ENTRE O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BERALIZACIÓN COMERCIAL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10%,,PARA-ARANCEL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ÉGIMEN CAMBIARIO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MÚLTIPLES, UNO SÓL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ORMA FISCAL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ELIMINACIÓN PRIVILEGIOS, IVA, EXENCIONES A LA RE-INVERSIÓN, RECAUDACIÓ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ACIONALIZACIÓN DE EMPRESAS PÚBLICA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100%, PRIVATIZACION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ABILIZACIÓN DE PRECIO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DÉFICITS FISCALES, PRÉSTAMOS ESTAD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ERALIZACIÓN DE MERCADOS DE CAPITALE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i, CRÉDITO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E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ERALIZACIÓN MERCADO LAB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GURIDAD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VERSIÓN EXTRANJ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LA ECONOMÍA POLÍTICA DE LAS REFORMAS</a:t>
            </a:r>
            <a:br>
              <a:rPr sz="2800"/>
            </a:b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RISI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500%, PIB CAYENDO, DESORDEN,RESERVAS NEGATIVAS, COLAS, ETC., ETC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CUERDO ENTRE ECONOMISTAS VERSUS DIVERGENCIAS DE OTROS CONSULTADOS (ABOGADOS, EMPRESARI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DUCIR DÉFICIT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BERAR PRECIOS Y COMER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VATI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EQUIPO DE TECNÓCRATAS COHESIONADO Y COHERENTE CAPAZ DE IMPLEMENTAR LAS POLÍTICAS PROPUES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imes New Roman"/>
              </a:rPr>
              <a:t>LA ECONOMÍA POLÍTICA DE LAS REFORMAS</a:t>
            </a:r>
            <a:br>
              <a:rPr sz="2800"/>
            </a:b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CCIONES SORPRESIVAS Y EN DIVERSOS FRENTES QUE SE COMPLEMEN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NTIDO DE OPORTUN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NEJO COMUNICACIONAL ADECU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DERATO SIN DESCUIDAR EL APOYO NECES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E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22:21:37Z</dcterms:created>
  <dc:creator>Rluders</dc:creator>
  <dc:description/>
  <dc:language>en-US</dc:language>
  <cp:lastModifiedBy>Rluders</cp:lastModifiedBy>
  <dcterms:modified xsi:type="dcterms:W3CDTF">2004-06-25T00:36:32Z</dcterms:modified>
  <cp:revision>6</cp:revision>
  <dc:subject/>
  <dc:title>LA POLÍTICA ECONÓMICA DE LAS REFORMAS ESTRUCTURALES DE LA ECONOMÍA CHILENA (1974-1981)</dc:title>
</cp:coreProperties>
</file>